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75B8C-5B6B-40B7-8187-AD924644070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E6825-4A79-4E16-8D77-5D11E9681DC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9BC3-8061-4AC6-84CB-3E49951E831A}"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B123-C905-420D-A2BD-E487964D236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4A15-CB1C-4041-8E64-3039F067887A}"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C5C3-4548-44F9-9DC5-AAD3F40780B3}"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57653-FD1D-49B7-AE92-72E5F1D7A1C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BC37FC-0FA5-4754-9F9A-1A1CE88C9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D2ABB-FACC-4F98-9D72-5482BBAE5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AC0F0-A1BC-4BAE-8063-1103C3645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BAC17-6619-4DC1-98C7-DB6F51C55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20063-18D9-441E-8252-D48EC58D5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62B37-70F9-45DE-90D9-0D31E0C807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E734A-D51C-4988-916D-86DD66210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683CA-3FBC-4F65-BA6C-73B6C5957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04C58-548C-4983-AAA1-29CD3D563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E1331-BAD5-4A56-B783-AD2A0CBF6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50556-8E01-408F-BA14-B71C426B6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E6E3D-D7B4-45BC-A9FF-844D2181C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1B332-5542-44F7-AF6B-D492BB1ED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A7816-950B-4667-80A7-8AC13F804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ABC9D-96E0-4CE9-8981-556F0FDBF5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BE738-C14C-4E2C-A5C7-0E15A1963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EAB47-A38E-4B6B-88C7-ABC162EB5D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82AC00-9823-44D7-A364-06C807C7D2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DE091-57D4-4501-8DD5-CA116F251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015452-201E-42BD-82B5-830A6BAE3B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A2BA20-1CA2-4C29-A6F8-9452520D53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0A7E8-42DB-40B2-AF6C-D1BC5877F9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5409C-D030-4485-8C19-CAED753F1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E94AF-3899-4F0B-A1BD-AD06B9269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E42BF4-6064-4588-8B89-02598AC97F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7821F-8C1C-4E1D-9CE9-DF67D5EFC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B12976-DD8F-4E58-AD64-9CC5B187F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BE6838-B1CA-4233-8A9E-A99FD7768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6AF899-D5FE-4FC1-96BD-53237FA37A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0053B2-8A72-4275-8BD7-86DC229B5D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EDD9AC-727E-46FF-96D6-5675BC92B1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00543A-5F91-42CE-87A7-B91A4CD35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316D8-0A2E-4776-8FC1-9B0672482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4ACB-1D16-4EB7-B557-B81A1F32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815D0-1D1E-4449-8D12-D4E20607B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B135B1-3D9D-4706-9B2B-649B5C7DD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DDE001-484E-4BB3-B3FE-99E710954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3C201F-3955-4EC0-97F5-BEA38E9915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5B4E1-124E-461A-9D7F-AF1C30B671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2EAF89-FFD5-4361-A023-4C93148D4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24AE7D-10B4-468B-9B36-22EA05AC6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12D493-8599-480B-8013-C316BE77C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74FED7-5E74-4EC5-95E6-25D557028E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3ABF60-AFC6-4DA9-8ACD-6474D37191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1DF96-E4FF-4793-9BF6-5DAED9029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F4022F-CA0F-4F60-A3D6-A08C17A9CF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C2AD11-C37E-4F7A-B82D-0B1C714D6A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E9C37-C9A0-479B-8EA6-6DA4303FB3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53263D-C1F5-45FD-B7F8-BF0F1DCAFE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73D8D2-4EDD-480F-B26B-D5E81782D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020FF-0D56-4CA7-B11F-8975E824EE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F9E68-2BBE-44A6-B6A7-A50A2EFA35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6C7EA-36D2-4E68-9536-FB8EB7443F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09F14-7583-4180-80F4-05E3B74146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1E07D-E565-4929-8568-D9719DF808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5C983-F832-4FE6-A644-C0EAA7EB4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C77480-5D91-4526-B656-168C99AB5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84EF8-0A11-44CD-B210-E6F7E43BE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3A0AA-9C70-4F92-BA86-3A22669E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1AAAB-7B2D-452A-801C-2926D926FD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EAE5-68C6-4DA1-ACE2-BF56827E6D1C}"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14B9-3663-412B-8937-696837EEDFE9}"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D077F-A037-45F3-9B47-71423033D78E}"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D036-7EED-44E5-BE26-49F51E11D071}"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76C16-6CD8-4681-BD25-5824AFABE2A3}"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hyperlink" Target="http://2012books.lardbucket.org/books/sustainable-business-cases/s10-%20sustainable-business-marketing.html"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Θέση εικόνας 5" descr=""/>
          <p:cNvPicPr/>
          <p:nvPr/>
        </p:nvPicPr>
        <p:blipFill>
          <a:blip r:embed="rId2"/>
          <a:stretch/>
        </p:blipFill>
        <p:spPr>
          <a:xfrm>
            <a:off x="7812000" y="6308640"/>
            <a:ext cx="1079640" cy="317520"/>
          </a:xfrm>
          <a:prstGeom prst="rect">
            <a:avLst/>
          </a:prstGeom>
          <a:ln w="0">
            <a:noFill/>
          </a:ln>
        </p:spPr>
      </p:pic>
      <p:pic>
        <p:nvPicPr>
          <p:cNvPr id="327"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8" name="Picture 4" descr=""/>
          <p:cNvPicPr/>
          <p:nvPr/>
        </p:nvPicPr>
        <p:blipFill>
          <a:blip r:embed="rId4"/>
          <a:stretch/>
        </p:blipFill>
        <p:spPr>
          <a:xfrm>
            <a:off x="324000" y="6093000"/>
            <a:ext cx="723600" cy="596880"/>
          </a:xfrm>
          <a:prstGeom prst="rect">
            <a:avLst/>
          </a:prstGeom>
          <a:ln w="0">
            <a:noFill/>
          </a:ln>
        </p:spPr>
      </p:pic>
      <p:sp>
        <p:nvSpPr>
          <p:cNvPr id="329" name="Subtitle 2"/>
          <p:cNvSpPr/>
          <p:nvPr/>
        </p:nvSpPr>
        <p:spPr>
          <a:xfrm>
            <a:off x="3995640" y="1557360"/>
            <a:ext cx="4896000" cy="4464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O2 – Ympäristöohjelma</a:t>
            </a:r>
            <a:endParaRPr b="0" lang="en-US" sz="3200" spc="-1" strike="noStrike">
              <a:solidFill>
                <a:srgbClr val="ffffff"/>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Course 3 – Yrittäjyys – Älykäs energia</a:t>
            </a:r>
            <a:endParaRPr b="0" lang="en-US" sz="3200" spc="-1" strike="noStrike">
              <a:solidFill>
                <a:srgbClr val="ffffff"/>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Module 2 – Johdatus vihreään yrittäjyyteen viikko 16</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Developed by: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 </a:t>
            </a:r>
            <a:r>
              <a:rPr b="0" lang="en-GB" sz="2000" spc="-1" strike="noStrike">
                <a:solidFill>
                  <a:srgbClr val="ffffff"/>
                </a:solidFill>
                <a:latin typeface="Calibri"/>
                <a:ea typeface="Arial"/>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30" name="Picture 4" descr=""/>
          <p:cNvPicPr/>
          <p:nvPr/>
        </p:nvPicPr>
        <p:blipFill>
          <a:blip r:embed="rId5"/>
          <a:stretch/>
        </p:blipFill>
        <p:spPr>
          <a:xfrm>
            <a:off x="7236000" y="4508640"/>
            <a:ext cx="7236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Box 1"/>
          <p:cNvSpPr/>
          <p:nvPr/>
        </p:nvSpPr>
        <p:spPr>
          <a:xfrm>
            <a:off x="0" y="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6. SÄÄNTÖJEN JA MÄÄRÄYSTEN NOUDATTAMINEN VIHREÄN BUSINEKSEN ALOITUKSESSA</a:t>
            </a:r>
            <a:endParaRPr b="0" lang="en-US" sz="2400" spc="-1" strike="noStrike">
              <a:solidFill>
                <a:srgbClr val="ffffff"/>
              </a:solidFill>
              <a:latin typeface="Times New Roman"/>
            </a:endParaRPr>
          </a:p>
        </p:txBody>
      </p:sp>
      <p:sp>
        <p:nvSpPr>
          <p:cNvPr id="374" name="TextBox 4"/>
          <p:cNvSpPr/>
          <p:nvPr/>
        </p:nvSpPr>
        <p:spPr>
          <a:xfrm>
            <a:off x="195120" y="1192320"/>
            <a:ext cx="7991640" cy="39636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ff"/>
                </a:solidFill>
                <a:uFillTx/>
                <a:latin typeface="Calibri"/>
                <a:ea typeface="Times New Roman"/>
              </a:rPr>
              <a:t>Vihreän busineksen aloittaminen</a:t>
            </a:r>
            <a:endParaRPr b="0" lang="en-US" sz="1800" spc="-1" strike="noStrike">
              <a:solidFill>
                <a:srgbClr val="ffffff"/>
              </a:solidFill>
              <a:latin typeface="Times New Roman"/>
            </a:endParaRPr>
          </a:p>
          <a:p>
            <a:pPr marL="95400" indent="-954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Edellytykset aloittaa vihreä liiketoiminta vaihtelee maittain ja riippuu liiketoiminnan oikeudellisesta tilanteesta ja ympäristön puitteista. Nämä liiketoiminnan tekijät tarvitsevat tiettyjen lakien huomioimista. Näistä tekijöistä riippuen, oikeudelliset vaatimukset suuntaavat kohti: </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Oikeudellisen liiketoiminnan muotoa</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Kaupallista lakia</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Plant permit laki</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Sosiaaliturvan verkkoa</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Ympäristölakeja ja -asetuksia</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Etc.</a:t>
            </a:r>
            <a:endParaRPr b="0" lang="en-US" sz="1800" spc="-1" strike="noStrike">
              <a:solidFill>
                <a:srgbClr val="ffffff"/>
              </a:solidFill>
              <a:latin typeface="Times New Roman"/>
            </a:endParaRPr>
          </a:p>
        </p:txBody>
      </p:sp>
      <p:pic>
        <p:nvPicPr>
          <p:cNvPr id="375" name="Θέση εικόνας 5" descr=""/>
          <p:cNvPicPr/>
          <p:nvPr/>
        </p:nvPicPr>
        <p:blipFill>
          <a:blip r:embed="rId1"/>
          <a:stretch/>
        </p:blipFill>
        <p:spPr>
          <a:xfrm>
            <a:off x="7812000" y="6308640"/>
            <a:ext cx="1079640" cy="317520"/>
          </a:xfrm>
          <a:prstGeom prst="rect">
            <a:avLst/>
          </a:prstGeom>
          <a:ln w="0">
            <a:noFill/>
          </a:ln>
        </p:spPr>
      </p:pic>
      <p:pic>
        <p:nvPicPr>
          <p:cNvPr id="37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Box 1"/>
          <p:cNvSpPr/>
          <p:nvPr/>
        </p:nvSpPr>
        <p:spPr>
          <a:xfrm>
            <a:off x="7920" y="11160"/>
            <a:ext cx="9136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VIHREÄN BUSINEKSEN ALOITTAMINEN </a:t>
            </a:r>
            <a:r>
              <a:rPr b="1" lang="en-GB" sz="2300" spc="-1" strike="noStrike">
                <a:solidFill>
                  <a:srgbClr val="ffffff"/>
                </a:solidFill>
                <a:latin typeface="Calibri"/>
              </a:rPr>
              <a:t>– LAADULLINEN HALLINTA NOUDATTAEN STTT - PROSESSIA</a:t>
            </a:r>
            <a:endParaRPr b="0" lang="en-US" sz="2300" spc="-1" strike="noStrike">
              <a:solidFill>
                <a:srgbClr val="ffffff"/>
              </a:solidFill>
              <a:latin typeface="Times New Roman"/>
            </a:endParaRPr>
          </a:p>
        </p:txBody>
      </p:sp>
      <p:sp>
        <p:nvSpPr>
          <p:cNvPr id="379" name="TextBox 4"/>
          <p:cNvSpPr/>
          <p:nvPr/>
        </p:nvSpPr>
        <p:spPr>
          <a:xfrm>
            <a:off x="539640" y="1052640"/>
            <a:ext cx="79916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ff"/>
                </a:solidFill>
                <a:uFillTx/>
                <a:latin typeface="Calibri"/>
              </a:rPr>
              <a:t>STTT – prosessin määrittäminen</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0" name="Θέση εικόνας 5" descr=""/>
          <p:cNvPicPr/>
          <p:nvPr/>
        </p:nvPicPr>
        <p:blipFill>
          <a:blip r:embed="rId1"/>
          <a:stretch/>
        </p:blipFill>
        <p:spPr>
          <a:xfrm>
            <a:off x="7812000" y="6308640"/>
            <a:ext cx="1079640" cy="317520"/>
          </a:xfrm>
          <a:prstGeom prst="rect">
            <a:avLst/>
          </a:prstGeom>
          <a:ln w="0">
            <a:noFill/>
          </a:ln>
        </p:spPr>
      </p:pic>
      <p:pic>
        <p:nvPicPr>
          <p:cNvPr id="381"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82" name="Diagram 1" descr=""/>
          <p:cNvPicPr/>
          <p:nvPr/>
        </p:nvPicPr>
        <p:blipFill>
          <a:blip r:embed="rId3"/>
          <a:stretch/>
        </p:blipFill>
        <p:spPr>
          <a:xfrm>
            <a:off x="2054160" y="1481040"/>
            <a:ext cx="4578480" cy="4541760"/>
          </a:xfrm>
          <a:prstGeom prst="rect">
            <a:avLst/>
          </a:prstGeom>
          <a:ln w="0">
            <a:noFill/>
          </a:ln>
        </p:spPr>
      </p:pic>
      <p:sp>
        <p:nvSpPr>
          <p:cNvPr id="383" name="Textfeld 1"/>
          <p:cNvSpPr/>
          <p:nvPr/>
        </p:nvSpPr>
        <p:spPr>
          <a:xfrm>
            <a:off x="2124000" y="6053040"/>
            <a:ext cx="45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Fig.3: The deming/PDCA cycle</a:t>
            </a:r>
            <a:endParaRPr b="0" lang="en-US" sz="1200" spc="-1" strike="noStrike">
              <a:solidFill>
                <a:srgbClr val="ffffff"/>
              </a:solidFill>
              <a:latin typeface="Times New Roman"/>
            </a:endParaRPr>
          </a:p>
        </p:txBody>
      </p:sp>
      <p:pic>
        <p:nvPicPr>
          <p:cNvPr id="384" name="Picture 7"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7920" y="11160"/>
            <a:ext cx="9244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7. VIHREÄN BUSINEKSEN ALOITTAMINEN </a:t>
            </a:r>
            <a:r>
              <a:rPr b="1" lang="en-GB" sz="2400" spc="-1" strike="noStrike">
                <a:solidFill>
                  <a:srgbClr val="ffffff"/>
                </a:solidFill>
                <a:latin typeface="Calibri"/>
              </a:rPr>
              <a:t>– LAADULLINEN HALLINTA NOUDATTAEN STTT - PROSESSIA</a:t>
            </a:r>
            <a:endParaRPr b="0" lang="en-US" sz="2400" spc="-1" strike="noStrike">
              <a:solidFill>
                <a:srgbClr val="ffffff"/>
              </a:solidFill>
              <a:latin typeface="Times New Roman"/>
            </a:endParaRPr>
          </a:p>
        </p:txBody>
      </p:sp>
      <p:sp>
        <p:nvSpPr>
          <p:cNvPr id="386" name="TextBox 4"/>
          <p:cNvSpPr/>
          <p:nvPr/>
        </p:nvSpPr>
        <p:spPr>
          <a:xfrm>
            <a:off x="468360" y="912960"/>
            <a:ext cx="7708680" cy="4636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ff"/>
                </a:solidFill>
                <a:uFillTx/>
                <a:latin typeface="Calibri"/>
              </a:rPr>
              <a:t>Suunnittele</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uunnittelu alkaa määrittelemällä mitattavat ja kirjalliset tavoitteet, jotka voidaan soveltaa osaksi politiikkaa (esim. Ympäristösertifikaatin vastaanotto, erityiset vaatimukset). Jokaiselle vaiheelle tarvitaan määritellyt vastuut tavoitteiden saavuttamiseksi (esim. Yleinen tavoite vähentää energian käyttöä toimistossa 5% seuraavien kahden vuoden aikana; aikajana sisältää määräajat tehtäville ja vastuille).</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ee</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ämä vaihe sisältää suunnitelman täytäntöönpanon. Valittu henkilö valitaan tarkoitukseen vastata yksittäisten tehtävien ja tietojen keräämisen tilasta. Jälleen kerran, aikataulusta on pidettävä kiinni.</a:t>
            </a:r>
            <a:endParaRPr b="0" lang="en-US" sz="1800" spc="-1" strike="noStrike">
              <a:solidFill>
                <a:srgbClr val="ffffff"/>
              </a:solidFill>
              <a:latin typeface="Times New Roman"/>
            </a:endParaRPr>
          </a:p>
          <a:p>
            <a:pPr marL="285840" indent="-2858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sustainability4success.com/plan-do-check-act.html</a:t>
            </a:r>
            <a:endParaRPr b="0" lang="en-US" sz="12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7" name="Θέση εικόνας 5" descr=""/>
          <p:cNvPicPr/>
          <p:nvPr/>
        </p:nvPicPr>
        <p:blipFill>
          <a:blip r:embed="rId1"/>
          <a:stretch/>
        </p:blipFill>
        <p:spPr>
          <a:xfrm>
            <a:off x="7812000" y="6308640"/>
            <a:ext cx="1079640" cy="317520"/>
          </a:xfrm>
          <a:prstGeom prst="rect">
            <a:avLst/>
          </a:prstGeom>
          <a:ln w="0">
            <a:noFill/>
          </a:ln>
        </p:spPr>
      </p:pic>
      <p:pic>
        <p:nvPicPr>
          <p:cNvPr id="388"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89"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Box 1"/>
          <p:cNvSpPr/>
          <p:nvPr/>
        </p:nvSpPr>
        <p:spPr>
          <a:xfrm>
            <a:off x="7920" y="11160"/>
            <a:ext cx="9388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7. VIHREÄN BUSINEKSEN ALOITTAMINEN </a:t>
            </a:r>
            <a:r>
              <a:rPr b="1" lang="en-GB" sz="2400" spc="-1" strike="noStrike">
                <a:solidFill>
                  <a:srgbClr val="ffffff"/>
                </a:solidFill>
                <a:latin typeface="Calibri"/>
              </a:rPr>
              <a:t>– LAADULLINEN HALLINTA NOUDATTAEN STTT - PROSESSIA</a:t>
            </a:r>
            <a:endParaRPr b="0" lang="en-US" sz="2400" spc="-1" strike="noStrike">
              <a:solidFill>
                <a:srgbClr val="ffffff"/>
              </a:solidFill>
              <a:latin typeface="Times New Roman"/>
            </a:endParaRPr>
          </a:p>
        </p:txBody>
      </p:sp>
      <p:sp>
        <p:nvSpPr>
          <p:cNvPr id="391" name="TextBox 4"/>
          <p:cNvSpPr/>
          <p:nvPr/>
        </p:nvSpPr>
        <p:spPr>
          <a:xfrm>
            <a:off x="539640" y="1052640"/>
            <a:ext cx="79916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2" name="Θέση εικόνας 5" descr=""/>
          <p:cNvPicPr/>
          <p:nvPr/>
        </p:nvPicPr>
        <p:blipFill>
          <a:blip r:embed="rId1"/>
          <a:stretch/>
        </p:blipFill>
        <p:spPr>
          <a:xfrm>
            <a:off x="7812000" y="6308640"/>
            <a:ext cx="1079640" cy="317520"/>
          </a:xfrm>
          <a:prstGeom prst="rect">
            <a:avLst/>
          </a:prstGeom>
          <a:ln w="0">
            <a:noFill/>
          </a:ln>
        </p:spPr>
      </p:pic>
      <p:pic>
        <p:nvPicPr>
          <p:cNvPr id="393"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4" name="Text Box 6"/>
          <p:cNvSpPr/>
          <p:nvPr/>
        </p:nvSpPr>
        <p:spPr>
          <a:xfrm>
            <a:off x="468360" y="979560"/>
            <a:ext cx="7775640" cy="55321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arkista</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ässä vaiheessa tavoitteiden saavuttamista annetussa ajassa arvioidaan. Jos arviointi osoittaa, että tavoitteet on saavutettu, muut tavoitteet ja standradit asetetaan korkeammalle. Jos näin ei ole, tarvitaan vikojen arvioimista ja tavoitteiden muokkaamista ottaen huomioon kysymykset: Miksi kaikki tulokset eivät toteudu energiakatselmuksen käytännössä? Mitä on tehtävissä, jotta pelastetaan 5% energiasta?</a:t>
            </a: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oim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öiden tavoitteet ja riittämättömien tulosten parantaminen johtuen niiden heikosta arvioinnista. Strategioiden muutokset parantavat suorituskykyä, jotka yrityksen on otettava huomioon (esim hakemuksen valtiollisen avustuksen toteuttamisen asetus vähäenergisten lamppujen avulla, koska energiatarkastaja neuvoo).</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sustainability4success.com/plan-do-check-act.html</a:t>
            </a:r>
            <a:endParaRPr b="0" lang="en-US" sz="1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5"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hteck 2"/>
          <p:cNvSpPr/>
          <p:nvPr/>
        </p:nvSpPr>
        <p:spPr>
          <a:xfrm>
            <a:off x="9720" y="0"/>
            <a:ext cx="23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NLINE LÄHTEET</a:t>
            </a:r>
            <a:endParaRPr b="0" lang="en-US" sz="2400" spc="-1" strike="noStrike">
              <a:solidFill>
                <a:srgbClr val="ffffff"/>
              </a:solidFill>
              <a:latin typeface="Times New Roman"/>
            </a:endParaRPr>
          </a:p>
        </p:txBody>
      </p:sp>
      <p:pic>
        <p:nvPicPr>
          <p:cNvPr id="397"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398" name="Θέση εικόνας 5" descr=""/>
          <p:cNvPicPr/>
          <p:nvPr/>
        </p:nvPicPr>
        <p:blipFill>
          <a:blip r:embed="rId2"/>
          <a:stretch/>
        </p:blipFill>
        <p:spPr>
          <a:xfrm>
            <a:off x="7812000" y="6308640"/>
            <a:ext cx="1079640" cy="317520"/>
          </a:xfrm>
          <a:prstGeom prst="rect">
            <a:avLst/>
          </a:prstGeom>
          <a:ln w="0">
            <a:noFill/>
          </a:ln>
        </p:spPr>
      </p:pic>
      <p:pic>
        <p:nvPicPr>
          <p:cNvPr id="399" name="Picture 5" descr=""/>
          <p:cNvPicPr/>
          <p:nvPr/>
        </p:nvPicPr>
        <p:blipFill>
          <a:blip r:embed="rId3"/>
          <a:stretch/>
        </p:blipFill>
        <p:spPr>
          <a:xfrm>
            <a:off x="4284720" y="6093000"/>
            <a:ext cx="723960" cy="598320"/>
          </a:xfrm>
          <a:prstGeom prst="rect">
            <a:avLst/>
          </a:prstGeom>
          <a:ln w="0">
            <a:noFill/>
          </a:ln>
        </p:spPr>
      </p:pic>
      <p:sp>
        <p:nvSpPr>
          <p:cNvPr id="400" name="Textfeld 1"/>
          <p:cNvSpPr/>
          <p:nvPr/>
        </p:nvSpPr>
        <p:spPr>
          <a:xfrm>
            <a:off x="324000" y="765000"/>
            <a:ext cx="8208720" cy="28321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5. Green marketing plan</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u="sng">
                <a:solidFill>
                  <a:srgbClr val="99ff33"/>
                </a:solidFill>
                <a:uFillTx/>
                <a:latin typeface="Calibri"/>
                <a:hlinkClick r:id="rId4"/>
              </a:rPr>
              <a:t>http://2012books.lardbucket.org/books/sustainable-business-cases/s10- sustainable-business-marketing.html</a:t>
            </a:r>
            <a:r>
              <a:rPr b="1" lang="de-AT" sz="1600" spc="-1" strike="noStrike">
                <a:solidFill>
                  <a:srgbClr val="ffffff"/>
                </a:solidFill>
                <a:latin typeface="Calibri"/>
              </a:rPr>
              <a:t> </a:t>
            </a:r>
            <a:r>
              <a:rPr b="1" lang="en-US" sz="1600" spc="-1" strike="noStrike">
                <a:solidFill>
                  <a:srgbClr val="ffffff"/>
                </a:solidFill>
                <a:latin typeface="Calibri"/>
              </a:rPr>
              <a:t>[</a:t>
            </a:r>
            <a:r>
              <a:rPr b="1" lang="de-AT" sz="1600" spc="-1" strike="noStrike">
                <a:solidFill>
                  <a:srgbClr val="ffffff"/>
                </a:solidFill>
                <a:latin typeface="Calibri"/>
              </a:rPr>
              <a:t>09.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6. Complying with the rules and regulations to start your green business</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sustainability4success.com/plan-do-check-act.html</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7. Starting the green business – business plan following PDCA</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sustainability4success.com/plan-do-check-act.html</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Θέση εικόνας 5" descr=""/>
          <p:cNvPicPr/>
          <p:nvPr/>
        </p:nvPicPr>
        <p:blipFill>
          <a:blip r:embed="rId2"/>
          <a:stretch/>
        </p:blipFill>
        <p:spPr>
          <a:xfrm>
            <a:off x="7812000" y="6308640"/>
            <a:ext cx="1079640" cy="317520"/>
          </a:xfrm>
          <a:prstGeom prst="rect">
            <a:avLst/>
          </a:prstGeom>
          <a:ln w="0">
            <a:noFill/>
          </a:ln>
        </p:spPr>
      </p:pic>
      <p:pic>
        <p:nvPicPr>
          <p:cNvPr id="40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3"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pic>
        <p:nvPicPr>
          <p:cNvPr id="404"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AVOITTEET</a:t>
            </a:r>
            <a:endParaRPr b="0" lang="en-US" sz="2400" spc="-1" strike="noStrike">
              <a:solidFill>
                <a:srgbClr val="ffffff"/>
              </a:solidFill>
              <a:latin typeface="Times New Roman"/>
            </a:endParaRPr>
          </a:p>
        </p:txBody>
      </p:sp>
      <p:sp>
        <p:nvSpPr>
          <p:cNvPr id="332" name="TextBox 4"/>
          <p:cNvSpPr/>
          <p:nvPr/>
        </p:nvSpPr>
        <p:spPr>
          <a:xfrm>
            <a:off x="395280" y="620640"/>
            <a:ext cx="8353440" cy="22885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fi-FI" sz="1800" spc="-1" strike="noStrike">
                <a:solidFill>
                  <a:srgbClr val="ffffff"/>
                </a:solidFill>
                <a:latin typeface="Calibri"/>
              </a:rPr>
              <a:t>Saada tietoa vihreän markkinoinnin perusteista</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GB" sz="1800" spc="-1" strike="noStrike">
                <a:solidFill>
                  <a:srgbClr val="ffffff"/>
                </a:solidFill>
                <a:latin typeface="Calibri"/>
              </a:rPr>
              <a:t>Osata laatia markkinointisuunnitelman vihreän busineksen idealle</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fi-FI" sz="1800" spc="-1" strike="noStrike">
                <a:solidFill>
                  <a:srgbClr val="ffffff"/>
                </a:solidFill>
                <a:latin typeface="Calibri"/>
              </a:rPr>
              <a:t>Tietää säännöt ja sääntelyn oman vihreän business idean aloittamiseen</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fi-FI" sz="1800" spc="-1" strike="noStrike">
                <a:solidFill>
                  <a:srgbClr val="ffffff"/>
                </a:solidFill>
                <a:latin typeface="Calibri"/>
              </a:rPr>
              <a:t>Tietoa laadunhallintavälineiden saamiseen vihreää businesta koskien</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ISÄLTÖ</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ihreä marketointi suunnitelma</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ppia käyttämään vihreän busineksen laadunhallintavälineitä</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ihreän busineksen aloittaminen – business suunnitelma, joka noudattaa STTT prosessia</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ähteet</a:t>
            </a: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VIHREÄ BUSINESS SUUNNITELMA</a:t>
            </a:r>
            <a:endParaRPr b="0" lang="en-US" sz="2400" spc="-1" strike="noStrike">
              <a:solidFill>
                <a:srgbClr val="ffffff"/>
              </a:solidFill>
              <a:latin typeface="Times New Roman"/>
            </a:endParaRPr>
          </a:p>
        </p:txBody>
      </p:sp>
      <p:sp>
        <p:nvSpPr>
          <p:cNvPr id="342" name="TextBox 4"/>
          <p:cNvSpPr/>
          <p:nvPr/>
        </p:nvSpPr>
        <p:spPr>
          <a:xfrm>
            <a:off x="179280" y="836640"/>
            <a:ext cx="7704360" cy="50238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Marketointi suunnitelma</a:t>
            </a: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
            </a:r>
            <a:r>
              <a:rPr b="1" lang="en-GB" sz="1800" spc="-1" strike="noStrike">
                <a:solidFill>
                  <a:srgbClr val="ffffff"/>
                </a:solidFill>
                <a:latin typeface="Calibri"/>
              </a:rPr>
              <a:t>Kestävän liiketoiminnan tapausten (2012)” julkaisun mukaan markkinointisuunnitelma on johdettu yhtiön vision ja organisaation integroinnin yleistavoitteiden ja markkinoinnin tavoitteiden (mitä tavoitteita haluavat saavuttaa) ja strategioiden (mien aikovat tavoitteet saavuttaa) mukana osaksi yhtenäistä suunnitelmaa vuosittain. Vihreän markkinoinnin suunnitelma keskittyy ihanteelliseen markkinointiin saavuttaen maksimaalisen hyödyn samalla noudattaen kestävän kehityksen periaatteita. </a:t>
            </a:r>
            <a:endParaRPr b="0" lang="en-US" sz="18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nnistuneen markkinoinnin strategian käytössä 4:n P:n markkinointi voi seurata ja ottaa helposti osaksi eri alojen yrityksiä, joiden tarkoituksena on osoittaa sitoutumista ja kestävyyttä.</a:t>
            </a:r>
            <a:endParaRPr b="0" lang="en-US" sz="1800" spc="-1" strike="noStrike">
              <a:solidFill>
                <a:srgbClr val="ffffff"/>
              </a:solidFill>
              <a:latin typeface="Times New Roman"/>
            </a:endParaRPr>
          </a:p>
          <a:p>
            <a:pPr marL="284040" indent="-2840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ibid.</a:t>
            </a:r>
            <a:endParaRPr b="0" lang="en-US" sz="1200" spc="-1" strike="noStrike">
              <a:solidFill>
                <a:srgbClr val="ffffff"/>
              </a:solidFill>
              <a:latin typeface="Times New Roman"/>
            </a:endParaRPr>
          </a:p>
          <a:p>
            <a:pPr marL="284040" indent="-284040">
              <a:lnSpc>
                <a:spcPct val="11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4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VIHREÄ BUSINESS SUUNNITELMA</a:t>
            </a:r>
            <a:endParaRPr b="0" lang="en-US" sz="2400" spc="-1" strike="noStrike">
              <a:solidFill>
                <a:srgbClr val="ffffff"/>
              </a:solidFill>
              <a:latin typeface="Times New Roman"/>
            </a:endParaRPr>
          </a:p>
        </p:txBody>
      </p:sp>
      <p:sp>
        <p:nvSpPr>
          <p:cNvPr id="347" name="TextBox 4"/>
          <p:cNvSpPr/>
          <p:nvPr/>
        </p:nvSpPr>
        <p:spPr>
          <a:xfrm>
            <a:off x="7020000" y="3357720"/>
            <a:ext cx="1944720" cy="13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Fig.2: The 4 Ps of Marketing</a:t>
            </a:r>
            <a:endParaRPr b="0" lang="en-US" sz="12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p:txBody>
      </p:sp>
      <p:pic>
        <p:nvPicPr>
          <p:cNvPr id="348" name="Θέση εικόνας 5" descr=""/>
          <p:cNvPicPr/>
          <p:nvPr/>
        </p:nvPicPr>
        <p:blipFill>
          <a:blip r:embed="rId1"/>
          <a:stretch/>
        </p:blipFill>
        <p:spPr>
          <a:xfrm>
            <a:off x="7812000" y="6308640"/>
            <a:ext cx="1079640" cy="317520"/>
          </a:xfrm>
          <a:prstGeom prst="rect">
            <a:avLst/>
          </a:prstGeom>
          <a:ln w="0">
            <a:noFill/>
          </a:ln>
        </p:spPr>
      </p:pic>
      <p:pic>
        <p:nvPicPr>
          <p:cNvPr id="34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0" name="Diagram 1" descr=""/>
          <p:cNvPicPr/>
          <p:nvPr/>
        </p:nvPicPr>
        <p:blipFill>
          <a:blip r:embed="rId3"/>
          <a:stretch/>
        </p:blipFill>
        <p:spPr>
          <a:xfrm>
            <a:off x="712800" y="1994040"/>
            <a:ext cx="7596000" cy="3840120"/>
          </a:xfrm>
          <a:prstGeom prst="rect">
            <a:avLst/>
          </a:prstGeom>
          <a:ln w="0">
            <a:noFill/>
          </a:ln>
        </p:spPr>
      </p:pic>
      <p:sp>
        <p:nvSpPr>
          <p:cNvPr id="351" name="Rectangle 2"/>
          <p:cNvSpPr/>
          <p:nvPr/>
        </p:nvSpPr>
        <p:spPr>
          <a:xfrm>
            <a:off x="352440" y="620640"/>
            <a:ext cx="8567640" cy="135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4P:n markkinointi</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ljän Pn markkinointi (tuote/product, hinta/price, paikka/place, edistyminen/promotion) tunnetaan myös nimellä “Marketing Mix” ja on keskeinen valine määriteltäessä tuotteen tarjontaa asiakkaalle</a:t>
            </a:r>
            <a:endParaRPr b="0" lang="en-US" sz="1800" spc="-1" strike="noStrike">
              <a:solidFill>
                <a:srgbClr val="ffffff"/>
              </a:solidFill>
              <a:latin typeface="Times New Roman"/>
            </a:endParaRPr>
          </a:p>
        </p:txBody>
      </p:sp>
      <p:pic>
        <p:nvPicPr>
          <p:cNvPr id="352" name="Picture 7"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VIHREÄ BUSINESS SUUNNITELMA</a:t>
            </a:r>
            <a:endParaRPr b="0" lang="en-US" sz="2400" spc="-1" strike="noStrike">
              <a:solidFill>
                <a:srgbClr val="ffffff"/>
              </a:solidFill>
              <a:latin typeface="Times New Roman"/>
            </a:endParaRPr>
          </a:p>
        </p:txBody>
      </p:sp>
      <p:pic>
        <p:nvPicPr>
          <p:cNvPr id="354" name="Θέση εικόνας 5" descr=""/>
          <p:cNvPicPr/>
          <p:nvPr/>
        </p:nvPicPr>
        <p:blipFill>
          <a:blip r:embed="rId1"/>
          <a:stretch/>
        </p:blipFill>
        <p:spPr>
          <a:xfrm>
            <a:off x="7812000" y="6308640"/>
            <a:ext cx="1079640" cy="317520"/>
          </a:xfrm>
          <a:prstGeom prst="rect">
            <a:avLst/>
          </a:prstGeom>
          <a:ln w="0">
            <a:noFill/>
          </a:ln>
        </p:spPr>
      </p:pic>
      <p:pic>
        <p:nvPicPr>
          <p:cNvPr id="355"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6" name="TextBox 4"/>
          <p:cNvSpPr/>
          <p:nvPr/>
        </p:nvSpPr>
        <p:spPr>
          <a:xfrm>
            <a:off x="468360" y="765000"/>
            <a:ext cx="7704000" cy="54885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uote (product)</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uote voi olla joko konkreettinen, jolla on itsenäinen fyysinen olemassaolon muoto (neulasta moottorin osiin) tai aineeton palvelu (IT tai matkailuala). Oikeanlaisen tuotteen laatiminen sopivalla määrällä variantteja on yksi kriittisistä markkinointipäälliköiden päätöksistä.</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Hinta (price)</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uotteen hinta määrää tarjonnan, jonka asiakkaat ovat valmiita antamaan ostaakseen kyseisen tuotteen. Hinta ei voi olla liian alhainen (aiheuttaa myyjälle tappioita) eikä liian suuri (kuluttajilla ei varaa tuotteeseen). Tuotteen tai palvelun hinta riippuu sen kysynnästä, jonka määrää kysynnän jousto. Tuotteen sanotaan olevan joustava, jos sen hinta vähentää kysyntää huomattavasti (esim. Kahvi, ihmiset siirtyvät teen jountiin) ja tuote/palvelu on joustamaton, jos sen kysyntä ei heikkene hinnan noston jälkeen (esim. Bensiini)</a:t>
            </a:r>
            <a:endParaRPr b="0" lang="en-US" sz="1800" spc="-1" strike="noStrike">
              <a:solidFill>
                <a:srgbClr val="ffffff"/>
              </a:solidFill>
              <a:latin typeface="Times New Roman"/>
            </a:endParaRPr>
          </a:p>
          <a:p>
            <a:pPr marL="284040" indent="-2840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35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VIHREÄ BUSINESS SUUNNITELMA</a:t>
            </a:r>
            <a:endParaRPr b="0" lang="en-US" sz="2400" spc="-1" strike="noStrike">
              <a:solidFill>
                <a:srgbClr val="ffffff"/>
              </a:solidFill>
              <a:latin typeface="Times New Roman"/>
            </a:endParaRPr>
          </a:p>
        </p:txBody>
      </p:sp>
      <p:pic>
        <p:nvPicPr>
          <p:cNvPr id="359" name="Θέση εικόνας 5" descr=""/>
          <p:cNvPicPr/>
          <p:nvPr/>
        </p:nvPicPr>
        <p:blipFill>
          <a:blip r:embed="rId1"/>
          <a:stretch/>
        </p:blipFill>
        <p:spPr>
          <a:xfrm>
            <a:off x="7812000" y="6308640"/>
            <a:ext cx="1079640" cy="317520"/>
          </a:xfrm>
          <a:prstGeom prst="rect">
            <a:avLst/>
          </a:prstGeom>
          <a:ln w="0">
            <a:noFill/>
          </a:ln>
        </p:spPr>
      </p:pic>
      <p:pic>
        <p:nvPicPr>
          <p:cNvPr id="36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61" name="TextBox 4"/>
          <p:cNvSpPr/>
          <p:nvPr/>
        </p:nvSpPr>
        <p:spPr>
          <a:xfrm>
            <a:off x="468360" y="915840"/>
            <a:ext cx="7704000" cy="36093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aikka (place)</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arkkinat, joissa tuotteet myydään tunnetaan paikkana. Kuluttajilla tulisi olla kätevä pääsy markkinoille. Jakeluverkon tuotteelle määrittää sen saatavuus kaupoissa/myyntipisteissä.</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Edistäminen (promotion)</a:t>
            </a:r>
            <a:endParaRPr b="0" lang="en-US" sz="18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iestinnän menetelmä, jolla markinoija tarjoaa tietoa tuotteestaan. Siihen sisältyy mainoksia, henkilökohtainen myyntityö, suu-sanallinen julkisuus jne.</a:t>
            </a:r>
            <a:endParaRPr b="0" lang="en-US" sz="1800" spc="-1" strike="noStrike">
              <a:solidFill>
                <a:srgbClr val="ffffff"/>
              </a:solidFill>
              <a:latin typeface="Times New Roman"/>
            </a:endParaRPr>
          </a:p>
          <a:p>
            <a:pPr marL="284040" indent="-2840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62"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VIHREÄ BUSINESS SUUNNITELMA</a:t>
            </a:r>
            <a:endParaRPr b="0" lang="en-US" sz="2400" spc="-1" strike="noStrike">
              <a:solidFill>
                <a:srgbClr val="ffffff"/>
              </a:solidFill>
              <a:latin typeface="Times New Roman"/>
            </a:endParaRPr>
          </a:p>
        </p:txBody>
      </p:sp>
      <p:sp>
        <p:nvSpPr>
          <p:cNvPr id="364" name="TextBox 4"/>
          <p:cNvSpPr/>
          <p:nvPr/>
        </p:nvSpPr>
        <p:spPr>
          <a:xfrm>
            <a:off x="249120" y="641520"/>
            <a:ext cx="7991640" cy="6501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äiden tavoitteiden saavuttamiseksi, jokaisen hyvän markkinointisuunnitelman tulisi sisältää seuraavat asiat:</a:t>
            </a:r>
            <a:endParaRPr b="0" lang="en-US" sz="1800" spc="-1" strike="noStrike">
              <a:solidFill>
                <a:srgbClr val="ffffff"/>
              </a:solidFill>
              <a:latin typeface="Times New Roman"/>
            </a:endParaRPr>
          </a:p>
          <a:p>
            <a:pPr marL="284040" indent="-2840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Yrityksen tavoitteet</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dustavat yrityksen yleisiä tavoitteita ja ovat yhdenmukaisia sen strategisen suunnitelman ja vision kanssa pitkällä kantamalla.</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n-GB" sz="1800" spc="-1" strike="noStrike">
                <a:solidFill>
                  <a:srgbClr val="ffffff"/>
                </a:solidFill>
                <a:latin typeface="Calibri"/>
              </a:rPr>
              <a:t>Tavoitteet</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Yhtiön tavoitteiden näkökulmasta markkinoinnin tavoitteet voidaan ratkaista ja niiden on oltava määriteltyinä, kuten 5% kasvava markkinaosuus.</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n-GB" sz="1800" spc="-1" strike="noStrike">
                <a:solidFill>
                  <a:srgbClr val="ffffff"/>
                </a:solidFill>
                <a:latin typeface="Calibri"/>
              </a:rPr>
              <a:t>Strategiat</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un tavoitteet on määritelty, strategiat näiden saavuttamiseen on kehitettävä (esimerkiksi niiden tuotteiden ainesten muuttaminen, jotka hankitaan paikallisesti ja auttavat saavuttamaan tavoitteen minimoida yhtiön hiilijalanjälki).</a:t>
            </a:r>
            <a:endParaRPr b="0" lang="en-US" sz="18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marL="284040" indent="-284040"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65" name="Θέση εικόνας 5" descr=""/>
          <p:cNvPicPr/>
          <p:nvPr/>
        </p:nvPicPr>
        <p:blipFill>
          <a:blip r:embed="rId1"/>
          <a:stretch/>
        </p:blipFill>
        <p:spPr>
          <a:xfrm>
            <a:off x="7812000" y="6308640"/>
            <a:ext cx="1079640" cy="317520"/>
          </a:xfrm>
          <a:prstGeom prst="rect">
            <a:avLst/>
          </a:prstGeom>
          <a:ln w="0">
            <a:noFill/>
          </a:ln>
        </p:spPr>
      </p:pic>
      <p:pic>
        <p:nvPicPr>
          <p:cNvPr id="36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VIHREÄ BUSINESS SUUNNITELMA</a:t>
            </a:r>
            <a:endParaRPr b="0" lang="en-US" sz="2400" spc="-1" strike="noStrike">
              <a:solidFill>
                <a:srgbClr val="ffffff"/>
              </a:solidFill>
              <a:latin typeface="Times New Roman"/>
            </a:endParaRPr>
          </a:p>
        </p:txBody>
      </p:sp>
      <p:sp>
        <p:nvSpPr>
          <p:cNvPr id="369" name="TextBox 4"/>
          <p:cNvSpPr/>
          <p:nvPr/>
        </p:nvSpPr>
        <p:spPr>
          <a:xfrm>
            <a:off x="219240" y="525600"/>
            <a:ext cx="8600760" cy="4818960"/>
          </a:xfrm>
          <a:prstGeom prst="rect">
            <a:avLst/>
          </a:prstGeom>
          <a:noFill/>
          <a:ln w="0">
            <a:noFill/>
          </a:ln>
        </p:spPr>
        <p:style>
          <a:lnRef idx="0"/>
          <a:fillRef idx="0"/>
          <a:effectRef idx="0"/>
          <a:fontRef idx="minor"/>
        </p:style>
        <p:txBody>
          <a:bodyPr lIns="90000" rIns="90000" tIns="46800" bIns="46800" anchor="t">
            <a:spAutoFit/>
          </a:bodyPr>
          <a:p>
            <a:pPr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n-GB" sz="1800" spc="-1" strike="noStrike">
                <a:solidFill>
                  <a:srgbClr val="ffffff"/>
                </a:solidFill>
                <a:latin typeface="Calibri"/>
              </a:rPr>
              <a:t>Taktiika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ktiikat ovat keinoja tavoitteen saavuttamiseksi ja niihin kuuluu 4Ptä (esim. Paikallisten toimittajien tunnistetiedot, kannusteet saavuttaa paikallisen strategian osto)</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n-GB" sz="1800" spc="-1" strike="noStrike">
                <a:solidFill>
                  <a:srgbClr val="ffffff"/>
                </a:solidFill>
                <a:latin typeface="Calibri"/>
              </a:rPr>
              <a:t>Markkinointi</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äytetään selvittämään kohdemarkkinat ja tämänhetkisten tuotteiden elinkaaren analyysi: kehittäminen, käyttöönotto, kasvu, kypsyys jne. Etenkin vihreiden tuotteien osalta voi olla mahdollista lisätä uusi ulottuvuus uusien tuotteiden eduksi.</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Kuluttajien kohderyhmä</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ohderyhmän tunnistaminen ja segmenttien määritelmä. Tavoitteena on tunnistaa optimaalinen tavoite saavuttaa markkinoiden tavoitteet.</a:t>
            </a:r>
            <a:endParaRPr b="0" lang="en-US" sz="18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70" name="Θέση εικόνας 5" descr=""/>
          <p:cNvPicPr/>
          <p:nvPr/>
        </p:nvPicPr>
        <p:blipFill>
          <a:blip r:embed="rId1"/>
          <a:stretch/>
        </p:blipFill>
        <p:spPr>
          <a:xfrm>
            <a:off x="7812000" y="6308640"/>
            <a:ext cx="1079640" cy="317520"/>
          </a:xfrm>
          <a:prstGeom prst="rect">
            <a:avLst/>
          </a:prstGeom>
          <a:ln w="0">
            <a:noFill/>
          </a:ln>
        </p:spPr>
      </p:pic>
      <p:pic>
        <p:nvPicPr>
          <p:cNvPr id="371"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2"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Inkinen, S Janna M</cp:lastModifiedBy>
  <dcterms:modified xsi:type="dcterms:W3CDTF">2016-08-07T19:27:31Z</dcterms:modified>
  <cp:revision>185</cp:revision>
  <dc:subject/>
  <dc:title>@MINDSET: Managing Social Relations in Schools</dc:title>
</cp:coreProperties>
</file>