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23795-C61F-4FE9-BF5F-23A112750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F87E-16AC-4033-A430-F3AE9C435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A43C0-6DB7-4FB9-9EDC-5448CBA44C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BF578-F97A-434F-BDA9-21AE7E50A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AE4BE9-5FB3-47F7-9324-226A6DD6B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75DA5-A83D-4B96-A8E6-944C5B061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36B0E-A608-4BCA-A373-6BF92FEC4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D36AE-A11E-4A55-A005-65A144AC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D982B-20FC-4513-97DB-2496011BE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6ADC5-26B8-42FA-BBE1-8B8CBABB8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5133C-D518-4C3D-9332-A034AB030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96001-CE88-4E93-AF36-F7F1D03C5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A19E7-3F08-4E99-82D2-932D3582A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509C7-8022-4D2B-BC66-45FDC2325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53976-39A8-4EC5-8F9B-FCA41FFD7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1EA12B-A139-4879-9BC4-EF9CAA6C16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E02D44-21F4-4B62-B1A7-E6C89464B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DD8D5D-AE94-496C-BBBF-3C9A6443CD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8E1341-13F7-4CEF-BD5B-162FC7A085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F25862-5959-4232-8C8F-0261274B2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2A9F7-5074-41C6-9167-05F468F33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7B215-B61D-48EF-A608-7F28D495E0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3EB57-ED47-4D46-AABF-17653A6C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B11055-6498-469B-9E96-3B7BB0A00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5B904C-DEFF-4AFA-B0DF-9F713DDD3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EA4C5-0EB5-4EF1-BE68-071284DAD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063FF1-FF64-4DC2-9BB0-75DF9D558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59659-A1BC-4798-93A4-2CB1EEF94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D29B51-17A8-4E0D-9D65-78227382B7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94286E-677F-4CDE-9F47-4FB4723E6B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D81BD4-201D-4E73-924E-7100467ECF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33B207-5D6D-44E8-AFFB-98D91DC11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55589F-8B9A-47DD-A72E-C1F0119FA6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13C3C-21B1-4E8F-BAAE-4DD167402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211A42-7A7D-43D9-8D68-20933A3D4B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FDE8A-D969-4488-B644-565A63CF2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F78999-DC58-4DA5-9298-B7091D718F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366E4-1815-4C22-B98F-4D6EC3771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A8C26-6887-4634-A744-A0843BA1B3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214FE1-D011-48BC-A30C-A45137F4D1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71DA7C-3987-4DDB-A6C9-438F4676A3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168CC-3BEE-461C-8546-F336E7BFCA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86246-BC3A-47D6-9FC8-9A18C92C7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0742E-AC86-4E7F-B15D-14AFC25C5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0779F-3092-4994-B3C6-7DA20C01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B9213-B8F1-480D-8EA1-6999BFFA3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DB547-DB91-4F02-9195-4D9F4D996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56A1A-7722-4BFC-822E-3667AB2E09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6DBC-E094-49E8-BA42-C6717E617822}"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8F42-1B2F-45DB-9A4C-C55888A5BBB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9FBD-AEFE-41C9-964A-10855606F2C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A3F4-AF00-43FC-AC6D-A7DF34C58346}"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708360" y="2517840"/>
            <a:ext cx="4896000" cy="1752480"/>
          </a:xfrm>
          <a:prstGeom prst="rect">
            <a:avLst/>
          </a:prstGeom>
          <a:noFill/>
          <a:ln w="0">
            <a:noFill/>
          </a:ln>
        </p:spPr>
        <p:txBody>
          <a:bodyPr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O2 – Ympäristöohjelma</a:t>
            </a:r>
            <a:endParaRPr b="0" lang="en-US" sz="2800" spc="-1" strike="noStrike">
              <a:solidFill>
                <a:srgbClr val="ffffff"/>
              </a:solidFill>
              <a:latin typeface="Calibri"/>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Yrittäjyys – Älykäs energia</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Vihreä yrittäjyys, tapaustutkimus</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rPr>
              <a:t>Viikot 28-30</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Θέση εικόνας 5" descr=""/>
          <p:cNvPicPr/>
          <p:nvPr/>
        </p:nvPicPr>
        <p:blipFill>
          <a:blip r:embed="rId1"/>
          <a:stretch/>
        </p:blipFill>
        <p:spPr>
          <a:xfrm>
            <a:off x="7812000" y="6308640"/>
            <a:ext cx="1079640" cy="317520"/>
          </a:xfrm>
          <a:prstGeom prst="rect">
            <a:avLst/>
          </a:prstGeom>
          <a:ln w="0">
            <a:noFill/>
          </a:ln>
        </p:spPr>
      </p:pic>
      <p:pic>
        <p:nvPicPr>
          <p:cNvPr id="22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7"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Text Box 5"/>
          <p:cNvSpPr/>
          <p:nvPr/>
        </p:nvSpPr>
        <p:spPr>
          <a:xfrm>
            <a:off x="468360" y="765000"/>
            <a:ext cx="7740720" cy="4499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usiness mall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n-GB" sz="1800" spc="-1" strike="noStrike">
                <a:solidFill>
                  <a:srgbClr val="ffffff"/>
                </a:solidFill>
                <a:latin typeface="Calibri"/>
              </a:rPr>
              <a:t>Philips” on maailmanlaajuinen johtava yritys ja onnistunut terveydenhuollon, valaistuksen ja lifestylen alueilla. Esimerkki kuvaa Philips lightning liiketoimintamallia. Liiketoimintamalli tuottaa, asentaa, ikuistaa, ottaa takaisin ja, jossain määrin, uudelleenkäyttää valaistusjärjestelmän materiaaleja. Asiakas maksaa vain palvelumaksun sovitulta ajanjaksolta sekä toivotuista toiminnoista ja laadusta</a:t>
            </a:r>
            <a:r>
              <a:rPr b="1" lang="en-GB" sz="1800" spc="-1" strike="noStrike">
                <a:solidFill>
                  <a:srgbClr val="ffffff"/>
                </a:solidFill>
                <a:latin typeface="Calibri"/>
                <a:ea typeface="Times New Roman"/>
              </a:rPr>
              <a:t>. Tässä mallissa kolme seikkaa poikkeavat perinteisestä mallista: </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siakkaat eivät saa vain tuotetta, mutta myös palvelun</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siakkaan ja yhtiön välinen suhde muuttuu suhteessa tuotetun palvelun kumppanuuteen ja toimituksiin sekä valaistussysteemeihin</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iketoimintamalliin vaikuttaa varojen siirto, joka muuttuu valikoivasta maksusta jatkuvaan tulotukijärjestelmään</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2f.</a:t>
            </a:r>
            <a:endParaRPr b="0" lang="en-US" sz="1200" spc="-1" strike="noStrike">
              <a:solidFill>
                <a:srgbClr val="ffffff"/>
              </a:solidFill>
              <a:latin typeface="Times New Roman"/>
            </a:endParaRPr>
          </a:p>
        </p:txBody>
      </p:sp>
      <p:sp>
        <p:nvSpPr>
          <p:cNvPr id="229"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Philips Light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Philips Lighting </a:t>
            </a:r>
            <a:endParaRPr b="0" lang="en-US" sz="2400" spc="-1" strike="noStrike">
              <a:solidFill>
                <a:srgbClr val="ffffff"/>
              </a:solidFill>
              <a:latin typeface="Times New Roman"/>
            </a:endParaRPr>
          </a:p>
        </p:txBody>
      </p:sp>
      <p:sp>
        <p:nvSpPr>
          <p:cNvPr id="234" name="Text Box 9"/>
          <p:cNvSpPr/>
          <p:nvPr/>
        </p:nvSpPr>
        <p:spPr>
          <a:xfrm>
            <a:off x="378000" y="741240"/>
            <a:ext cx="7777080" cy="4679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Hyödyt ja vaikutuks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Liiketoimintamallin ympäristövaikutukset voidaan jäljittää valaistukseen, koska siihen liittyy energiatehokas LED - järjestelmä. Lisäksi järjestelmää seurataan ja mitataan, joka tarkoittaa että se voidaan optimoida vastaamaan asiakkaan tarpeita. Lopuksi malli ratkaiseen materiaalien silmukoiden sulkemisen ongelmatn – paluu logistiikkaan ja talouteen.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aloudelliset vaikutukset kuvataan “win-win” mallilla sekä asiakkaille että yhtiölle. Asiakas hyötyy räätälöidystä palvelusta ja vakaista kustannuksista. Samaan aikaan uusimman lightning systeemin asentamisen etumaksut vähenevät. Yhtiö hyötyy pitkäaikaisesta kumppanuudesta asiakkaan kanssa Lisäksi yritys saa takaisin arvokkaita tuotteen raaka-aineita uudelleenkäyttöä tai myyntiä varten.</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Philips Lighting </a:t>
            </a:r>
            <a:endParaRPr b="0" lang="en-US" sz="2400" spc="-1" strike="noStrike">
              <a:solidFill>
                <a:srgbClr val="ffffff"/>
              </a:solidFill>
              <a:latin typeface="Times New Roman"/>
            </a:endParaRPr>
          </a:p>
        </p:txBody>
      </p:sp>
      <p:sp>
        <p:nvSpPr>
          <p:cNvPr id="238" name="Text Box 5"/>
          <p:cNvSpPr/>
          <p:nvPr/>
        </p:nvSpPr>
        <p:spPr>
          <a:xfrm>
            <a:off x="507960" y="681120"/>
            <a:ext cx="8024760" cy="478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ea typeface="Times New Roman"/>
              </a:rPr>
              <a:t>Ohjaimet ja esteet</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Philipsillä kestävää innovaatiota innottaa vakaumus terveeseen ja kestävään elämäntapaan, joka vaatii sosiaalisia, taloudellisia ja ympäristöllisiä edellytyksiä. Lisäksi liittyen lisääntyvään ympäristön saastumiseen yritysten on vastattava markkinoiden vaatimuksiin, joilla on pitkän aikavälin sitoutuminen kestävyytee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aloudelliselta kannalta este on se, että malli toimii vain pitkäaikaisilla suhteilla ja taloudellisen painopisteen osalta sekä toimittajan sitoutumisessa asiakkaasee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Ympäristön kannalta on useita esteitä varsinaiseen materiaalin silmukan sulkemiseen. Philips vastaanottaa materiaaleja, mutta materiaalivirrat eivät ole todellisia silmukoita. Lisäksi on olemassa teknisiä haasteita tarkkojen tietojen puuttumisen takia. Tähän liitetty este on myös fakta, että monien materiaalien kustannukset ovat alhaisempia kuin kustannukset kerätä ja ottaa talteen.</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Philips Lighting </a:t>
            </a:r>
            <a:endParaRPr b="0" lang="en-US" sz="2400" spc="-1" strike="noStrike">
              <a:solidFill>
                <a:srgbClr val="ffffff"/>
              </a:solidFill>
              <a:latin typeface="Times New Roman"/>
            </a:endParaRPr>
          </a:p>
        </p:txBody>
      </p:sp>
      <p:sp>
        <p:nvSpPr>
          <p:cNvPr id="242" name="Text Box 5"/>
          <p:cNvSpPr/>
          <p:nvPr/>
        </p:nvSpPr>
        <p:spPr>
          <a:xfrm>
            <a:off x="395280" y="770040"/>
            <a:ext cx="7777080" cy="5862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ktoivat kysymykset</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itkä näkökohdat muuttavat liiketoimintamallin toteuttamista?</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Selitä keskeiset haasteet ja kuinka niitä käsitellää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itkä ympäristöystävälliset kentät kattavat nämä toimenpiteet ja mihin yrityksen alueisiin ne vaikuttava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Onko yrityksen kannalta win-win tilanne? Miksi / miksi ei?</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iten saadaan motivaatiota mallin toteuttamiseen ja mitkä ovat erot verrattuna viherään pk – start-up yritykseen?</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Keskustele ekologisista ja sosiaalisista arvoista sekä miten toimintamalli heijastaa näitä arvoja?</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Selitä mitä yrittäjän täytyy tehdä onnistuakseen yrityshankkeessaan vaihtuessa kohti liiketoimintamallia.</a:t>
            </a: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VIHREÄN YRITTÄJYYDEN TAPAUSTUTKIMUS: Philips Lighting </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Lähteet</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21:22:23Z</dcterms:modified>
  <cp:revision>177</cp:revision>
  <dc:subject/>
  <dc:title>@MINDSET: Managing Social Relations in Schools</dc:title>
</cp:coreProperties>
</file>