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44CEB-319C-4279-BEAB-7EA863867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93DF2-6486-42DD-895C-F6A760F33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C9C01-2135-4330-A67C-63624C371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33978-66B2-4A47-8B4F-4759DB899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E41754-8AC0-4F98-B4E2-ACA8FA256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75215-B69F-4FDC-9870-43B80CBCC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6CCBF-766B-4F9C-85DF-6EFE45767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F8567-7A2E-4B04-97A6-9E8D067C6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5D53E-1B45-4988-875F-37AFDB5CF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B1DB6-5A99-432A-A7B5-C49133C27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CC3D7-F1BA-45FC-9C55-128F44562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9BFC5-1517-4E11-881A-DAC766D7A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368AA-A155-4043-873E-CB6DD17B7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7F530-99ED-4367-9C7A-58A454F57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AA696-E070-4723-BA60-A328EA6FA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9AED0-AEF4-4B13-8C45-E0E162D73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32238-6CF7-46BA-BB30-07AA84451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3E9236-15FB-47B9-A12C-ECDA37B45E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C7D70-606D-40E0-97D6-7E311C244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B84559-42B6-415A-8F69-3098C9E9B4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BAD435-D09D-42DC-853A-EF0EF39E2A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4A7039-2961-4032-AAF5-ECEAF516D9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72131-430A-4CD8-B304-F8AE1E421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7F983-F26A-499A-956E-C26731F89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0EF80-1AF5-487D-822F-D2164DE82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8ED6D-9039-45E3-B92C-C9535B18B2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19C57-6DA2-4E54-AB6B-A48B8EC5FB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30A0BC-7135-46BF-8A7C-AB6F7E9F3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3A858C-79C1-4D89-AF5E-8895D6CA52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A399A2-2C78-410B-8B0B-3709369E5C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9018DD-BDEB-4728-BB29-9E37517F4E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B033E2-9E5C-4D48-8350-ACEC54FAD8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C6B8E-94B8-4471-9D66-A598B08E3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07F0C-2518-43A4-997C-4904E9A55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BF86B4-3C82-4B53-A26A-9D3652CBE8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37B99-F07C-4C41-A97F-9134E4D95B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0426A3-88D7-4DD6-A464-2FB55415CE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312928-BB70-47E4-8C1D-61C0CADB3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B2C16B-B538-4205-A259-D9E2F2DB08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DE0F46-31C3-49DE-8C20-0BCC21666F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1E8D43-F45F-4A35-9496-2DC8869444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A38227-C106-4A96-8147-035731E37C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B767ED-5FD1-4F7E-930B-F134A26E0B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8898B-61B5-43BA-A5CC-E6F1313AD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185D4-670D-47CE-92C2-704D1D3DC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B94E0-E546-4355-8501-BD95D83A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380C9-6C25-42EE-821D-472A64180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C4F59-558C-4253-A471-EAE9F98E7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B84F9-8D4E-4664-A1E6-2F620FAB0C22}"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EA0D-03AA-4D1E-991C-A02655C93A9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4E38-D76C-45D6-A2ED-2BC765A928F7}"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E86C7-DBB9-4A8E-8F30-73088F20AF1E}"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35280" y="2491920"/>
            <a:ext cx="4896000" cy="175284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O2 – Ympäristöohjelma</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urse 3 – Yrittäjyys – Älykäs energia</a:t>
            </a:r>
            <a:endParaRPr b="0" lang="en-US" sz="2800" spc="-1" strike="noStrike">
              <a:solidFill>
                <a:srgbClr val="ffffff"/>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odule 4 – Vihreä yrittäjyys, tapaustutkimus</a:t>
            </a:r>
            <a:endParaRPr b="0" lang="en-US" sz="28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iikot 34-36</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lvis &amp; Kresse</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43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usiness mall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vis &amp; Kresse’s tarjoavat asiakkailleen muodikkaita ja kestäviä elämäntapoja yhdessä sosiaalisen ja ekologisen merkityksen kanssa. Innovatiivisuus Elvis &amp; Kressen liiketoimintamallissa on se, että yritys valmistaa tuotteitaan jätevirroista, jotka eivät perinteisesti ole olleet kierrätettäviä. Tämä tuo syvempää merkitystä tuotteisiin, koska ne auttavat ratkaisemaan jäteongelmaa. Lisäksi yhtiöt lahjoittavat 50% kaikista voitostaan jätevirtojen hyväntekeväisyysjärjestöille. Yritys valmistaa nykyisin tuotteita 10 jätevirroista. Kestävien tuotteiden ollessa vöiden ja laukkujen ajattomia malleja sekä uudelleen kompostoitavia ostoskasseja. Nykyään yritys myy tuotteitaan suurille vähittäismyyjille ja putiikeille sekä high ja vähittäismyyjille. Elvis &amp; Kresse on ominaista kehittää erityisiä suhteita joidenkin asiakkaiden kanssa.</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nriksen et al. 2012., p. 22f.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5202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Hyödyt ja vaikutukset</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Elvis &amp; Kressen liiketoimintamallin ympäristöhyödyt johtuvat siitä, että se vähentää kaatopaikalle sijoitettavan jätteen määrää. Vuodesta 2005 yhtiö on estänyt noin 160 tonnin jätteen viemisen kaatopaikalle.</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alouden näkökulmasta liiketoimintamalli ja kumppanuusrakenne johtaa suuriin etuihin; sekä Elvis &amp; Kresse, mutta myös heidän tuottava jäte, hyväntekeväisyys ja jälleenmyyntipartnerit. Jätettä tuottava kumppani säästää rahaa, koska sen ei tarvitse hävittää jätettä. Hyväntekeväisyysjärjestöjen kumppaneiden liittyvät jätteet saavat voittoa Elvis &amp; Kresseltä, myyvät Elvis &amp; Kresse tuotteita myymälöistään kuten Sainsbury myy tällä hetkellä 1000 Elvis &amp; Kresse ostoskassia viikottain. Kaikki mukana olevat nauttivat PR:n arvosta jätteiden tuottamisesta ja lahjoittavat rahaa hyväntekeväisyyteen. Elvis &amp; Kresse saa valtavan arvon markkinoinnin prosessissa.</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22 f.</a:t>
            </a:r>
            <a:endParaRPr b="0" lang="en-US" sz="1200" spc="-1" strike="noStrike">
              <a:solidFill>
                <a:srgbClr val="ffffff"/>
              </a:solidFill>
              <a:latin typeface="Times New Roman"/>
            </a:endParaRPr>
          </a:p>
        </p:txBody>
      </p:sp>
      <p:sp>
        <p:nvSpPr>
          <p:cNvPr id="234"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507960" y="493560"/>
            <a:ext cx="7664400" cy="50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u="sng">
                <a:solidFill>
                  <a:srgbClr val="ffffff"/>
                </a:solidFill>
                <a:uFillTx/>
                <a:latin typeface="Calibri"/>
                <a:ea typeface="Times New Roman"/>
              </a:rPr>
              <a:t>Ohjaimet ja esteet</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oinen kahdesta menestyksen päätekijöistä on ollut kumppanien jäte. Toinen tärkein tekijä menestyksen takana on ollut perustajien henkilökohtainen sitoutuminen ja motivaatio sen välttämiseksi, että jätteitä menee kaatopaikalle.</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Yksi Elvis &amp; Kressen tärkeimmistä esteistä on lähes välitön menestys liiketoiminnalle. Kun vöiden myynti käynnistyi, he olivat valmistautumattomia vastaamaan kysyntään. Varastotilaa raaka-aineille on erittäin vähän ja se on haasteena Elvis &amp; Kresse kasvulle. Tulevaisuutta katsoen Elvis &amp; Kresse on tuotemerkki, jonka toinen este on tarjota rajallista muotia, suunnittelua ja valmistusta. Kaikilla näillä alueilla Elvis &amp; Kresse ovat kirjaimellisesti luottaneet tekemäänsä.</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22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8137440" cy="382752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ktoivat kysymykset</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Calibri"/>
              </a:rPr>
              <a:t>Mitkä ovat yrityksen vahvuudet?</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en nämä vaikuttavat yhtiön liiketoimintamalliin (positiivinen ja negatiivine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aajemmassa mittakaavassa, miten riskinotto liittyy yrittäjyytee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ä yrittäjä voi tehdä riskien hallitsemiseen ja päätöksenteon tukeen?</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Elvis &amp; Kresse</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Lähteet</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Kiito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Linnansaari, S Janna M</cp:lastModifiedBy>
  <dcterms:modified xsi:type="dcterms:W3CDTF">2016-08-07T21:37:58Z</dcterms:modified>
  <cp:revision>176</cp:revision>
  <dc:subject/>
  <dc:title>@MINDSET: Managing Social Relations in Schools</dc:title>
</cp:coreProperties>
</file>