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D38DE-1CE5-4E6E-8C8C-BFB2C1802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B8D13-01BE-4F37-97A5-386BAA3BF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6ABA8-C4E9-4871-B415-6E9CCF9D5C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85A8F-B14D-4372-9842-FCEB3ED39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28F74-FDED-42E0-B201-F0D2FD74E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25D10-9F29-4F07-8482-C44CD1D18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8AB44-26A0-4037-981D-5ADD3B98E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D25C0-5600-4462-9A7A-E94B8A617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60A2E-91D6-40ED-B070-06E5C86C63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9FBD9-4ECE-406F-BAF5-ABDB6A34BE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A22E0-2532-44E4-A74D-5DA93BA29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2C240-29D9-445C-93CF-FA5AE02FB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1E3FE-73F2-43D4-929B-582C2AB07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41756-A220-423B-9364-6F44BCEAC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965FF-8D55-45B8-AA31-210015462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B1D16-8441-4922-8C3F-FFA567B0E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D173E-E744-4DAC-B2D8-D4BD98953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91E8C0-C034-49A6-80C4-E7AC890D72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D40E25-9BBD-4BF2-8832-BC6242E333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BBC66E-54AF-45DA-8F06-4AA0CEAC4E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BA44EE-CF3F-4EC4-ABE2-A88FF7C5C3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CFA175-D678-4822-B8DD-E030F150DD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1DC68-39D1-416A-8744-9E3025EBE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548ECD-6942-4F3F-A0F6-6B11502FA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2B5CE-9F48-4D96-97A0-82F12070A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0862C-9726-4833-B939-31402D7CF0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56446-8E6E-45B0-87BA-F05226FBE1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A9E4F8-CFF0-4566-9FD4-83FF9A51F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EDF2BD-FDDE-4A87-952C-6A68FDD725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02CADA-9F05-42B1-8661-458D2247D3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27DA1C-A370-4023-A4AC-945852801C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C2CD4F-1305-471F-8BF6-AD78F9925A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2F69C-9FEF-4857-A8B7-2F56F109C6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8AED8-2A77-4BA1-96C7-FE1E49D0A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8786AE-1397-4998-8526-6B502FEA40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7FDE6F-EA91-4AC8-A330-1914D9D1C0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79FC3C-F0CD-4AFD-BF8D-1BBDB61B4F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1B075-61E2-4E1B-9A35-F37EB189F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9F0C0E-FFE4-4436-9BDC-F5DE158338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264FAE-0D38-4A28-AFA9-4D75C322C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74C79E-04E7-407E-99D1-CF4A9170E3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EAA982-BA97-4E85-9DCB-1688B44147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0615F6-995F-413C-8583-983FC0EA7E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2791D-366B-429F-80D7-678D41B75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72AE0-8A16-463C-BF30-7DDCDDF33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22E51-6355-4FCA-9EDC-29CBC0538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307F-A0D5-4E74-B8F7-8BB5B3824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19270-01CF-4784-B502-E739BF272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16685-9C83-4F56-8C8B-3FDD384150D8}"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D874-2EF8-4A9A-A3AD-4070383C2989}"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4BC6-AAB8-4033-BBD2-FA003C2A13C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282D-06F7-44FD-AA63-11889EE24102}"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635280" y="2491920"/>
            <a:ext cx="4896000" cy="175284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O2 – Ympäristöohjelma</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urse 3 – Yrittäjyys – Älykäs energia</a:t>
            </a:r>
            <a:endParaRPr b="0" lang="en-US" sz="2800" spc="-1" strike="noStrike">
              <a:solidFill>
                <a:srgbClr val="ffffff"/>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odule 4 – Vihreä yrittäjyys, tapaustutkimus</a:t>
            </a:r>
            <a:endParaRPr b="0" lang="en-US" sz="28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Viikot 31-33</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6846840" y="5013360"/>
            <a:ext cx="67644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Yalumba Wine Company </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68360" y="765000"/>
            <a:ext cx="7740720" cy="5445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usiness malli</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alumba on Etelä-Australian viiniyhtiö, jolla on 200 paikallista ja 600 kansainvälistä työntekijää. Sen toimintaan kuuluu viiniviljely, viininvalmistus, pakkaus, jakelu, markkinointi ja myynti. Yalumban ympäristöjärjestelmä on ISO-sertifioitu ja keskittyy jatkuvasti vähentämään ja valvomaan elinkaaren vaikutuksia, jotka voivat johtua liiketoiminnasta. Ympäristökansalaisuuden tavoitteena on tehokkaasti kommunikoida Yalumban ajattelutavasta, lähestymistavasta ja sitoutumisesta kestävään kehitykseen viininvalmistuksen sidosryhmille, jotta ne voivat olla tehokkaasti mukana.</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alumba käyttää toimitusketjun hallintaa auttaakseen toimittajia ja kannustaakseen heitä minimoimaan ympäristövaikutuksia hyväksymällä puhtaan teknologian ja parhaiden käytäntöjen menettelyt. Lisäksi yhtiö on aktiivinen osallistuja paikallisessa yhteisössä. Yhtiö innovoi jatkuvasti arvioimalla ja tarkistamalla tuotantoprosesseja, toimittajan kanavia, pakkauksia jne. Löytäen parhaita ratkaisuja kestävään viinintuotantoon ja kannustaen asiakkaita hävittää pakkaukset vastuullisesti.</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4 f.</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0" y="0"/>
            <a:ext cx="853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Yalumba Wine Compan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1" name="Θέση εικόνας 5" descr=""/>
          <p:cNvPicPr/>
          <p:nvPr/>
        </p:nvPicPr>
        <p:blipFill>
          <a:blip r:embed="rId1"/>
          <a:stretch/>
        </p:blipFill>
        <p:spPr>
          <a:xfrm>
            <a:off x="7812000" y="6308640"/>
            <a:ext cx="1079640" cy="317520"/>
          </a:xfrm>
          <a:prstGeom prst="rect">
            <a:avLst/>
          </a:prstGeom>
          <a:ln w="0">
            <a:noFill/>
          </a:ln>
        </p:spPr>
      </p:pic>
      <p:pic>
        <p:nvPicPr>
          <p:cNvPr id="232"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3"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Text Box 9"/>
          <p:cNvSpPr/>
          <p:nvPr/>
        </p:nvSpPr>
        <p:spPr>
          <a:xfrm>
            <a:off x="378000" y="741240"/>
            <a:ext cx="7777080" cy="4150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Hyödyt ja vaikutukset</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Yalumba on hyvin keskittynyt minimoimaan materiaalien käytön, hiilidioksidipäästöt ja pakkausjätteet. He yrittävät käyttää vaihtoehtoisia polttoaineita, kuten biodieseliä, ja uusiutuvaa energiaa kuten aurinkoenergiaa. Lisäksi Yalumba on kehittänyt oman erikoistuneen LCA:n, jota käytetään LCA New World viiniteollisuuden vakiona.</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aloudelliset hyödyt ja vaikutukset ovat, että Yalumba pyrkii tasapainottamaan ympäristöhuolta ja sen sosiaalisia suhteita takaamalla riittävän kassavirran ja tuottamalla kannattavaa, sitkeää, keskimääräistä tuottoa osakkeenomistajille.</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74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0" y="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Yalumba Wine Compan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6" name="Θέση εικόνας 5" descr=""/>
          <p:cNvPicPr/>
          <p:nvPr/>
        </p:nvPicPr>
        <p:blipFill>
          <a:blip r:embed="rId1"/>
          <a:stretch/>
        </p:blipFill>
        <p:spPr>
          <a:xfrm>
            <a:off x="7812000" y="6308640"/>
            <a:ext cx="1079640" cy="317520"/>
          </a:xfrm>
          <a:prstGeom prst="rect">
            <a:avLst/>
          </a:prstGeom>
          <a:ln w="0">
            <a:noFill/>
          </a:ln>
        </p:spPr>
      </p:pic>
      <p:pic>
        <p:nvPicPr>
          <p:cNvPr id="23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8" name="Text Box 5"/>
          <p:cNvSpPr/>
          <p:nvPr/>
        </p:nvSpPr>
        <p:spPr>
          <a:xfrm>
            <a:off x="507960" y="681120"/>
            <a:ext cx="7664400" cy="31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u="sng">
                <a:solidFill>
                  <a:srgbClr val="ffffff"/>
                </a:solidFill>
                <a:uFillTx/>
                <a:latin typeface="Calibri"/>
                <a:ea typeface="Times New Roman"/>
              </a:rPr>
              <a:t>Ohjaimet ja esteet</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ärkeimmät tekijät ovat Rosendahlin kohdennettu kestävyys, joka alkoi in-house PhD väitöskirjasta, joka käsitteli ympäristövaikutuksia yrityksen organisaatiokulttuuriin. Tämä johti havaintoon, että Yalumba voisi saavuttaa suurimman vaikutuksen vahvistamalla sosiaalisia näkökulmia kestävyydestä – muuttamalla ihmisten mieliä ja käyttäytymistä. Suurin este on ollut ihmisten tietämättömyys siitä, mitä tarkoittaa toimia kestävästi.</a:t>
            </a:r>
            <a:endParaRPr b="0" lang="en-US" sz="18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4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1"/>
          <p:cNvSpPr/>
          <p:nvPr/>
        </p:nvSpPr>
        <p:spPr>
          <a:xfrm>
            <a:off x="0" y="0"/>
            <a:ext cx="851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Yalumba Wine Company </a:t>
            </a:r>
            <a:endParaRPr b="0" lang="en-US" sz="2400" spc="-1" strike="noStrike">
              <a:solidFill>
                <a:srgbClr val="ffffff"/>
              </a:solidFill>
              <a:latin typeface="Times New Roman"/>
            </a:endParaRPr>
          </a:p>
        </p:txBody>
      </p:sp>
      <p:pic>
        <p:nvPicPr>
          <p:cNvPr id="240" name="Θέση εικόνας 5" descr=""/>
          <p:cNvPicPr/>
          <p:nvPr/>
        </p:nvPicPr>
        <p:blipFill>
          <a:blip r:embed="rId1"/>
          <a:stretch/>
        </p:blipFill>
        <p:spPr>
          <a:xfrm>
            <a:off x="7812000" y="6308640"/>
            <a:ext cx="1079640" cy="317520"/>
          </a:xfrm>
          <a:prstGeom prst="rect">
            <a:avLst/>
          </a:prstGeom>
          <a:ln w="0">
            <a:noFill/>
          </a:ln>
        </p:spPr>
      </p:pic>
      <p:pic>
        <p:nvPicPr>
          <p:cNvPr id="24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2" name="Text Box 5"/>
          <p:cNvSpPr/>
          <p:nvPr/>
        </p:nvSpPr>
        <p:spPr>
          <a:xfrm>
            <a:off x="395280" y="770040"/>
            <a:ext cx="7777080" cy="424476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lektoivat kysymykset</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Calibri"/>
              </a:rPr>
              <a:t> </a:t>
            </a:r>
            <a:r>
              <a:rPr b="1" lang="fi-FI" sz="1800" spc="-1" strike="noStrike">
                <a:solidFill>
                  <a:srgbClr val="ffffff"/>
                </a:solidFill>
                <a:latin typeface="Calibri"/>
              </a:rPr>
              <a:t>Mitä on liiketoimintamallin menestys?</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kä on muuttunut liiketoimintamallissa, joka takaa kestävyyden?</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tä tarvitaan yrityksen sisällä, jotta uudistavat liiketoimintamallit takaavat kestävyyden ja taloudellisen hyödyn?</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ieti tapoja listätä yksilöiden tietoisuutta kestävästä liiketoiminnasta.</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 Yalumba Wine Company </a:t>
            </a:r>
            <a:endParaRPr b="0" lang="en-US" sz="2400" spc="-1" strike="noStrike">
              <a:solidFill>
                <a:srgbClr val="ffffff"/>
              </a:solidFill>
              <a:latin typeface="Times New Roman"/>
            </a:endParaRPr>
          </a:p>
        </p:txBody>
      </p:sp>
      <p:sp>
        <p:nvSpPr>
          <p:cNvPr id="246" name="Text Box 5"/>
          <p:cNvSpPr/>
          <p:nvPr/>
        </p:nvSpPr>
        <p:spPr>
          <a:xfrm>
            <a:off x="395280" y="770040"/>
            <a:ext cx="7777080" cy="314604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Lähteet</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Kiitos!</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Linnansaari, S Janna M</cp:lastModifiedBy>
  <dcterms:modified xsi:type="dcterms:W3CDTF">2016-08-07T21:20:08Z</dcterms:modified>
  <cp:revision>172</cp:revision>
  <dc:subject/>
  <dc:title>@MINDSET: Managing Social Relations in Schools</dc:title>
</cp:coreProperties>
</file>