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CA495-DFBF-41BF-992E-C144AF30C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9D994-7AD2-415F-A10D-F7A3561BC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9B90D-13D8-4288-9BF7-65858C1E3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0B4A4-EE76-4DF3-8E13-60D03009E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E2D16-C52A-47B1-A609-066CCF6C00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FEB19-4D0C-4AC9-B8DD-0C9290BF8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39378-3751-4618-95C7-BAB469396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50660-8E8C-49E0-BE73-028573846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12725-A71B-49C7-A21A-382AC757F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161D79-08E3-46BD-BF3E-8DF12C63B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CC1B8-0A91-4438-B83A-ABE0B1EF6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8D896-B9C0-45B8-9011-DC8B638F8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CE3C9-102C-470C-81E4-AD419A18B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C5A76-D5A9-433B-8303-1A5395220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7D750-27EA-4D02-A2C2-D76C40EC0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E144D-1F63-4F53-AB4E-57CB7C927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40075D-C3D4-4F5F-9D35-AF0B9D4B00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5D276A-4FB5-4743-BAC0-ED7F86AE54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C2ED2F-B491-49AD-B05E-BD1D761E5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8C189-B4D8-43B2-B095-314DE7D547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71AD34-8EF9-4DC0-893B-A6C2007CB4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9A6A1E-711C-4D82-BD83-EB846B98FE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D632D-C243-48AE-A1CD-B1EE6CABD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FD46B8-0F5C-45EA-81F4-39A74A1555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BAE07-4D04-4B21-AB54-BDED42B52A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5A4687-FE05-41D6-B85C-7118E3A0FB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B53803-C990-4E3F-9B9B-141A8A253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329053-DB5E-4CFB-8E0C-B223CCA394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7D3F7D-0EDA-43C8-A8A7-5CBC7F5C7E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78BC9A-1D36-405B-BBA5-A68BF48B08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8FB563-C83B-4F38-8F61-83EA14937A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C3BE69-7205-4B23-B34A-70B87A0117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206528-9780-42BF-88ED-1D4266AEE2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D0F52-95B7-42E2-89BD-DC6955A7E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E7847D-B93E-4022-8063-1B8E628E2D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897EC-A7E9-4CF5-AAED-03525C14EC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922FAC-4B9D-471C-B727-DCDD5017FF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2FEB98-F091-4BFE-B7A3-03B90BF7D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B7BFA4-B669-4D20-8724-8DFEDDBCA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CA7EA7-30E0-42F8-9609-619A37A8C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7E60D0-7B1C-4772-93DC-D10E14762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B8DA23-59FA-402D-883C-7A9C9E4BA5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A4766F-1FE8-4851-9EA9-58D7FAB357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DD47F-BBEE-4B9F-8EBB-FE716282A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D0925-82C8-4C55-8041-0F72F6B58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C2C74-BC18-4E4C-9313-CE9F01E66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14ADE-42A3-42BA-B9CE-CD7E74382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9C137-3EC4-42E4-B81A-77919D5E1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604C-D642-4E79-8D4E-0FDF53080595}"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22E7-4209-4EC7-B429-7A5DAF6574AB}"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9674-7C85-4BB3-ABBE-80DDF037E284}"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354E5-07E4-4854-972A-A0291A602B48}"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708360" y="2565360"/>
            <a:ext cx="4896000" cy="175248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O2 – Ympäristöohjelma</a:t>
            </a:r>
            <a:endParaRPr b="0" lang="en-US" sz="2400" spc="-1" strike="noStrike">
              <a:solidFill>
                <a:srgbClr val="ffffff"/>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urse 3 – Yrittäjyys – Älykäs energia</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ule 4 – Vihreä yrittäjyys, tapaustutkimus</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iikot 37-39</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6846840" y="5013360"/>
            <a:ext cx="67644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Royal mosa</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49280" y="549360"/>
            <a:ext cx="8442360" cy="513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usiness malli</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yal Mosa tarjoaa asiakkailleen innovatiivisia laadukkaita keraamisia tuotteita, jotka on valmistettu painottaen suunnittelua ja kestävyyttä toteuttamalla kehdosta kehtoon filosofiaa. Yhtiön innovaatio on saavutettu erityisellä Mosa suunnittelutiimillä, jossa suunnittelutiimi tekee läheistä yhteistyötä ihmisten kanssa kehittäen uusien kokoelmien arkkitehtejä. Mosa keskittyy liiketoimintamallissa ammatillisiin markkinoihin, joissa pääpainoina ovat arkkitehdit ja osakeyhtiöt. Joissakin maissa ne keskittyvät myös taloyhtiöihin.</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 myös edelleen kehittävät ja toteuttavat kehdosta kehtoon periaatteiden mukaisesti yhtiön tuotteita ja prosesseja. CTC erottelee biologisen ja teknisen syklin. Biologinen kierto, tuotteet valmistetaan luonnon materiaaleista, jotka toimivat organismien ruokana käytön loppuessa. Koska monet tuotteet eivät kompostoidu, ne ovat ensisijaisesti sopivia tekniseen sykliin. Mosa on onnistunut tekemään ne vaarattomiksi ympäristölle. Mosa käyttää elinkaaren analyysia määrittääkseen tuotteiden elinkaaren ympäristövaikutukset ja vähentääkseen tätä vaikutusta.</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7 f.</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0" y="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Royal mo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1" name="Θέση εικόνας 5" descr=""/>
          <p:cNvPicPr/>
          <p:nvPr/>
        </p:nvPicPr>
        <p:blipFill>
          <a:blip r:embed="rId1"/>
          <a:stretch/>
        </p:blipFill>
        <p:spPr>
          <a:xfrm>
            <a:off x="7812000" y="6308640"/>
            <a:ext cx="1079640" cy="317520"/>
          </a:xfrm>
          <a:prstGeom prst="rect">
            <a:avLst/>
          </a:prstGeom>
          <a:ln w="0">
            <a:noFill/>
          </a:ln>
        </p:spPr>
      </p:pic>
      <p:pic>
        <p:nvPicPr>
          <p:cNvPr id="232"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3"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Text Box 9"/>
          <p:cNvSpPr/>
          <p:nvPr/>
        </p:nvSpPr>
        <p:spPr>
          <a:xfrm>
            <a:off x="378000" y="741240"/>
            <a:ext cx="7777080" cy="540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Hyödyt ja vaikutukset</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Mosa on tehnyt huomattavia vaikutuksia materiaaleja ja reseptejä koskien. Laatat eivät vapauta haitallisia yhdisteitä eivätkä vahingoita ympäristöä, jos polkymyynnään käytön jälkeen. Tuotteet ovat myös kierrätettäviä . Nykyaikaistamisohjelman kautta Mona on onnistunut vähentämään CO2 – päästöjä 48% ja hiukkaspäästöjä 91%. Mosa on onnistunut sulkemaan jäähdytysveden kierron ja saamaan tällä tavalla vähennettyä yli 60% pohjaveden kulutusta. Sen lisäksi, että pyritään käyttämään mahdollisimman vähän energiaa, Mosa on siirtynyt lähes täysin kestävään energiaan.</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Lyhyen aikavälin yhtiö on yleensä rikki vihreän liiketoimintamallin innovaatioiden seurauksena. On odotettavissa, että uusi toiminta muodostaa suuren osuuden liikevaihdosta tulevaisuudessa ja yhtiöt myös hyötyvät kestävämmästä yrityksestä ja se on paremmin valmis tulevaan. Lisäksi liiketoimintamalli on johtanut viiteen uuteen työpaikkaan.</a:t>
            </a:r>
            <a:endParaRPr b="0" lang="en-US" sz="18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0" lang="en-GB"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7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Royal mo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6" name="Θέση εικόνας 5" descr=""/>
          <p:cNvPicPr/>
          <p:nvPr/>
        </p:nvPicPr>
        <p:blipFill>
          <a:blip r:embed="rId1"/>
          <a:stretch/>
        </p:blipFill>
        <p:spPr>
          <a:xfrm>
            <a:off x="7812000" y="6308640"/>
            <a:ext cx="1079640" cy="317520"/>
          </a:xfrm>
          <a:prstGeom prst="rect">
            <a:avLst/>
          </a:prstGeom>
          <a:ln w="0">
            <a:noFill/>
          </a:ln>
        </p:spPr>
      </p:pic>
      <p:pic>
        <p:nvPicPr>
          <p:cNvPr id="23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8" name="Text Box 5"/>
          <p:cNvSpPr/>
          <p:nvPr/>
        </p:nvSpPr>
        <p:spPr>
          <a:xfrm>
            <a:off x="507960" y="681120"/>
            <a:ext cx="7664400" cy="529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u="sng">
                <a:solidFill>
                  <a:srgbClr val="ffffff"/>
                </a:solidFill>
                <a:uFillTx/>
                <a:latin typeface="Calibri"/>
                <a:ea typeface="Times New Roman"/>
              </a:rPr>
              <a:t>Ohjaimet ja esteet</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Mosan taustalla oli uskomus, että kestävät kehitykset selviävät pitkällä aikavälillä ja he halusivat olla kannattava yritys myös tulevaisuudessa.</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Mosa näkee kehdosta kehtoon – ajattelutavan tuntemattomana. On paljon painoarvoa CO2, mutta yleisö ei ole tietoinen resurssipulasta ja sen vaikutuksista CO2 ohella ympäristölle. Finanssikriisi on johtanut joidenkin Mosan potentiaalisten kuluttajien lyhyen aikavälin lähestymistapojen käyttöön ja hintojen tarkasteluun.</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On ollut haasteellista saneerata tuotteita, jotka elävät C2C standardien mukaan. Kesti yli kaksi vuotta pidempään tutkimuksessa ja tuotekehityksessä sekä out-of-pocket investoinneissa, tutkimuksessa ja neuvonnassa.</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On myös osoittautunut vaikeaksi saada todella arvokasta teknistä sykliä, joka on Mosalla vielä kesken ja vaatii paljon investointeja. Tämä prosessi vaatii kaikkien asiaankuuluvia toimijoita ja edellyttää lähes tarkat, tieteelliset laskelmat parhaisiin kestävien tuotteiden ratkaisuihin.</a:t>
            </a:r>
            <a:endParaRPr b="0" lang="en-US" sz="18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7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1"/>
          <p:cNvSpPr/>
          <p:nvPr/>
        </p:nvSpPr>
        <p:spPr>
          <a:xfrm>
            <a:off x="0" y="0"/>
            <a:ext cx="851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Royal mosa</a:t>
            </a:r>
            <a:endParaRPr b="0" lang="en-US" sz="2400" spc="-1" strike="noStrike">
              <a:solidFill>
                <a:srgbClr val="ffffff"/>
              </a:solidFill>
              <a:latin typeface="Times New Roman"/>
            </a:endParaRPr>
          </a:p>
        </p:txBody>
      </p:sp>
      <p:pic>
        <p:nvPicPr>
          <p:cNvPr id="240" name="Θέση εικόνας 5" descr=""/>
          <p:cNvPicPr/>
          <p:nvPr/>
        </p:nvPicPr>
        <p:blipFill>
          <a:blip r:embed="rId1"/>
          <a:stretch/>
        </p:blipFill>
        <p:spPr>
          <a:xfrm>
            <a:off x="7812000" y="6308640"/>
            <a:ext cx="1079640" cy="317520"/>
          </a:xfrm>
          <a:prstGeom prst="rect">
            <a:avLst/>
          </a:prstGeom>
          <a:ln w="0">
            <a:noFill/>
          </a:ln>
        </p:spPr>
      </p:pic>
      <p:pic>
        <p:nvPicPr>
          <p:cNvPr id="24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2" name="Text Box 5"/>
          <p:cNvSpPr/>
          <p:nvPr/>
        </p:nvSpPr>
        <p:spPr>
          <a:xfrm>
            <a:off x="395280" y="770040"/>
            <a:ext cx="7777080" cy="519084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lektoivat kysymykset</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Calibri"/>
              </a:rPr>
              <a:t>Miten tuotteet etenevät, jotta voidaan selittää kehdosta kehtoon liiketoimintamalli?</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kä ovat (positiiviset ja negatiiviset) vaikutukset kestävään liiketoimintaan?</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en ne liittyvät yrityksen taloudelliseen menestykseen?</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loudelliselta kannalta katsottuna ovatko ympäristöhyödyt suuremmat kuin taloudelliset?</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ä voidaan tehdä, että tasapaino tai menestys taataan molemmin puolin?</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Royal mosa</a:t>
            </a: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Lähteet</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Kiitos!</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Linnansaari, S Janna M</cp:lastModifiedBy>
  <dcterms:modified xsi:type="dcterms:W3CDTF">2016-08-07T21:55:46Z</dcterms:modified>
  <cp:revision>174</cp:revision>
  <dc:subject/>
  <dc:title>@MINDSET: Managing Social Relations in Schools</dc:title>
</cp:coreProperties>
</file>