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A8B29-995E-44D2-9C0C-289C34924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0E742-B1EA-49D7-BBC0-B61B659C9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D63AE0-C11E-46BB-96BE-04656B73B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19B63-AB1B-4770-84BA-7A36090E7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975D50-51B4-4A5C-9D87-BD0FE750B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24478-D9DC-4122-931C-9A362E3CD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45123-0950-4DD1-A21B-FC4B9A6B1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98B06-497C-4740-9B61-730CA838EE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1649D-BDE2-46E4-95D9-4B7F0A0A3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718DF-2503-46B3-9014-4B48B1350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95C83-8D39-4417-900E-A10A8813C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A5339-9E85-4CF6-BBCD-1C3614AB7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B46FB-4CE0-400A-B502-7F03A0950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80F18-3EFE-487A-ACF7-0CE6E6963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0338DD-C7C2-4E99-9DB4-59AEB6D882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D7CAC-E3F4-482A-BE49-D5477BF5A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2DF7B8-0BB1-4B7B-B00F-E41DD073E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90AB46-951F-454E-94FF-A9F4ED9FA3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FD5D29-49F9-4C71-9D11-BEA4019A0B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DC77DD-2C1A-4243-94E5-537D1DF84F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1D6D2D-4E51-4A90-AB6A-B2004AE57E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BDB64E-B0F8-4419-9A1B-AB112A2D4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4FF8A-BF8C-42B1-AC6F-6E32BBA08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B900A5-D227-45E8-9B92-C1278CEF62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AA9E2-E7F9-4B99-894B-E16EDE3EC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6B25C8-14B6-4DBA-ADDC-B8E727105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9BE81E-3D77-4A84-AD45-66C2345AE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378CDE-49C7-487E-8F61-4365186835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7AC2CC-C55F-41B2-8BED-35DB968268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093A5F-1DAE-4570-80BD-BB261D6EFF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7168F9-4BE2-4F4C-B596-3115A67FA3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C7DE35-0E3D-4ABC-8BD5-45652EFD49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2D4DC9-6AC5-445F-927F-541DFDC3F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09AE7-2746-436D-80E6-13BFB2F5B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57BEB3-4A62-4E8A-AEC1-7064ECEF4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D49267-88A9-48E4-8C9B-9315FEE542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2ED47C-DD27-49CD-8A64-8382EAC7BE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6D77C0-5A93-4A4B-90D4-3D56FBB26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CEE49-EA8C-4F16-9649-C9296DB13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0DA527-7420-482E-B659-F552D3439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04FDF4-120D-4AD6-85A9-C87FBF4A37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02DCAA-110D-4534-B391-3AAE173E25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2A8C24-A002-461D-BF3B-E09301DBAD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23E11-210A-4E84-A17B-D09744753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81320-ACF4-4D5A-8D55-A67C8FF28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2C7D7-F66C-4BF1-9B53-ACE243DE7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3CA89-EBF1-47DC-9FD6-6019609B6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E5AD3-2D5D-4BA8-A2A4-1FE2D69DE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03805-7E97-4836-BEAA-53029AD3C6CA}"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6A1B-076B-47BC-B148-93B34AA6628C}"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1E362-9611-4B5E-8158-1B9EBFEC810F}"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87EC-68F4-4F01-8B50-6065782BFA04}"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635280" y="2491920"/>
            <a:ext cx="4896000" cy="175284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O2 – Ympäristöohjelma</a:t>
            </a:r>
            <a:endParaRPr b="0" lang="en-US" sz="2400" spc="-1" strike="noStrike">
              <a:solidFill>
                <a:srgbClr val="ffffff"/>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urse 3 – Yrittäjyys – Älykäs energia</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ule 4 – Vihreä yrittäjyys, tapaustutkimus</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iikot 43-45</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6846840" y="5013360"/>
            <a:ext cx="67644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68360" y="765000"/>
            <a:ext cx="7740720" cy="5445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usiness malli</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emens Building Technologies arvolupausta koskeva sopimus palveluista on tarjota asiakkailleen Matalan riskin ja omakustanne-energian säästäviä ratkaisuja suurten rakennusten ja alusten osalta. Energiansäästöt johtavat sekä vähempään rahankäyttöön liittyen energiankulutukseen ja CO2 - päästöihin.</a:t>
            </a:r>
            <a:r>
              <a:rPr b="1" lang="en-US" sz="1800" spc="-1" strike="noStrike">
                <a:solidFill>
                  <a:srgbClr val="ffffff"/>
                </a:solidFill>
                <a:latin typeface="Calibri"/>
              </a:rPr>
              <a:t>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novatiivinen liiketoimintamalli on kaksiosainen. Ensinnäkin Siemens voi tarjota asiakkailleen takeen täyttävät hyvin erityiset energiansäästötavoitteet perustamalla ratkaisut tekniikohin ja erityisiin osaamisen alueisiin. Jos nämä säästöt eivät toteudu, Siemens maksaa erotuksen asiakkailleen. Investointi tarjoaa hyvin pienen riskin asiakkaille. Jos säästöt ovat ajateltua suuremmat, lisäetu jaetaan Siemensin ja asiakkaan kesken. Tämä luo kannustmen Siemensille pyrkiä yli suorituskyvyn ja motivoiden asiakasta pelaamaan aktiivisesti auttamaan energiankulutuksen vähentämisessä niin paljon kuin mahdollista saaden vielä suuremman hyödyn. Suorituskyvyn sopimus auttaa myös tiivistämään yhteistyötä Siemensin ja asiakkaiden välillä, mikä on välttämätön energian säästön toteutumiseksi.</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r>
              <a:rPr b="0" lang="en-US" sz="1200" spc="-1" strike="noStrike">
                <a:solidFill>
                  <a:srgbClr val="ffffff"/>
                </a:solidFill>
                <a:latin typeface="Calibri"/>
              </a:rPr>
              <a:t>Henriksen et al. 2012., p. 58 f.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 Box 9"/>
          <p:cNvSpPr/>
          <p:nvPr/>
        </p:nvSpPr>
        <p:spPr>
          <a:xfrm>
            <a:off x="378000" y="741240"/>
            <a:ext cx="7777080" cy="37976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Hyödyt ja vaikutukset</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Siemensin energiansäästöratkaisut johtavat huomattaviin taloudellisiin hyötyihin lisäten rakennusten arvoa. Esimerkiksi rakennus, jolla on pienemmät käyttökustannukset kuin vastaavilla rakennuksilla, voivat antaa enemmän arvoa vuokraajille. Rakennusten omistajat voivat vahvistaa korkeamman nettotuoton lisäten liikevaihtoa ja taloudellista tehokkutta. Lisäksi energiaa säästäviä ratkaisuja voidaan lisätä yritysten ympäristöimagon ja vastuullisuusyhteistyön avulla. Viime aikohin saakka arvojen nousu on nähty oheisvaikutuksena, mutta sen ansiot ja merkitys kasvaa jatkuvasti.</a:t>
            </a:r>
            <a:endParaRPr b="0" lang="en-US" sz="1800" spc="-1" strike="noStrike">
              <a:solidFill>
                <a:srgbClr val="ffffff"/>
              </a:solidFill>
              <a:latin typeface="Times New Roman"/>
            </a:endParaRPr>
          </a:p>
          <a:p>
            <a:pPr algn="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58 f.</a:t>
            </a:r>
            <a:endParaRPr b="0" lang="en-US" sz="1200" spc="-1" strike="noStrike">
              <a:solidFill>
                <a:srgbClr val="ffffff"/>
              </a:solidFill>
              <a:latin typeface="Times New Roman"/>
            </a:endParaRPr>
          </a:p>
        </p:txBody>
      </p:sp>
      <p:sp>
        <p:nvSpPr>
          <p:cNvPr id="234"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 Box 5"/>
          <p:cNvSpPr/>
          <p:nvPr/>
        </p:nvSpPr>
        <p:spPr>
          <a:xfrm>
            <a:off x="507960" y="493560"/>
            <a:ext cx="7664400" cy="444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u="sng">
                <a:solidFill>
                  <a:srgbClr val="ffffff"/>
                </a:solidFill>
                <a:uFillTx/>
                <a:latin typeface="Calibri"/>
                <a:ea typeface="Times New Roman"/>
              </a:rPr>
              <a:t>Ohjaimet ja esteet</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Yleinen Siemensin energiansäästöratkaisujen aiheuttaja liittyy mihin yhtiö viittaa “megatrendinä” nimittäin jatkuvana väestönkasvuna yhdistettynä kaupungistumiseen ja energian kasvavaan kysyntään. Nykyään kaupungit tuottavat 80% mailman CO2 – päästöistä, mutta siellä on vain 50% mailman väestöstä. Tulevaisuudessa kaupungin väestö kasvaa sekä energian tarve ja tämä merkitsee kasvavia markkinoita urakointipalveluille ja tarjouksille. Samoin nopea tekninen kehitys mahdollistaa toimivat ratkaisut korkeampaan energian säästöön, joka tarjoaa perustan energian säästön palveluille tasaisemman luonteen, joissa syklit ovat yli 10 vuotta.</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58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8"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 Box 5"/>
          <p:cNvSpPr/>
          <p:nvPr/>
        </p:nvSpPr>
        <p:spPr>
          <a:xfrm>
            <a:off x="395280" y="770040"/>
            <a:ext cx="7777080" cy="47736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lektoivat kysymykset</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Calibri"/>
              </a:rPr>
              <a:t>Mikä on nähtävillä oleva tavoite yhtiön liiketoimintamallin muutokselle?</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en käyttöönotto hoidetaan sisäisesti?</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kä ovat yrityksen resurssit?</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kä on asianomaisen yrityksen ulkoinen näkymä?</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kä ovat tämän ulkoisen näkymän vaikutukset ja sisäiset voimavarat?</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kä ovat tärkeimmät erot verrattuna pk – yrityksiin?</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en omistaja – vuokraaja ristiriita esiintyy?</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Text Box 5"/>
          <p:cNvSpPr/>
          <p:nvPr/>
        </p:nvSpPr>
        <p:spPr>
          <a:xfrm>
            <a:off x="395280" y="770040"/>
            <a:ext cx="7777080" cy="314604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Lähteet</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Kiitos!</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Linnansaari, S Janna M</cp:lastModifiedBy>
  <dcterms:modified xsi:type="dcterms:W3CDTF">2016-08-07T22:26:15Z</dcterms:modified>
  <cp:revision>181</cp:revision>
  <dc:subject/>
  <dc:title>@MINDSET: Managing Social Relations in Schools</dc:title>
</cp:coreProperties>
</file>