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4F35F-FD97-4BB6-A857-C3DA962A9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A2AF3-2498-4E2C-AA22-720BB7503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2935A-5489-4B02-AD01-D4E289545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673A6-B512-4F39-87BC-40DC970F3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72BAF-49AB-4EBE-8011-545AE9E36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59BCB-C22E-4CC1-A858-941CC4F7F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A14FD-CDA3-4177-8D09-83D93C9EF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8FACD8-38EA-494C-85D9-76A05D4CF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C5086-F261-4714-B414-285C7B443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C2761-0381-4C90-8238-55E5FC1025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29F11-4303-41E9-AD9C-39C0A7462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17FA4-C8A2-458C-9ECF-A2C72ECAE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1E704-738D-45A8-84FD-5D4BF8FA1F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98B6A-F62C-4F7F-A024-0938B3CC9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A3427-FAAB-4677-9805-361331D1C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35036-8BFB-43E4-9BB1-1ED398BF2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74DAC-5FAE-48F3-9E3B-F5FA4DCE2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0EC1FC-2678-4C02-8AA5-65148AB544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236A61-A96D-4A36-9441-88474E06ED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587ECA-D6AB-45FB-82F1-E186FB0D1F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A84BBD-F57A-4008-B826-1D4A559998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0649B1-0A89-47FF-97E0-4C3D381EA3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061E3-A5E3-404A-961F-D77FA61ED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B58900-9400-48EC-963E-8D48B95BFF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A8B5C1-FFE5-47E6-BD86-E958777AA9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0DF66-FD91-415A-B7F7-69DCDD0A01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1D8366-AE43-4303-BB0E-30F0D29C3C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689E2B-65BA-4BC8-BAED-A8A0A85A64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B5B24D-682C-4236-B60A-358AD73A9D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A709F8-2CAC-4701-9921-B974E176F9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002227-AA9F-4F1B-8FBF-EA6F146922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5E7B34-4946-46EA-AEBF-9D3066E003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183E9B-C758-4135-9160-96D2A630F2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0F179-3678-46C9-AEEF-73ECD8724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746BF2-17FD-443A-A516-3C766C7BA8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DEE203-7C7B-4D3F-8F4E-CDA7DA3BBD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C062FF-0D21-4485-8D33-1C7A148016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D28DBB-5757-437B-A17E-70BF43521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D73A92-C369-470E-AA38-80D93BFE73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A95C6A-5895-4CD7-AE6E-B618D959CB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9D8A71-1276-4F72-A864-73FAC6EC00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D900BE-A49D-432D-A944-C6EA24CB65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68DD4D-E7DA-4EC4-AEFD-D8314C6C09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22350-669B-4FBC-A21F-037623943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BA9C4-1AFF-414A-A0B3-72660C462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58925-FB9B-4928-96DF-97F0AFD89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3D7FE-AE5C-45AD-916C-B5D278704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1D480-8658-438B-BF02-56C1D22F42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87711-9B13-4768-8E8C-D153AD20D014}"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4F22-2DE8-4823-9077-EA260E479D79}"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9ADD-D443-494B-9CBF-252E8E81AFAA}"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11D5F-F1AF-4599-91DB-DF7D709990A3}"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635280" y="2565360"/>
            <a:ext cx="4896000" cy="175248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O2 – Ympäristöohjelma</a:t>
            </a:r>
            <a:endParaRPr b="0" lang="en-US" sz="2400" spc="-1" strike="noStrike">
              <a:solidFill>
                <a:srgbClr val="ffffff"/>
              </a:solidFill>
              <a:latin typeface="Calibri"/>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Course 3 – Yrittäjyys – Älykäs energia</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odule 4 – Vihreä yrittäjyys, tapaustutkimus</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iikot 40-42</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veloped by: </a:t>
            </a:r>
            <a:endParaRPr b="0" lang="en-US" sz="18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Best-Institut für berufsbezogene Weiterbildung und Personaltraining</a:t>
            </a:r>
            <a:endParaRPr b="0" lang="en-US" sz="1800" spc="-1" strike="noStrike">
              <a:solidFill>
                <a:srgbClr val="ffffff"/>
              </a:solidFill>
              <a:latin typeface="Calibri"/>
            </a:endParaRPr>
          </a:p>
        </p:txBody>
      </p:sp>
      <p:pic>
        <p:nvPicPr>
          <p:cNvPr id="222" name="Θέση εικόνας 5" descr=""/>
          <p:cNvPicPr/>
          <p:nvPr/>
        </p:nvPicPr>
        <p:blipFill>
          <a:blip r:embed="rId2"/>
          <a:stretch/>
        </p:blipFill>
        <p:spPr>
          <a:xfrm>
            <a:off x="7812000" y="6308640"/>
            <a:ext cx="1079640" cy="317520"/>
          </a:xfrm>
          <a:prstGeom prst="rect">
            <a:avLst/>
          </a:prstGeom>
          <a:ln w="0">
            <a:noFill/>
          </a:ln>
        </p:spPr>
      </p:pic>
      <p:pic>
        <p:nvPicPr>
          <p:cNvPr id="223"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224" name="Picture 2" descr=""/>
          <p:cNvPicPr/>
          <p:nvPr/>
        </p:nvPicPr>
        <p:blipFill>
          <a:blip r:embed="rId4"/>
          <a:stretch/>
        </p:blipFill>
        <p:spPr>
          <a:xfrm>
            <a:off x="6846840" y="5013360"/>
            <a:ext cx="676440" cy="55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Eastex Material Exchange</a:t>
            </a:r>
            <a:endParaRPr b="0" lang="en-US" sz="2400" spc="-1" strike="noStrike">
              <a:solidFill>
                <a:srgbClr val="ffffff"/>
              </a:solidFill>
              <a:latin typeface="Times New Roman"/>
            </a:endParaRPr>
          </a:p>
        </p:txBody>
      </p:sp>
      <p:pic>
        <p:nvPicPr>
          <p:cNvPr id="226" name="Θέση εικόνας 5" descr=""/>
          <p:cNvPicPr/>
          <p:nvPr/>
        </p:nvPicPr>
        <p:blipFill>
          <a:blip r:embed="rId1"/>
          <a:stretch/>
        </p:blipFill>
        <p:spPr>
          <a:xfrm>
            <a:off x="7812000" y="6308640"/>
            <a:ext cx="1079640" cy="317520"/>
          </a:xfrm>
          <a:prstGeom prst="rect">
            <a:avLst/>
          </a:prstGeom>
          <a:ln w="0">
            <a:noFill/>
          </a:ln>
        </p:spPr>
      </p:pic>
      <p:pic>
        <p:nvPicPr>
          <p:cNvPr id="22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8" name="Text Box 5"/>
          <p:cNvSpPr/>
          <p:nvPr/>
        </p:nvSpPr>
        <p:spPr>
          <a:xfrm>
            <a:off x="468360" y="765000"/>
            <a:ext cx="8280360" cy="3868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Business malli</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astex Material Exchange on web-pohjainen alusta, joka helpottaa vaihtoa materiaalien välillä. Eastex Material Exchange arvolupaus on tehdä mahdolliseksi pk – yrityksen mahdollisuuden löytää halvempia raaka-aineita ja laitteita, tai vaihtamaan ylimääräisen aineen samalla alentaen jätteiden syntymistä.</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usta on maksuton kaikille jäsenille; palvelu, joka on pääosin rahoitettu kuntien rahoituksesta. Hallinta kuitenkin luovutettiin yksityiselle joulukuussa 2010 (Kirkkaanvihreä). Tavoitteena oli tehdä alustasta itsekestävä.</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ustaa voivat myös käyttää julkiset organisaatiot ja sosiaaliset yritykset, hyväntekeväisyysjärjestöt. Resurssien kannalta Eastex Material Exchange alusta on hyötynyt suuresti kuntien avustuksista sekä maakuntien toimista.</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65 f.</a:t>
            </a:r>
            <a:endParaRPr b="0" lang="en-US" sz="1200" spc="-1" strike="noStrike">
              <a:solidFill>
                <a:srgbClr val="ffffff"/>
              </a:solidFill>
              <a:latin typeface="Times New Roman"/>
            </a:endParaRPr>
          </a:p>
        </p:txBody>
      </p:sp>
      <p:sp>
        <p:nvSpPr>
          <p:cNvPr id="229"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Θέση εικόνας 5" descr=""/>
          <p:cNvPicPr/>
          <p:nvPr/>
        </p:nvPicPr>
        <p:blipFill>
          <a:blip r:embed="rId1"/>
          <a:stretch/>
        </p:blipFill>
        <p:spPr>
          <a:xfrm>
            <a:off x="7812000" y="6308640"/>
            <a:ext cx="1079640" cy="317520"/>
          </a:xfrm>
          <a:prstGeom prst="rect">
            <a:avLst/>
          </a:prstGeom>
          <a:ln w="0">
            <a:noFill/>
          </a:ln>
        </p:spPr>
      </p:pic>
      <p:pic>
        <p:nvPicPr>
          <p:cNvPr id="23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2"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Text Box 9"/>
          <p:cNvSpPr/>
          <p:nvPr/>
        </p:nvSpPr>
        <p:spPr>
          <a:xfrm>
            <a:off x="378000" y="741240"/>
            <a:ext cx="7777080" cy="36151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ea typeface="Times New Roman"/>
              </a:rPr>
              <a:t>Hyödyt ja vaikutukset</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Ympäristövaikutus johtuu alustassa esiintyvien materiaalien vaihdosta ja alustan uudelleenkäytöstä.</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loudelliselta kannalta materiaalin vaihto auttaa jäseniä välttämään jätehuollon kustannukset mukaan lukien kuljetuskustannukset ja kaatopaikkaverot. Sallimalla alustan jäsenien raaka-aineiden saannin halvemmalla kuin muuten, on mahdollista säästää rahaa.</a:t>
            </a:r>
            <a:endParaRPr b="0" lang="en-US" sz="1800" spc="-1" strike="noStrike">
              <a:solidFill>
                <a:srgbClr val="ffffff"/>
              </a:solidFill>
              <a:latin typeface="Times New Roman"/>
            </a:endParaRPr>
          </a:p>
          <a:p>
            <a:pPr algn="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Calibri"/>
              </a:rPr>
              <a:t>Henriksen et al. </a:t>
            </a:r>
            <a:r>
              <a:rPr b="0" lang="en-GB" sz="1200" spc="-1" strike="noStrike">
                <a:solidFill>
                  <a:srgbClr val="ffffff"/>
                </a:solidFill>
                <a:latin typeface="Calibri"/>
              </a:rPr>
              <a:t>2012., p. 65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Eastex Material Exchan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Θέση εικόνας 5" descr=""/>
          <p:cNvPicPr/>
          <p:nvPr/>
        </p:nvPicPr>
        <p:blipFill>
          <a:blip r:embed="rId1"/>
          <a:stretch/>
        </p:blipFill>
        <p:spPr>
          <a:xfrm>
            <a:off x="7812000" y="6308640"/>
            <a:ext cx="1079640" cy="317520"/>
          </a:xfrm>
          <a:prstGeom prst="rect">
            <a:avLst/>
          </a:prstGeom>
          <a:ln w="0">
            <a:noFill/>
          </a:ln>
        </p:spPr>
      </p:pic>
      <p:pic>
        <p:nvPicPr>
          <p:cNvPr id="23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7" name="Text Box 5"/>
          <p:cNvSpPr/>
          <p:nvPr/>
        </p:nvSpPr>
        <p:spPr>
          <a:xfrm>
            <a:off x="488880" y="681120"/>
            <a:ext cx="7664400" cy="445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u="sng">
                <a:solidFill>
                  <a:srgbClr val="ffffff"/>
                </a:solidFill>
                <a:uFillTx/>
                <a:latin typeface="Calibri"/>
                <a:ea typeface="Times New Roman"/>
              </a:rPr>
              <a:t>Ohjaimet ja estee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Keskeinen syy jatkaa Eastex Material Exchange oli Britannian hallituksen aikomus keskittyä parantamaan resurssitehokkuutta.</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On ollut kolme keskeistä syytä perustaa Eastex Material Exchange. Ensimmäinen liittyi yrityksen aikomukseen kouluttaa käyttöön ja sen potentiaaliin. Toinen este oli saada yritykset käyttämään alustaa jatkuvalla perusteella, vaatien useampia markkinointikampanjoita. Kolmas este on ollut se, että kun yrityksiin liittyi jäsenien materiaalin vaihtoa ja sitä varten perustettiin yhteistyösuhde “jätteen” kumppanit, oli taipumus jättää alusta.</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65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8"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Eastex Material Exchan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Θέση εικόνας 5" descr=""/>
          <p:cNvPicPr/>
          <p:nvPr/>
        </p:nvPicPr>
        <p:blipFill>
          <a:blip r:embed="rId1"/>
          <a:stretch/>
        </p:blipFill>
        <p:spPr>
          <a:xfrm>
            <a:off x="7812000" y="6308640"/>
            <a:ext cx="1079640" cy="317520"/>
          </a:xfrm>
          <a:prstGeom prst="rect">
            <a:avLst/>
          </a:prstGeom>
          <a:ln w="0">
            <a:noFill/>
          </a:ln>
        </p:spPr>
      </p:pic>
      <p:pic>
        <p:nvPicPr>
          <p:cNvPr id="24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1" name="Text Box 5"/>
          <p:cNvSpPr/>
          <p:nvPr/>
        </p:nvSpPr>
        <p:spPr>
          <a:xfrm>
            <a:off x="395280" y="770040"/>
            <a:ext cx="7777080" cy="487548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eflektoivat kysymykset</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Calibri"/>
              </a:rPr>
              <a:t>Ajatellen eri ulottuvuuksia, mallilla on myönteinen vaikutus ympäristöön</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os malli ei perustu julkiseen rahoitukseen, mitä muita rahoitusvaihtoehtoja on olemassa?</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kä on suhde Eastex Material Exchangella materiaalin vaihtoon ja yrityksiin?</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uvaile sidosryhmien tärkeydet etenkin pienille start-up yrityksille.</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ä strategioita käytetään saadakseen sidosryhmät alustaan ja saadakseen pitkäaikainen suhde?</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Eastex Material Exchan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Eastex Material Exchange</a:t>
            </a:r>
            <a:endParaRPr b="0" lang="en-US" sz="2400" spc="-1" strike="noStrike">
              <a:solidFill>
                <a:srgbClr val="ffffff"/>
              </a:solidFill>
              <a:latin typeface="Times New Roman"/>
            </a:endParaRPr>
          </a:p>
        </p:txBody>
      </p:sp>
      <p:sp>
        <p:nvSpPr>
          <p:cNvPr id="246" name="Text Box 5"/>
          <p:cNvSpPr/>
          <p:nvPr/>
        </p:nvSpPr>
        <p:spPr>
          <a:xfrm>
            <a:off x="395280" y="770040"/>
            <a:ext cx="7777080" cy="314604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Lähteet</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Kiitos!</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Linnansaari, S Janna M</cp:lastModifiedBy>
  <dcterms:modified xsi:type="dcterms:W3CDTF">2016-08-07T22:10:12Z</dcterms:modified>
  <cp:revision>173</cp:revision>
  <dc:subject/>
  <dc:title>@MINDSET: Managing Social Relations in Schools</dc:title>
</cp:coreProperties>
</file>