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72A-61DC-4F18-A4A2-3458BFF7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67E-F547-4DE3-9368-E5A43C97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A1D-C7E3-4DA1-B345-D45A2439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2E0-EED1-413F-A1E3-F9F8BD7D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08B0-2924-4A65-AD36-05B3ADCE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DB44-F167-45DF-B29A-8C51C0E9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FD64-C904-400B-9557-E18B03AE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EF72-A895-4B71-A0B2-019F7D67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38A1-B174-4186-A048-CC987E6C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958F-1B7B-4290-8456-8212A15F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782A-F543-4E4C-A73A-4307CC09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9E0-20B6-49A3-95CB-307AFBBB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AE5C-E64B-4EB5-997C-66F5158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AF15-6F07-4294-82CF-EDCA6CA5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B6E1-88A9-4E18-A757-A4FAF807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015A-4911-4182-A937-943BB639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A818-7F7F-472A-92BF-850F2DD9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DD039-6E9B-462A-B8B7-2A923DC2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86F3-08F4-4AFD-914D-DEF335B2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32E7-7828-4BFA-9235-54A6B827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B9FB7-C400-4412-ADC5-D7EAE921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56AB-93BA-40B7-93D1-A57086C2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306-FECF-4A02-9635-87C43A56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987D-A602-4232-A6C1-DD8059F3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456F-9E16-4CDD-B550-6693865A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724E7-C471-4E75-A6B2-1D3128FF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0575-4C6F-40F3-B2D7-8363064A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BBA1-6A0F-4039-8E4D-E2D329ED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F37C2-CD09-4D83-931D-43887104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11FB-5B42-426D-AEB3-E0BE31B6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16F0-9819-42B4-8098-77B8E912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4D314-61FD-4222-B313-2A0AC1F8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6472-9D8E-490B-9B2E-3E8A21FB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38F-F89F-4533-9D66-99C9E71E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79BC-D872-4BAB-95AF-C571FA62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C6E9-CDD1-4983-8D64-CB7CDF40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2546-58C9-4035-B4E6-37FC3298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877D-18B1-4353-AF0D-3BE8583D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81C35-94E2-42FB-94F9-E3AA45F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1A593-1393-4F97-98B2-1DADDA2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ACD0-2D72-4F92-A99A-BBE42D34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52313-AF12-4840-8502-A78F329C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0377-EF4E-4845-8E7F-1018BF0A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D7D-4549-44FA-B478-94A7745C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3E7-89A6-496E-86BF-DECD9AEB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074-1FD7-4D8B-8044-4C342290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5E6-FBC7-4019-8641-F40A89C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3CD-9B89-48E6-A8F9-78D57C7F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B524-5523-4E72-B25E-55ECAFAF32E8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BB44-2E69-4DCE-B003-CCDC05E5A52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917E-CD6F-4EB8-B191-A5EFCD8889D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E719-EBD9-47F2-A100-046FE3B1B086}" type="slidenum">
              <a:rPr b="0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ubtitle 2"/>
          <p:cNvSpPr/>
          <p:nvPr/>
        </p:nvSpPr>
        <p:spPr>
          <a:xfrm>
            <a:off x="3997440" y="2517840"/>
            <a:ext cx="489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Corso 3 - Impresa-Energia intell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Module 4 – Case study sull’imprenditoria ver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alibri"/>
                <a:ea typeface="Arial"/>
              </a:rPr>
              <a:t>Settimane 37-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veloped b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Best-Institut für berufsbezogene Weiterbildung und Personal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7135920" y="4245120"/>
            <a:ext cx="6760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0" y="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Royal m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449280" y="549360"/>
            <a:ext cx="77407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Il modello di 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 Royal Mosa offre 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ai suoi clienti prodotti di ceramica innovativi e di alta qualità prodotti con elevata enfasi sul design e la sostenibilità attraverso l'attuazione di una filosofia </a:t>
            </a:r>
            <a:r>
              <a:rPr b="1" i="1" lang="it-IT" sz="1800" spc="-1" strike="noStrike">
                <a:solidFill>
                  <a:srgbClr val="ffffff"/>
                </a:solidFill>
                <a:latin typeface="Calibri"/>
              </a:rPr>
              <a:t>cradle to cradle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. L'innovazione della società è quindi legata a uno speciale team di progettazione Mosa che lavora a stretto contatto con gli architetti nello sviluppo di nuove collezioni. Dato che il modello di business di Mosa è centrato sui mercati professionali, i due principali target dei loro sono architetti e grandi società. In alcuni paesi, l’azienda si rivolge anche alle società immobiliar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Il modello </a:t>
            </a:r>
            <a:r>
              <a:rPr b="1" i="1" lang="it-IT" sz="1800" spc="-1" strike="noStrike">
                <a:solidFill>
                  <a:srgbClr val="ffffff"/>
                </a:solidFill>
                <a:latin typeface="Calibri"/>
              </a:rPr>
              <a:t>Cradle to Cradle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(CTC) riguarda tutti i prodotti e i processi delle Mosa. Il modello CTC introduce una separazione tra un ciclo biologico e un ciclo tecnologico. Nel ciclo biologico, i prodotti sono realizzati con materiali naturali, che vengono utilizzati come cibo al termine del loro utilizzo. Tuttavia, dato che molti prodotti non sono compostabili e sono principalmente adatti al ciclo tecnico, Mosa  lavora per renderli meno pericolosi per l'ambiente. Mosa utilizza l'analisi del ciclo di vita per determinare l‘impatto dei loro prodotti sull'ambiente e per ridurre tale impat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                  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7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Royal m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2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395280" y="9079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78000" y="741240"/>
            <a:ext cx="777708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enefici and impat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osa ha avuto un notevole impatto sul mercato per quanto riguarda i materiali dato che le  sue tegole non rilasciano composti nocivi e non danneggiano l'ambiente se vengono scartate dopo l'uso, e sono anche riciclabili. Attraverso un programma di ammodernamento Mosa è riuscitiaa ridurre le emissioni di CO2 del 48% e quelledi particolato del 91%. Mosa è anche riuscita a csotruire un ciclo dell'acqua di raffreddamento con una conseguente riduzione di oltre il 60 percento del consumo di acque sotterranee. Oltre a fare sforzi per utilizzare meno energia possibile Mosa è riuscita a  spostare quasi quasi interamente i suoi consumi verso l'energia sostenib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L’azienda è riuscita a raggiungere il pareggio di bilancio in breve tempo anche grazie al suo modello di business verde e basato sull’innovazione e dovrebbe in breve accrescere notevolmente i suoi profitti grazie alla sempre maggiore sostenibilità, che le garantisce anche tranquillità per il futuro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7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Royal m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07960" y="681120"/>
            <a:ext cx="766440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Punti di forza e barri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Un punto di forza di Mosa è la convinzione che lungo periodo solo le aziende sostenibili sopravviverann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’altra parte l’approccio CTC non è ancora comprensibile al grande pubblico. Si pone molta enfasi sulle emissioni, ma non abbastanza sull ascarsità di risorse naturali a cui andiamo incontro e sui danni che anche altre sostanze possono produrre sull’ambiente. La crisi finanzairia ha creato problemi a Mosa perché molti potenziali hanno fatto scelte basate sul prezzo piuttosto che su un ragionamento lungimir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Il passaggio all’approccio CTC è stato molto faticoso e ci sono voluti due anni di ricerca approfondita e sviluppo per raggiungere gli standard attuali, con investimenti costosi fuori bilanc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Un lavoro analogo a quello fatto sui materiali è stato fatto anche per le tecnologie utilizzate nella produzione. Il lavoro di ricerca sul ciclo tecnologico è ancora in corso e richiederà ancora notevoli investimen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7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0" y="0"/>
            <a:ext cx="85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Royal m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1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95280" y="770040"/>
            <a:ext cx="777708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Questioni sulle quali riflett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In che modo si può rendere chiaro l’approccio CTC del modello di busines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 è l’impatto (in senso positivo e negativo) di questo modello di business sostenibi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 che modo questo impatto determina il successo dell’azienda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 un punto di vista puramente economico, i benefici ambientali sono più vantaggiosi di quelli finanziari? Cosa si può fare per ottenerli entrambi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4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"/>
          <p:cNvSpPr/>
          <p:nvPr/>
        </p:nvSpPr>
        <p:spPr>
          <a:xfrm>
            <a:off x="0" y="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Royal m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770040"/>
            <a:ext cx="7777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Riferimenti bibliografi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nriksen et al. (2012): Green business model innovation. Business case study compendum. Nordic Innovation public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9" name="Textfeld 1"/>
          <p:cNvSpPr/>
          <p:nvPr/>
        </p:nvSpPr>
        <p:spPr>
          <a:xfrm>
            <a:off x="3924360" y="407664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700" spc="-1" strike="noStrike">
                <a:solidFill>
                  <a:srgbClr val="ffffff"/>
                </a:solidFill>
                <a:latin typeface="Calibri"/>
              </a:rPr>
              <a:t>Grazie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7:10:25Z</dcterms:created>
  <dc:creator>Isabel Nunes</dc:creator>
  <dc:description/>
  <dc:language>en-US</dc:language>
  <cp:lastModifiedBy>Gruppo Didattica della Fisica</cp:lastModifiedBy>
  <dcterms:modified xsi:type="dcterms:W3CDTF">2016-06-24T13:48:29Z</dcterms:modified>
  <cp:revision>180</cp:revision>
  <dc:subject/>
  <dc:title>@MINDSET: Managing Social Relations in Schools</dc:title>
</cp:coreProperties>
</file>