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F4E0A-8821-4CD7-80C5-D3EFA158A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1736-1B1D-4990-A45A-8F2CEBAB4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35254-C510-4D20-9A8C-78D38AA59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08A39-B746-4EB8-8B17-407D2702B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FBFD7-E399-4A08-AF41-DE6EDC62E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C5E63-C93E-4883-A2B6-E07F643D3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CEBF7-1786-4AC2-93CF-AAD49AAB2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E3B15-BD61-4425-9FCE-D2B0C5269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ED1C1-DEAF-4504-92C7-3114F4E47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20FFD-93BF-48A0-A70C-B5C6F59BC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7AB35-65AB-4C1F-AB85-1C6849CD2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DA3C-C3FE-4F5A-A996-E2C41066E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35C2-128C-418C-9B66-9CA7133BE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C59B2-9B09-45AC-B2B2-8355F40A6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BE03B-4E66-4FEC-9382-E77C05F82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67D48-D9D4-4D94-8A0A-922FC1856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F1D64-8FBE-4C2F-987C-E6C03AB82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2C9DC-D0EA-4E0F-9771-F7F8E97A9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4525F-7C9B-4D57-ACCD-FEB1B7371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F7133-3B7B-41BA-B04F-B43B99418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31BC7-EECF-4E9A-B98C-70560FA69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2BCF3-39B9-4C9C-BA9D-13C5BAB94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3E43-DA02-4316-BA8A-26CFB8F5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34AAB-E340-4610-921A-7B471B252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B9930-BBC3-4F3E-9CA3-7339B6E9A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B8461-AC55-42DC-8B15-0CF88DCE5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1A815-0E0D-43C7-995A-4AEF43A56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D604E-7DB2-4FEF-ADF0-A7E047330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B12103-6DA0-4CBE-A6EB-EF8C634A46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657969-1A23-49FE-B368-2C5A3455F7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21B653-F485-4DAB-B601-97FDB69FE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FA9AC-EE67-46A6-BEFC-6F5679577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4BE4D-0F4F-4707-975D-5B4A67DFE4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2E28-BCBF-418A-A194-3B6301C1B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273CC-89CA-440D-9DCB-4DF2480DE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7B2D7-849E-4AAB-86A2-0683B79F0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E3880-6166-47F9-ADF5-D9E566AC8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21B05-EF2E-4F67-BD9A-59E3C5BD8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305B6-9495-49F9-8152-0175C0D7F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70427-9717-48A2-AECB-1CEB48E23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345E4-A845-4E80-BCC3-78939F0462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E2CE7-3355-4791-8089-0CC5304478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51E99F-1974-4960-8AA1-75B88EDE17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3C78-2133-4F7C-B77D-D7579E71F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676C-E01F-41AD-9696-C3E2FA0F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BCBF-9EF7-46E1-A0D3-5DB657DD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26E0-686B-4A9E-9651-D85649F1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9212-4AE3-4C77-864C-A7C10780A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593C-3FAF-4E65-9448-BBE6328AE345}"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C3C8-89BC-4F60-A34D-DCF10FC73A5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AD52-CA28-4DFF-8BE8-CA3F9677C2A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1BFC-1482-4BAB-93B2-44FB3B7089A5}"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997080" y="2517840"/>
            <a:ext cx="4895640" cy="175248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rso 3 - Impresa-Energia intelligente</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Case study sull’imprenditoria verde </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rPr>
              <a:t>Settimane 28-30</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Θέση εικόνας 5" descr=""/>
          <p:cNvPicPr/>
          <p:nvPr/>
        </p:nvPicPr>
        <p:blipFill>
          <a:blip r:embed="rId1"/>
          <a:stretch/>
        </p:blipFill>
        <p:spPr>
          <a:xfrm>
            <a:off x="7812000" y="6308640"/>
            <a:ext cx="1079640" cy="317520"/>
          </a:xfrm>
          <a:prstGeom prst="rect">
            <a:avLst/>
          </a:prstGeom>
          <a:ln w="0">
            <a:noFill/>
          </a:ln>
        </p:spPr>
      </p:pic>
      <p:pic>
        <p:nvPicPr>
          <p:cNvPr id="22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7"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Text Box 5"/>
          <p:cNvSpPr/>
          <p:nvPr/>
        </p:nvSpPr>
        <p:spPr>
          <a:xfrm>
            <a:off x="468360" y="765000"/>
            <a:ext cx="7740720" cy="513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hilips" è una società leader a livello mondiale nei settori della cura personale, degli accessori per la vita quotidiana e dell'illuminazione. L'esempio descritto nel seguito è il modello di business del comparto illuminazione. In questo modello di business l'azienda produce, installa, manutiene, monitora, recupera e, in una certa misura, riutilizza i materiali dal sistema di illuminazione. Il cliente paga solo il costo del servizio per un periodo concordato e per la funzione e la qualità desiderate. Questo modello differisce in tre aspetti da un modello di business tradizionale:</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l cliente riceve non solo un prodotto, ma un servizio;</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a relazione tra cliente e azienda passa da un rapporto di vendita a una partnership in cui il cliente riceve materiali e servizi e che si basa sulla fiducia del cliente nell’impegno dell’azienda a preservare il sistema di illuminazione</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l modello di business non è basato sul pagamento selettivo ma su un regime di pagamento continuato.</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2f.</a:t>
            </a:r>
            <a:endParaRPr b="0" lang="en-US" sz="1200" spc="-1" strike="noStrike">
              <a:solidFill>
                <a:srgbClr val="ffffff"/>
              </a:solidFill>
              <a:latin typeface="Times New Roman"/>
            </a:endParaRPr>
          </a:p>
        </p:txBody>
      </p:sp>
      <p:sp>
        <p:nvSpPr>
          <p:cNvPr id="229"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34" name="Text Box 9"/>
          <p:cNvSpPr/>
          <p:nvPr/>
        </p:nvSpPr>
        <p:spPr>
          <a:xfrm>
            <a:off x="378000" y="741240"/>
            <a:ext cx="7777080" cy="5310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L’impatto ambientale di questo modello di business è legato alla scelta del tipo di illuminazione, in quanto si tratta di un sistema (quello delle lampade LED) ad alta efficienza energetica. Inoltre il sistema è monitorato continuamente e può essere quindi ottimizzato per soddisfare le esigenze del cliente. Infine il modello risolve il problema della chiusura del circuito dei materiali - il recupero – dal punto di logistico e finanziario.</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Questo modello porta a una situazione cosiddetta </a:t>
            </a:r>
            <a:r>
              <a:rPr b="1" i="1" lang="it-IT" sz="1800" spc="-1" strike="noStrike">
                <a:solidFill>
                  <a:srgbClr val="ffffff"/>
                </a:solidFill>
                <a:latin typeface="Calibri"/>
                <a:ea typeface="Times New Roman"/>
              </a:rPr>
              <a:t>win-win</a:t>
            </a:r>
            <a:r>
              <a:rPr b="1" lang="it-IT" sz="1800" spc="-1" strike="noStrike">
                <a:solidFill>
                  <a:srgbClr val="ffffff"/>
                </a:solidFill>
                <a:latin typeface="Calibri"/>
                <a:ea typeface="Times New Roman"/>
              </a:rPr>
              <a:t>, ossia vantaggiosa dal punto di vista finanziario per entrambe le parti, i clienti e la società. I vantaggi per il cliente riguardano i servizi personalizzati e la stabilità dei costi, nonché la riduzione delle spese necessarie per l'installazione di nuovi sistemi di illuminazione. La società beneficia della partnership a lungo termine con il cliente. Inoltre l'azienda recupera preziose materie prime per il riutilizzo o la vendita.</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38" name="Text Box 5"/>
          <p:cNvSpPr/>
          <p:nvPr/>
        </p:nvSpPr>
        <p:spPr>
          <a:xfrm>
            <a:off x="507960" y="681120"/>
            <a:ext cx="766440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Punti di forza </a:t>
            </a:r>
            <a:r>
              <a:rPr b="1" lang="en-GB" sz="1800" spc="-1" strike="noStrike" u="sng">
                <a:solidFill>
                  <a:srgbClr val="ffffff"/>
                </a:solidFill>
                <a:uFillTx/>
                <a:latin typeface="Calibri"/>
                <a:ea typeface="Times New Roman"/>
              </a:rPr>
              <a:t>e barriere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Alla Philips, l’innovazione per la sostenibilità è sostenuta principalmente dalla convinzione che una vita sostanibile necessita di presupposti sociali, economici e ambientali. Inoltre, le aziende devono rispondere ai crescenti problemi dell’inquinamento mostrando, sul mercato, un impegno lungimirante per la sostenibilità.</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Da un punto di vista economico, una barriera consiste nel fatto che il modello è basato sulla costruzione di una relazione di lungo termine col cliente e quindi sulla fedeltà di quest’ultim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Da un punto di vista ambientale, sono diverse le barriere legate alla chiusura del ciclo del materiali. La Phillips riceve i materiali, ma questo non significa di per sé aver chiuso il ciclo. Ci sono poi questioni tecniche relative alla qualità dei materiali riciclati. Infine, un’altra barriera consiste nel fatto che spesso il costo di materiali nuovi e più basso di quelli necessari per recuperare e riciclar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42" name="Text Box 5"/>
          <p:cNvSpPr/>
          <p:nvPr/>
        </p:nvSpPr>
        <p:spPr>
          <a:xfrm>
            <a:off x="395280" y="770040"/>
            <a:ext cx="7777080" cy="6177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cambiamenti che questo modello può produrr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Spiegare quali sono le sfide principali e come affrontarl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gli aspetti di questo modello che hanno un impatto ambientale e quali sono le aree dell’aziende coinvolte in ess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zienda si trova effettivamente in una situazione win-win? Perché? Perché no?</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le ragioni per attuare un modello di questo tipo e che differenze ci sono con quello può fare una PM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valori sociali e ecologici alla base del modello?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le cose più importanti che un imprenditore deve fare per continuare ad avere successo sul mercato durante un cambio del modello di business?</a:t>
            </a: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3T13:34:45Z</dcterms:modified>
  <cp:revision>185</cp:revision>
  <dc:subject/>
  <dc:title>@MINDSET: Managing Social Relations in Schools</dc:title>
</cp:coreProperties>
</file>