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8F1-1DA4-4B33-BAD3-17A1260B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712-0EEF-467D-BE25-79271BE4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B2C-C545-48D0-A47E-CDE3731E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719-9FF3-4626-8194-5F36F92D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44FC-FDFA-4CBF-ADF4-1636B731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0F27-F619-42DA-B0F7-42DE2993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2492-C0B4-4508-9F8E-8AB13764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88C9-4754-42F6-BF62-5A446A68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0C3D-002B-4EC0-A32B-38C110F6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470E-D9DD-4999-95BD-ED80999F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2CBD-8B90-4ECE-8493-D18F8CCE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B1A-A176-4536-97D1-F5382FA3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3BB7-0323-48A2-B9DC-F867BEBE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805E-3F87-46B0-9F96-A139925E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1280-2529-4C46-94A5-98BFF6DB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E013-E6C4-4697-92D3-F7FE555D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1DD7-7EAC-423E-91D6-94A015B0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427C-FBED-43F7-A786-070C3817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CA9BF-8BD3-4717-80FF-2441B10E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A88F2-98B4-478D-85FC-D90A8860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D3C33-E044-4F69-8494-11A5B3A5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926AF-5FE7-41AE-B3EC-16A49FDF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65A-B6B4-4859-ABC3-1864982B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60752-DB17-4381-975C-B59888BB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798B-8AED-4A9A-B6EA-51378ADA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94F2A-8EF3-476D-8F21-912BEE0F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89240-B457-4547-8D1A-F7C95237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822B1-5347-4CE9-A10B-C59EB933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0C55B-A3F7-45A9-A411-089E94A0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E060-E7FC-4F85-B343-2E4A8E10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56CC0-0013-418C-893B-6B47715D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50583-C892-4689-A82C-DCBBD5C0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E3A5C-0287-4911-94CF-4323D4E4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595-CB7F-4842-949B-4C262AD6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B1421-B566-4552-925D-DA6571F1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E279E-229C-4ED9-A37E-5EA282E1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7BF9-0B2D-46FF-A2C4-8A99B92F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E8BFC-5609-4035-A02A-F5B0F2F7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E04E3-1D32-41D1-AD86-8F9A618E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46D5E-C01A-4A1A-B6D3-510E789D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DD254-A8AD-4505-B25A-63B281FA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AEA30-21C8-4D0C-ADC6-A8B87C6C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EFAC3-1629-486A-82FB-F63B3503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587-D2D8-43B1-919D-46F8EA9A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7B0-873F-43A7-B5E7-FC282281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B7E-87CA-4857-8A3B-A1EC267F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959-BE14-4A8D-881D-1D30A05B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D1E-71CF-417A-8A23-DA047855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5b8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4DD1-59D0-44A7-BA2F-B16FCB50D45F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00a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FCDC-96EF-4128-9D2C-C54E33A2FD2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00a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5B79-7E92-433B-A4BE-6EC2CEA8BC2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5b8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B660-D966-4B91-B5B5-30907362B5F1}" type="slidenum">
              <a:rPr b="0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ubtitle 2"/>
          <p:cNvSpPr/>
          <p:nvPr/>
        </p:nvSpPr>
        <p:spPr>
          <a:xfrm>
            <a:off x="3997440" y="2517840"/>
            <a:ext cx="4895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Arial"/>
              </a:rPr>
              <a:t>Corso 3 - Impresa-Energia intelli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Arial"/>
              </a:rPr>
              <a:t>Module 4 – Case study sull’imprenditoria ver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alibri"/>
                <a:ea typeface="Arial"/>
              </a:rPr>
              <a:t>Settimane 37-3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veloped b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Best-Institut für berufsbezogene Weiterbildung und Personaltra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Θέση εικόνας 5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23" name="Θέση εικόνας 6" descr=""/>
          <p:cNvPicPr/>
          <p:nvPr/>
        </p:nvPicPr>
        <p:blipFill>
          <a:blip r:embed="rId3"/>
          <a:srcRect l="4339" t="0" r="4339" b="0"/>
          <a:stretch/>
        </p:blipFill>
        <p:spPr>
          <a:xfrm>
            <a:off x="6372360" y="6308640"/>
            <a:ext cx="1150920" cy="36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4"/>
          <a:stretch/>
        </p:blipFill>
        <p:spPr>
          <a:xfrm>
            <a:off x="7135920" y="4245120"/>
            <a:ext cx="6760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0" y="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Royal m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27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449280" y="549360"/>
            <a:ext cx="77407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Il modello di busi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 Royal Mosa offre 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ai suoi clienti prodotti di ceramica innovativi e di alta qualità prodotti con elevata enfasi sul design e la sostenibilità attraverso l'attuazione di una filosofia </a:t>
            </a:r>
            <a:r>
              <a:rPr b="1" i="1" lang="it-IT" sz="1800" spc="-1" strike="noStrike">
                <a:solidFill>
                  <a:srgbClr val="ffffff"/>
                </a:solidFill>
                <a:latin typeface="Calibri"/>
              </a:rPr>
              <a:t>cradle to cradle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. L'innovazione della società è quindi legata a uno speciale team di progettazione Mosa che lavora a stretto contatto con gli architetti nello sviluppo di nuove collezioni. Dato che il modello di business di Mosa è centrato sui mercati professionali, i due principali target dei loro sono architetti e grandi società. In alcuni paesi, l’azienda si rivolge anche alle società immobiliar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Il modello </a:t>
            </a:r>
            <a:r>
              <a:rPr b="1" i="1" lang="it-IT" sz="1800" spc="-1" strike="noStrike">
                <a:solidFill>
                  <a:srgbClr val="ffffff"/>
                </a:solidFill>
                <a:latin typeface="Calibri"/>
              </a:rPr>
              <a:t>Cradle to Cradle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(CTC) riguarda tutti i prodotti e i processi delle Mosa. Il modello CTC introduce una separazione tra un ciclo biologico e un ciclo tecnologico. Nel ciclo biologico, i prodotti sono realizzati con materiali naturali, che vengono utilizzati come cibo al termine del loro utilizzo. Tuttavia, dato che molti prodotti non sono compostabili e sono principalmente adatti al ciclo tecnico, Mosa  lavora per renderli meno pericolosi per l'ambiente. Mosa utilizza l'analisi del ciclo di vita per determinare l‘impatto dei loro prodotti sull'ambiente e per ridurre tale impat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                                             </a:t>
            </a: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77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0" y="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Royal m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32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395280" y="90792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78000" y="741240"/>
            <a:ext cx="777708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Benefici and impat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Mosa ha avuto un notevole impatto sul mercato per quanto riguarda i materiali dato che le  sue tegole non rilasciano composti nocivi e non danneggiano l'ambiente se vengono scartate dopo l'uso, e sono anche riciclabili. Attraverso un programma di ammodernamento Mosa è riuscitiaa ridurre le emissioni di CO2 del 48% e quelledi particolato del 91%. Mosa è anche riuscita a csotruire un ciclo dell'acqua di raffreddamento con una conseguente riduzione di oltre il 60 percento del consumo di acque sotterranee. Oltre a fare sforzi per utilizzare meno energia possibile Mosa è riuscita a  spostare quasi quasi interamente i suoi consumi verso l'energia sostenib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L’azienda è riuscita a raggiungere il pareggio di bilancio in breve tempo anche grazie al suo modello di business verde e basato sull’innovazione e dovrebbe in breve accrescere notevolmente i suoi profitti grazie alla sempre maggiore sostenibilità, che le garantisce anche tranquillità per il futuro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</a:t>
            </a: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77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Royal m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37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507960" y="681120"/>
            <a:ext cx="7664400" cy="52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Punti di forza e barri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Un punto di forza di Mosa è la convinzione che lungo periodo solo le aziende sostenibili sopravviverann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D’altra parte l’approccio CTC non è ancora comprensibile al grande pubblico. Si pone molta enfasi sulle emissioni, ma non abbastanza sull ascarsità di risorse naturali a cui andiamo incontro e sui danni che anche altre sostanze possono produrre sull’ambiente. La crisi finanzairia ha creato problemi a Mosa perché molti potenziali hanno fatto scelte basate sul prezzo piuttosto che su un ragionamento lungimir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Il passaggio all’approccio CTC è stato molto faticoso e ci sono voluti due anni di ricerca approfondita e sviluppo per raggiungere gli standard attuali, con investimenti costosi fuori bilanc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Un lavoro analogo a quello fatto sui materiali è stato fatto anche per le tecnologie utilizzate nella produzione. Il lavoro di ricerca sul ciclo tecnologico è ancora in corso e richiederà ancora notevoli investimen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77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0" y="0"/>
            <a:ext cx="85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Royal m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1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395280" y="770040"/>
            <a:ext cx="777708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Questioni sulle quali riflett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In che modo si può rendere chiaro l’approccio CTC del modello di busines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Qual è l’impatto (in senso positivo e negativo) di questo modello di business sostenibil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 che modo questo impatto determina il successo dell’azienda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a un punto di vista puramente economico, i benefici ambientali sono più vantaggiosi di quelli finanziari? Cosa si può fare per ottenerli entrambi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4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"/>
          <p:cNvSpPr/>
          <p:nvPr/>
        </p:nvSpPr>
        <p:spPr>
          <a:xfrm>
            <a:off x="0" y="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Royal m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95280" y="770040"/>
            <a:ext cx="77770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Riferimenti bibliografi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nriksen et al. (2012): Green business model innovation. Business case study compendum. Nordic Innovation publica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Θέση εικόνας 5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Θέση εικόνας 6" descr=""/>
          <p:cNvPicPr/>
          <p:nvPr/>
        </p:nvPicPr>
        <p:blipFill>
          <a:blip r:embed="rId3"/>
          <a:srcRect l="4339" t="0" r="4339" b="0"/>
          <a:stretch/>
        </p:blipFill>
        <p:spPr>
          <a:xfrm>
            <a:off x="6372360" y="630864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9" name="Textfeld 1"/>
          <p:cNvSpPr/>
          <p:nvPr/>
        </p:nvSpPr>
        <p:spPr>
          <a:xfrm>
            <a:off x="3924360" y="4076640"/>
            <a:ext cx="37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700" spc="-1" strike="noStrike">
                <a:solidFill>
                  <a:srgbClr val="ffffff"/>
                </a:solidFill>
                <a:latin typeface="Calibri"/>
              </a:rPr>
              <a:t>Grazie!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7:10:25Z</dcterms:created>
  <dc:creator>Isabel Nunes</dc:creator>
  <dc:description/>
  <dc:language>en-US</dc:language>
  <cp:lastModifiedBy>Gruppo Didattica della Fisica</cp:lastModifiedBy>
  <dcterms:modified xsi:type="dcterms:W3CDTF">2016-06-24T13:48:29Z</dcterms:modified>
  <cp:revision>180</cp:revision>
  <dc:subject/>
  <dc:title>@MINDSET: Managing Social Relations in Schools</dc:title>
</cp:coreProperties>
</file>