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C6-85D9-498D-B736-9B2BB60F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7B7-BBF5-4BB1-88F9-F4363DE5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9E0-D0A1-404B-83C6-4054D391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D62-13CC-4408-ACC4-513F3304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CF2E-EF92-46A8-BB25-A16E315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2479-E02F-4FA4-9CDC-986D2A4A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C5B0-C3EE-4964-BF9D-CB9488AE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F485-D9FE-4C4F-98D5-BD31347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520-2927-4824-BD04-6078EF71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C9B-6ABB-4218-8AF3-3FB6F88C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3A1-2D4E-4676-87BA-730276B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745-5028-45E4-9711-20472A83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8A5E-8D1E-4705-B090-DF376D2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9EEE-209C-4BFD-B8E3-98579CB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51B1-87E9-48DF-9DD1-D19CEFF1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3B72-CD17-4BB3-BFB8-00FEC316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2CF7-1D4D-4F2D-A3F5-C82D6295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10CA-DE98-4624-A3F5-1A1AE897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72B7-F6BA-406B-9938-9EEF95E7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F158-44FB-4EFB-BEAF-2CCC6BA5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5018-6AFF-4B40-AC64-A3B30EA7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3ACB-7782-4106-B603-C764B1F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A41-46B3-47B5-89C8-E581072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796B-0D4A-47BB-8873-9410DB6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4333-3AF1-44AD-A314-4EF798E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7909-75AF-4A3D-9BC7-32BF5D1E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C334-0823-48E8-9E9C-7C328C9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18F2-6B4F-433B-B510-38B72A7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1BE8-10D2-4B7B-B6C6-FE8F146D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9056-084D-4E79-A5A8-9F8D4627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BEB2-697C-410E-9904-8EEBE6ED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8B1C-CAA4-4BB0-8921-17E8379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4584-8924-40F5-A506-3D61FB1B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734-E70C-4DB5-A0E6-2E2A12D6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48CE-698F-4F33-A166-84F7A649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480C-52F7-490E-9041-B1DAB9D9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DC9E-65CA-4CDE-A714-43022F2E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F11D-8ED7-4FC2-A5E3-CB552F2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E738-F336-4DD3-8EB1-400AE053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4AEA-474D-4C02-8574-A5D8CC51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1F60-1EB5-48D0-86F2-82C004AA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2138-EE8D-4815-B620-9526B7F7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6886-8C95-4BF5-8526-A97B0A5A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201-1558-48C4-9AB0-3FC1D6B3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632-CBFB-4EFA-AEE1-5A210B6C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DAE-98B8-4FB0-92AC-4CB00DD6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5FF-9C47-42E0-9E43-DEAECF0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DDD-3E92-42EF-B286-F7C54F08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192F-EFE0-415A-BBD6-9AD836EBDA23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018-EEF4-48B7-8E62-571DBDAA834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ED56-E2DB-4E61-8D3C-9CB69C4DA12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FBD9-1F71-48E0-8229-422C71299FE2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title 2"/>
          <p:cNvSpPr/>
          <p:nvPr/>
        </p:nvSpPr>
        <p:spPr>
          <a:xfrm>
            <a:off x="3997440" y="2517840"/>
            <a:ext cx="489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orso 3 - Impresa-Energia intel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Module 4 – Case study sull’imprenditoria ver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alibri"/>
                <a:ea typeface="Arial"/>
              </a:rPr>
              <a:t>Settimane 31-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veloped b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Best-Institut für berufsbezogene Weiterbildung und Personal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7135920" y="4245120"/>
            <a:ext cx="67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68360" y="765000"/>
            <a:ext cx="7740720" cy="60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Il modello di busi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alumba è un’azienda vinicola del sud dell’Australia con 200 dipendenti locali e 600 a livello internazionale. Le attività consistono nella coltivazione delle viti, nella vinificazione, nel packaging, nella distribuzione, marketing e vendite. Il sistema di gestione delle questioni ambientali di Yalumba ha ottenuto la certificazione ISO ed è basata sulla continua riduzione dell’impatto ambientale del ciclo di vita del prodotto. L’approccio è quello “cittadinanza ambeintale”  e mira a comunicare  in maniera efficace la mentalità e l’impegno di Yalumba per una vinificazione sostenibile a tutti gli stakholder, in modo da coinvolgerli att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alumba gestisce la catena dei fornitori lavorando in stretto contatto con questi ultimi per sostenerli negli sforzi mirati a minimizzare il loro impatto ambientale attraverso l’uso di best practice per le tecnologie verdi. Questa azienda è anche molto attiva nella comunità locale. L’azienda è in continua innovazione grazie alla valutazione e alla revisione di tutte le fasi della produzione nella ricerca delle migliori soluzioni per una vinificazione sostenibile. Yalumba si impegna anche a stimolare I suoi clienti a smaltire i rifiuti in maniera responsab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4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78000" y="741240"/>
            <a:ext cx="77770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enefici e impa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Yalumba è fortemente impegnata nella riduzione dell’uso di materie prime, delle emissioni nocive e dei rifiuti legati al packaging. L’azienda cerca di usare risorse energetiche alternative, come i biocarburanti e le rinnovabili (in particolare l’energia solare). Inoltre Yalumbe ha sviluppato un piano di LCA (monitoraggio del ciclo di vita del prodotto) che è diventato uno standard a livello mondi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Yalumba cerca di bilanciare l’impegno ambientale e sociale con gli aspetti finanziari del business e riesce comunque a garantirsi profitti al di sopra della meida del setto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4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07960" y="681120"/>
            <a:ext cx="76644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unti di forza e barriere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L’attenzione dell’azienda alla sostenibilità nasce da una tesi di dottorato basata su una ricerca svolta all’interno di Yalumba che ha convinto l’azienda della possibilità di ottenere un grande impatto aumentando i propri sforzi diretti a una visione sociale della sostenibilità e a stimolare un cambiamento della maentalità e dei comportamenti dei propri consumatori. La principale barriera è stata la iniziale mancanza di consapevolezza dei consumatori a proposito delle reali implicazioni del perseguire un comportamento sostenib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4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0" y="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95280" y="770040"/>
            <a:ext cx="7777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Questioni sulle quali riflett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Qual è la chiave del successo di questo modello?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i sono i principali cambiamenti introdotti nel modello con lo scopo di renderlo più sostenibi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i sono i presupposti per un cambio di modello orientato alla sostenibilità che garantisca benefici economici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 è la maniera più opportuna di aumentare la consapevoleza delle persone a proposito dei comportamenti sostenibili nel busin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ON GREEN ENTREPRENEURSHIP: Yalumba Wine Comp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7700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Riferimenti bibliograf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Grazie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Gruppo Didattica della Fisica</cp:lastModifiedBy>
  <dcterms:modified xsi:type="dcterms:W3CDTF">2016-06-23T13:39:28Z</dcterms:modified>
  <cp:revision>176</cp:revision>
  <dc:subject/>
  <dc:title>@MINDSET: Managing Social Relations in Schools</dc:title>
</cp:coreProperties>
</file>