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8E6-59A0-4BBA-A030-6A28AD34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972-1BA8-45E1-95DA-81F0D5A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4E6-8701-465F-9582-1DABC42B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5EC-FC5B-4141-B1C0-3334EFAF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8C69-308E-48AE-9BE1-B1DDE08F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9F4-F41D-4A59-91E8-8A1D305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F93F-CCA8-4926-B09B-939D9AE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08E-0BC2-43F1-84CF-EA8AF0A0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1AD1-790C-48D0-962E-6D69AAC6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C37D-E51D-4C9D-836B-51B5F63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12F1-6BD0-4C0F-9B17-07632F5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CEB-247D-4900-A1F3-1A9A0538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F2C-DA57-46BF-8C73-E500949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0303-1ADF-44BC-B496-8E06EFA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9805-99BE-4543-83BB-B1CFA79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580B-5D74-400B-8090-89B4F0A2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14E-D802-4502-BE2E-2A73FBB7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06EB-9503-47D6-B8F3-288879F1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8F40-F129-4AD1-BF96-E6EA21E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59AB-3D5D-4512-807D-10EBD822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AE06-C2BB-43C5-8A50-C6F2788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319F-1857-49ED-8E92-618F0E3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951-A64C-4FF7-BA41-0ABF759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309C-3DEB-44AD-9EBF-4B8F10A7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B4EF-8304-4A46-B0FB-DEC46CA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CDA2-3E9B-45BF-BD66-626C613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44D9-4230-4D56-AFF6-36DBA268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B26E-CC76-44B7-8E6A-54EF4B7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2824-0CE0-4365-B9DC-B4953526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EEB4-5BB4-4748-B527-5BD7865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F30F-3B45-4C33-895C-8794A877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8AC4-CBFD-4AF8-AAEE-A04D6786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FE8C9-70A3-43DB-9B43-C7505F3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F68-DB7D-45D5-B49A-41FF079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CEA9-6139-404C-B63C-BB826CF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EBEF-21E0-4784-92BB-95F1B5D3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286B-171A-4C6B-8948-0FC4206A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72C2-901D-444D-B00E-A7F4914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7ED6-E612-4D60-81EB-CB96465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7D84-F33B-46F5-964D-E90B2EE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192E-6521-4218-979E-3BF2595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3611-1C7D-4F23-9583-25702A11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4769-010B-4335-92DF-FBE43F4F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03B-E74C-4AE3-A81D-57D414F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394-2684-4C72-BABD-78D5B722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047-0EA3-4501-86AF-C67F644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892-84B6-448D-8920-E2AC85C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32F-3C90-4114-83CB-A2D8A51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BF5-7075-4C32-8198-C26E88F76A6B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F939-FC77-434A-BA01-05C6589DE92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2D8-802E-4B6A-A3F4-CB13F7242E3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B7AA-B5D6-46FD-A749-F916BF6B2D8C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title 2"/>
          <p:cNvSpPr/>
          <p:nvPr/>
        </p:nvSpPr>
        <p:spPr>
          <a:xfrm>
            <a:off x="3997440" y="2517840"/>
            <a:ext cx="489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orso 3 - Impresa-Energia intel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Module 4 – Case study sull’imprenditoria ver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alibri"/>
                <a:ea typeface="Arial"/>
              </a:rPr>
              <a:t>Settimane 31-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veloped b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Best-Institut für berufsbezogene Weiterbildung und Personal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7135920" y="4245120"/>
            <a:ext cx="6760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68360" y="765000"/>
            <a:ext cx="7740720" cy="60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Il modello di busi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alumba è un’azienda vinicola del sud dell’Australia con 200 dipendenti locali e 600 a livello internazionale. Le attività consistono nella coltivazione delle viti, nella vinificazione, nel packaging, nella distribuzione, marketing e vendite. Il sistema di gestione delle questioni ambientali di Yalumba ha ottenuto la certificazione ISO ed è basata sulla continua riduzione dell’impatto ambientale del ciclo di vita del prodotto. L’approccio è quello “cittadinanza ambeintale”  e mira a comunicare  in maniera efficace la mentalità e l’impegno di Yalumba per una vinificazione sostenibile a tutti gli stakholder, in modo da coinvolgerli att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alumba gestisce la catena dei fornitori lavorando in stretto contatto con questi ultimi per sostenerli negli sforzi mirati a minimizzare il loro impatto ambientale attraverso l’uso di best practice per le tecnologie verdi. Questa azienda è anche molto attiva nella comunità locale. L’azienda è in continua innovazione grazie alla valutazione e alla revisione di tutte le fasi della produzione nella ricerca delle migliori soluzioni per una vinificazione sostenibile. Yalumba si impegna anche a stimolare I suoi clienti a smaltire i rifiuti in maniera responsa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8000" y="741240"/>
            <a:ext cx="77770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enefici e impa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Yalumba è fortemente impegnata nella riduzione dell’uso di materie prime, delle emissioni nocive e dei rifiuti legati al packaging. L’azienda cerca di usare risorse energetiche alternative, come i biocarburanti e le rinnovabili (in particolare l’energia solare). Inoltre Yalumbe ha sviluppato un piano di LCA (monitoraggio del ciclo di vita del prodotto) che è diventato uno standard a livello mondi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Yalumba cerca di bilanciare l’impegno ambientale e sociale con gli aspetti finanziari del business e riesce comunque a garantirsi profitti al di sopra della meida del setto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07960" y="681120"/>
            <a:ext cx="76644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Punti di forza e barriere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L’attenzione dell’azienda alla sostenibilità nasce da una tesi di dottorato basata su una ricerca svolta all’interno di Yalumba che ha convinto l’azienda della possibilità di ottenere un grande impatto aumentando i propri sforzi diretti a una visione sociale della sostenibilità e a stimolare un cambiamento della maentalità e dei comportamenti dei propri consumatori. La principale barriera è stata la iniziale mancanza di consapevolezza dei consumatori a proposito delle reali implicazioni del perseguire un comportamento sostenib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74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0" y="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SULL’IMPRENDITORIA VERDE: Yalumba Wine Comp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95280" y="770040"/>
            <a:ext cx="777708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Questioni sulle quali riflett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Qual è la chiave del successo di questo modello?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ono i principali cambiamenti introdotti nel modello con lo scopo di renderlo più sostenibi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i sono i presupposti per un cambio di modello orientato alla sostenibilità che garantisca benefici economici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al è la maniera più opportuna di aumentare la consapevoleza delle persone a proposito dei comportamenti sostenibili nel busin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ASE STUDY ON GREEN ENTREPRENEURSHIP: Yalumba Wine Comp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7700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Riferimenti bibliograf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9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Grazie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Gruppo Didattica della Fisica</cp:lastModifiedBy>
  <dcterms:modified xsi:type="dcterms:W3CDTF">2016-06-23T13:39:28Z</dcterms:modified>
  <cp:revision>176</cp:revision>
  <dc:subject/>
  <dc:title>@MINDSET: Managing Social Relations in Schools</dc:title>
</cp:coreProperties>
</file>