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63D-4767-4B1F-9F3C-6B5263BA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D16-4D60-4218-B74C-EB13285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533-FDB2-4072-A3F8-BBBF1ADD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D66-11C7-481F-9E34-D83BA32F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1104-6C13-4AB5-848A-0A4C5A2D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80B1-40D9-450E-BF0E-B147B0AA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DE2D-4E90-46AC-AE1E-36B00EC9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9D83-34B3-4F63-BE4F-14D00F08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3C8-5BD0-4070-A6E9-DBA5506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EBD7-D576-4BE4-BF29-D786E9DD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DB26-4E65-49E7-8716-AB898F4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15F-4376-48FF-AD77-8FF36557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721-7CF4-41CD-8C12-CA55230F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FE6-DA4B-4078-8A08-4A8378AC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432-5048-4FE8-8E5B-5C3E2C5C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289E-242C-41A1-9594-BBF714CA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AF4D-6824-43A7-8E31-9BE7C280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8B31-2F86-4BC8-A647-DAE2FA79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3569-F6C4-4257-8615-841111BE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A8E9-5480-44FE-9043-9B51037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B645-C9D8-4147-AFD0-3990B56D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8FFE-5F99-459D-A3E3-36C6F86C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D61-ABA5-4F9F-BD83-BA8546A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6CE9-3DF8-4C88-86C3-FB740DE8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EFC2-957E-4D71-A246-90BA0E4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F049-BE98-4223-A4E2-01C3A45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D1AF-CF98-491F-8C82-E2E9B48B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FB10-A918-45C4-A1D5-C1ECBDD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D14C-9818-4F47-BA2F-F1950B19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9F13-B076-4BCD-A771-B4DFFA05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544B-B95B-43E9-A665-2E1E1A54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DE3F-59AF-4E42-B02D-AEEA02B3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7DE0-9987-44F0-8166-9E59A783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F65-96EF-43C3-A373-D0D381A2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F8D2-43C4-4DC1-842C-A9D5B0C0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FC74-9B01-4215-862F-24664ADE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4D4A-6510-47FB-A931-E1E2312E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B99F-686C-4D25-9046-9C5412A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9FB13-87DA-4075-8F28-FD0DC37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C08A-673C-4737-B8C2-F5E748F1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065A-16C1-489D-A1D1-C3FF1313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11BC-0288-4650-819F-0703AF1B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77AD-9F34-4ADC-A9DD-ADF8CE59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352-C4C1-4E6D-BAB2-BA0E43E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568-6003-462F-B7E5-58E68CAB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9AF-DDFE-4678-804D-E6BF347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3AC-ABDA-4CFC-8391-88B7DAD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939-305A-4B86-A7FC-18FFFC9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A551-14C4-4681-9F38-3E11AC2DFA96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CB7C-9FDF-4BA2-B076-F6050B26E9E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D475-B4F1-4958-A01B-00874146080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12C-E87B-4D67-A92C-7D796B6A0247}" type="slidenum">
              <a:rPr b="0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ubtitle 2"/>
          <p:cNvSpPr/>
          <p:nvPr/>
        </p:nvSpPr>
        <p:spPr>
          <a:xfrm>
            <a:off x="3997440" y="2517840"/>
            <a:ext cx="489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orso 3 - Impresa-Energia intel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Modulo 4 – Case study sull’imprenditoria ver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alibri"/>
                <a:ea typeface="Arial"/>
              </a:rPr>
              <a:t>Settimane 40-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veloped b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Best-Institut für berufsbezogene Weiterbildung und Personal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7135920" y="4245120"/>
            <a:ext cx="67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68360" y="765000"/>
            <a:ext cx="774072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Il modello di busi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Eastex Material Exchange è una piattaforma web che aiuta gli scambi di materiali in eccedenza tra diversi attori. Il valore fondante dell’azienda è quello di permettere all PMI di trovare materie prime e tecnologie a basso costo e di evitare la dismissione di materiali in eccede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piattaforma è gratuita per tutti gli utenti e il servizio si sostenta pincipalmente grazie a finanziamenti pubblici locali. La gestione è affidata però a una compagnia privata, la Bright Green, fin dal dicembre del 201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piattaforma può essere usata anche da utenti istituzionali e da associazioni no-profit. Le maggior parte delle risorse della piattaforma vengono come detto da finanziamenti pubblici e da sforzi di cooperazione tra diversi paesi che sono in qualche misura coinvolti in questo proget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65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1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95280" y="9079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78000" y="741240"/>
            <a:ext cx="777708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enefici ei mpat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L’impatto ambientale di Eastex Material Exchange si fonda essenzialmente sul riuso di materia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al punto di vista economico, lo scambio di materiali fa risparmiare agli utenti i costi di dismissione, inclusi quelli di trasporto e di deposito nelle discariche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Gli utenti risparmiano anche grazie alla possibilità di acquistare materie prime grezze a costi inferiori a quelli di mercat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65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488880" y="681120"/>
            <a:ext cx="76644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Punti di forza e barri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Il punto di partenza per la creazione della piattaforma è stato l’impegno del governo britannico per il miglioramento dell’efficienza nell’uso delle risorse energetich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Una prima barriera è stata la costruzione stessa della piattaforma. E’ stato poi difficile far comprendere agli imprenditori come usarla e spiegarne il potenziale. Un’ulteriore problema è stato quello di fidelizzare gli utenti, che è stato affrontato con una serie di campagne pubblicitarie. Infine, nel tempo le aziende hanno sviluppato la tendenza a abbandonare la piattaforma dopo aver consolidato su di essa la relazione con un partner per lo scambio di materia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65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0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95280" y="770040"/>
            <a:ext cx="777708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Questioni sulle quali riflett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e questo modello di business non si basasse sul finanziamento pubblico, quali fonti alternative di finanziamento potrebbe utilizzar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me si configura la relazione tra la Eastex material exchange e altre aziend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 è il ruolo che il coinvolgimento degli stakholder potrebbe giocare in un modello di business come questo e in generale per piccole e medie start-up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i strategie si possono mettere in campo per coivolgere gli stakeholder e mantenere la relazione sul lungo termin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Eastex Material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770040"/>
            <a:ext cx="7777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Riferimenti bibliografi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nriksen et al. (2012): Green business model innovation. Business case study compendum. Nordic Innovation pub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9" name="Textfeld 1"/>
          <p:cNvSpPr/>
          <p:nvPr/>
        </p:nvSpPr>
        <p:spPr>
          <a:xfrm>
            <a:off x="3924360" y="4076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ffffff"/>
                </a:solidFill>
                <a:latin typeface="Calibri"/>
              </a:rPr>
              <a:t>Grazie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7:10:25Z</dcterms:created>
  <dc:creator>Isabel Nunes</dc:creator>
  <dc:description/>
  <dc:language>en-US</dc:language>
  <cp:lastModifiedBy>Gruppo Didattica della Fisica</cp:lastModifiedBy>
  <dcterms:modified xsi:type="dcterms:W3CDTF">2016-06-24T14:14:23Z</dcterms:modified>
  <cp:revision>177</cp:revision>
  <dc:subject/>
  <dc:title>@MINDSET: Managing Social Relations in Schools</dc:title>
</cp:coreProperties>
</file>