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7C8EB-CAE3-49F5-A33B-09D311599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FB7CF-2B9B-4FBD-8217-136AC53CD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CCE85-E776-4801-AF4D-D6F6E9410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0AF4C-7064-4940-8830-BF9ECD54B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52719-678B-4EB9-A814-4A82ACEC3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894BE-7808-4535-939F-34F180A05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735E9-8A2C-4703-B52C-5B07BBDE4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EDA1D-2763-42B8-BC1C-DA19612A7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336E3-0B11-41C3-B8F0-1C092BA8F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4C1E5-F199-45EE-9C11-44DE34D85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45DA4-404F-40F2-BDB9-15B6F3A6C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A9EDA-5DF2-4692-BBCC-8E1E9C573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C7691-BB41-464D-8461-6E55B4727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D9B75-BF74-4D87-8CEE-3FE859FB2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85E3E-09C5-4F0E-BD53-F9C4D9F86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9D62E-E32A-4DC5-992B-3E64A6C1C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3F493-4D86-4998-9C29-9957F04C2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3A10DF-57E1-4AEE-85BE-7179F37148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A616E-28AC-4E6D-97B9-79B998E5B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8DB44-E27D-49C4-80A0-83600BB85F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64EEDE-4A22-4F7F-81C7-E6B6DACC1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680E6-E14B-4759-A10E-CF2E6B153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8BF21-4DF5-4017-ADB3-BF7FB2EF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3B322-DA0F-4A8E-9DB7-AE407E404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C4565-1837-4911-9015-06D07F068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79AFE-6E13-49F2-80B0-205BD9A0C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C4919-186B-4363-8836-EF2A2CDA7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AA7A9B-E6DA-4624-8604-462452062D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E51E47-28FC-4FE3-AD73-D22DDDF432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58DFF3-B6D0-45BC-944F-BFC3F69EE7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B9F8E0-B4AF-4156-8BB2-ECCD5849F7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2AA55E-5831-45EB-9B00-51D7AB4D2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6DEA26-53DA-4ABC-BC0C-219A54F857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B34EF-34E3-438F-AC82-832215D21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AC9B27-C972-4726-B705-5F6B619932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B968E-98ED-4383-9DE3-60E099A9E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416C1-1500-4F2A-BE9E-C3B34B4D5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1D677-343A-4251-B40B-7E6CE8DB1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AF143-C26A-4E82-BD2A-1CC2E1352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5CCB5-7F0A-435D-BD07-05D2DB839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9DC75-9DBC-4745-9A82-FDC5A8751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58AF30-D28E-4125-8728-FCEE72595D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072A8F-3C4F-412F-B239-F26780CEB6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0D11D-5FAD-47E2-B3C3-68B20727E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F26BF-5CBF-41F0-BA35-8175DFD7E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1D581-247F-48DC-A1EF-A18DA5F2C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B668-4F5D-49FF-B25C-30E610182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0D624-EC47-4CAB-BB46-E24234246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0177-A56F-4D79-A6B2-9A66B46732E4}"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5F05-D678-47AB-B2B6-F9AA4BC8214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037E-119B-40D3-BFEE-175D64C2BF57}"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F5D8-2ABD-4D90-9873-176BEE565FCA}"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Subtitle 2"/>
          <p:cNvSpPr/>
          <p:nvPr/>
        </p:nvSpPr>
        <p:spPr>
          <a:xfrm>
            <a:off x="3997440" y="2517840"/>
            <a:ext cx="4895640" cy="1752480"/>
          </a:xfrm>
          <a:prstGeom prst="rect">
            <a:avLst/>
          </a:prstGeom>
          <a:noFill/>
          <a:ln w="0">
            <a:noFill/>
          </a:ln>
        </p:spPr>
        <p:style>
          <a:lnRef idx="0"/>
          <a:fillRef idx="0"/>
          <a:effectRef idx="0"/>
          <a:fontRef idx="minor"/>
        </p:style>
        <p:txBody>
          <a:bodyPr lIns="90000" rIns="90000" tIns="46800" bIns="46800" anchor="t">
            <a:normAutofit fontScale="73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Corso 3 - Impresa-Energia intelligente</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Modulo 4 – Case study sull’imprenditoria verde </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ffffff"/>
                </a:solidFill>
                <a:latin typeface="Calibri"/>
                <a:ea typeface="Arial"/>
              </a:rPr>
              <a:t>Settimane 43-45</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Developed by: </a:t>
            </a:r>
            <a:endParaRPr b="0" lang="en-US" sz="1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r>
              <a:rPr b="0" lang="en-GB" sz="1800" spc="-1" strike="noStrike">
                <a:solidFill>
                  <a:srgbClr val="ffffff"/>
                </a:solidFill>
                <a:latin typeface="Calibri"/>
                <a:ea typeface="Arial"/>
              </a:rPr>
              <a:t>Best-Institut für berufsbezogene Weiterbildung und Personaltraining</a:t>
            </a:r>
            <a:endParaRPr b="0" lang="en-US" sz="1800" spc="-1" strike="noStrike">
              <a:solidFill>
                <a:srgbClr val="ffffff"/>
              </a:solidFill>
              <a:latin typeface="Times New Roman"/>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7135920" y="4245120"/>
            <a:ext cx="67608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7740720" cy="534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Il modello di business</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l valore fondante della Siemens Building Technologies è quello di offrire ai suoi clienti soluzioni a basso rischio e autofinanziate per il risparmio energetico, in particolar modo per grandi edifici e navi. L’abbassamento dei consumi fa risparmiare denaro e abbassa le emissioni di CO2.</a:t>
            </a:r>
            <a:r>
              <a:rPr b="1" lang="en-US" sz="1800" spc="-1" strike="noStrike">
                <a:solidFill>
                  <a:srgbClr val="ffffff"/>
                </a:solidFill>
                <a:latin typeface="Calibri"/>
              </a:rPr>
              <a:t>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li aspetti innovativi del modello sono due. Prima di tutto, Siemens offre ai suoi clienti soluzioni su misura grazie all’utilizzo di tecnologie affidabili e all’apprfondita conoscenza del settore. Se il risparmio previsto non viene raggiunto, Siemens copre le spese aggiuntive, riducendo i rischi per il cliente.</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 secondo luogo, se il risparmio è maggiore di quanto previsto, i benefici sono condivisi tra Siemens e il cliente. Questo è un incentivo per la Siemens a ottenere risultati  migliori delle previsioni e stimola il cliente a partecipare attivamente al processo di riduzione e consumi. Il tipo di contratto offerto da Siemens stimola quindi una stretta collaborazione coi clienti, che è un aspetto chiave per raggiungere risultati di risparmio energetico.</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nriksen et al. 2012., p. 58 f.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7777080" cy="4113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ci e impatti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Le soluzioni offerte da Siemens aumentano in maniera significativa il valore degli edifici  in cui vengono applicate. Per esempio, un edificio che ha costi operativi molto più bassi rispetto a edifici dello stesso tipo è più appetibile per eventuali affittuari. Questo singnifica che i proprietari possono proporre affitti più alti. Dal punto di vista della Siemens, questa iniziativa contribuisce a migliorare l’immagine dell’azienda dal punto di vista ambientale e  il suo profilo CSR. Anche se nel passato questi benefici potevano esser visti come un surplus non necessario, la loro rilevanza diventa sempre maggiore col passare del tempo.</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58 f.</a:t>
            </a:r>
            <a:endParaRPr b="0" lang="en-US" sz="1200" spc="-1" strike="noStrike">
              <a:solidFill>
                <a:srgbClr val="ffffff"/>
              </a:solidFill>
              <a:latin typeface="Times New Roman"/>
            </a:endParaRPr>
          </a:p>
        </p:txBody>
      </p:sp>
      <p:sp>
        <p:nvSpPr>
          <p:cNvPr id="234"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507960" y="493560"/>
            <a:ext cx="7664400" cy="47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Calibri"/>
                <a:ea typeface="Times New Roman"/>
              </a:rPr>
              <a:t>Punti di forza e barriere</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La ragione fondante di questo progetto sta in quello che l’azienda stessa definisce un “megatrend”: la crescita della popolazione globale e della sua concentrazione nelle aree urbane rende necessari gli sforzi per il risparmio energetico. Nel futuro ci si può aspettare che il mercato di questo tipo di  servizi sarà in continua espansione. Lo sviluppo tecnologico consentirà di sviluppare soluzioni per risparmi di energia sempre maggiori.</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Un ostacolo potrebbe essere la mancanza di interessi condivisi tra il proprietario e gli affittuari di un edificio: se i benifici investono gli affittuari, resta infatti da irrisolta la questione di chi debba accollarsi l’investimento inziale: il proprietario o gli affittuari?</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58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7777080" cy="50889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Questioni sulle quali riflettere</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 è l’ambizione di Siemens nell’introdurre questo nuovo progetto nel suo modello di business</a:t>
            </a:r>
            <a:r>
              <a:rPr b="1" lang="en-US" sz="1800" spc="-1" strike="noStrike">
                <a:solidFill>
                  <a:srgbClr val="ffffff"/>
                </a:solidFill>
                <a:latin typeface="Calibri"/>
              </a:rPr>
              <a:t>?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ome si può gestire questo cambiamento internamente?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e tipo di risorse sono necessarie?</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In che senso questo modello influisce sull’immagine dell’azienda?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he differenze ci sarebbero se un progetto di questo genere fosse pensato per una PMI?</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ome si può risolvere la contrapposizione tra proprietario e affittuario?</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iferimenti bibliografici</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Grazie!</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Gruppo Didattica della Fisica</cp:lastModifiedBy>
  <dcterms:modified xsi:type="dcterms:W3CDTF">2016-06-24T14:41:48Z</dcterms:modified>
  <cp:revision>184</cp:revision>
  <dc:subject/>
  <dc:title>@MINDSET: Managing Social Relations in Schools</dc:title>
</cp:coreProperties>
</file>