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665-5077-4B19-9CA7-C7BBE080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297-7C60-47C3-89D5-EAC51820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E7A-6122-4A81-9751-CDFB9830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673-8A84-4FF7-BF98-5FB8E2B1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74F-3856-4934-BA7B-D8E21CE0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D439-2E05-4D1F-BAF0-9A6E6387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8D8F-7025-4949-9EA2-B87EE053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9DE0-6AD7-4FE6-9161-734E406B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840B-7AA9-4CDB-8B23-BB7315B1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C0E5-5829-489B-B55D-7312AEC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FB1F-6199-4AEF-8660-1C4496B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577-1DBD-4253-855C-3B44CFC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5883-3400-426B-9722-BB5E336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0912-F7E0-40FD-AB52-0667F4A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8686-8BE9-4F28-9C88-44171E3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FAB-8925-4379-AA23-66EAD847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1847-3F22-4A15-A04D-89F6CACB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32DA-7D8A-4DD5-9D27-05F570E0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0F60-7BF3-4DFC-8567-A69D581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D314-F817-4BE2-8758-215136FC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0EBA-1055-4165-AD81-D13EC223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85E1-5E65-45D7-97DB-EF7AE86C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101-EED3-49E2-A7B6-237C2DD9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CE57-3538-4A1B-9B5E-3E366A5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8D4E-1F28-4E17-B786-797470F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8405-1337-4421-89E7-7F21162A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96A7-F2E0-46C4-931D-917DAC0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8A8A-227B-4CFC-A861-0484199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A530-165A-4B39-BA3E-A1F1E815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D7BA-8C52-4FB0-9E29-B59F098B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EFEB-6DE6-4487-BB6D-F34AF889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DFD4-682D-439D-AE62-625007B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ADC6-DB5B-424E-B370-0D6F3C10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847-87FD-4732-A156-B1654AE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199A-6016-4674-B90C-5AD94EC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6216-8EA8-4139-9B7B-1F8AC677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507B-982D-4D9B-9634-EA09A89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D997-7B16-4461-8256-2353ACB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B8EC-24F2-4F26-A9E7-4B2A262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F5E3-4F89-4070-9DCF-A10FF549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498B-3B15-412D-8FD3-F7B65A24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E7FF-73A3-4391-BF29-5501ADA9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9638-1580-4F7F-9966-C41043EE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269-178B-4791-8861-EE95636E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DF4-451C-443F-AEDF-7012E5D1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8C6-A707-4B10-A1FA-93196A6A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E4B-882A-41DB-8ECC-59646AA1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C54-D665-46BB-8BB9-F9A78F7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8AFE-02C3-4588-9926-633A35DFFAC0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5EC5-C11D-4A61-B99E-9F7F0593AA6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59BF-8527-4C7B-8720-3FD82B5C6BE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51E-6DD6-4C9B-B2D7-FD50119D5B2F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title 2"/>
          <p:cNvSpPr/>
          <p:nvPr/>
        </p:nvSpPr>
        <p:spPr>
          <a:xfrm>
            <a:off x="3997440" y="2517840"/>
            <a:ext cx="489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orso 3 - Impresa-Energia intel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Modulo 4 – Case study sull’imprenditoria ver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alibri"/>
                <a:ea typeface="Arial"/>
              </a:rPr>
              <a:t>Settimane 40-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veloped b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Best-Institut für berufsbezogene Weiterbildung und Personal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7135920" y="4245120"/>
            <a:ext cx="67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68360" y="765000"/>
            <a:ext cx="774072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Il modello di busi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Eastex Material Exchange è una piattaforma web che aiuta gli scambi di materiali in eccedenza tra diversi attori. Il valore fondante dell’azienda è quello di permettere all PMI di trovare materie prime e tecnologie a basso costo e di evitare la dismissione di materiali in eccede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piattaforma è gratuita per tutti gli utenti e il servizio si sostenta pincipalmente grazie a finanziamenti pubblici locali. La gestione è affidata però a una compagnia privata, la Bright Green, fin dal dicembre del 20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piattaforma può essere usata anche da utenti istituzionali e da associazioni no-profit. Le maggior parte delle risorse della piattaforma vengono come detto da finanziamenti pubblici e da sforzi di cooperazione tra diversi paesi che sono in qualche misura coinvolti in questo proget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65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78000" y="741240"/>
            <a:ext cx="777708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enefici ei mpat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L’impatto ambientale di Eastex Material Exchange si fonda essenzialmente sul riuso di materia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al punto di vista economico, lo scambio di materiali fa risparmiare agli utenti i costi di dismissione, inclusi quelli di trasporto e di deposito nelle discariche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Gli utenti risparmiano anche grazie alla possibilità di acquistare materie prime grezze a costi inferiori a quelli di mercat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65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488880" y="681120"/>
            <a:ext cx="76644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unti di forza e barr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Il punto di partenza per la creazione della piattaforma è stato l’impegno del governo britannico per il miglioramento dell’efficienza nell’uso delle risorse energetic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Una prima barriera è stata la costruzione stessa della piattaforma. E’ stato poi difficile far comprendere agli imprenditori come usarla e spiegarne il potenziale. Un’ulteriore problema è stato quello di fidelizzare gli utenti, che è stato affrontato con una serie di campagne pubblicitarie. Infine, nel tempo le aziende hanno sviluppato la tendenza a abbandonare la piattaforma dopo aver consolidato su di essa la relazione con un partner per lo scambio di materia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65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95280" y="770040"/>
            <a:ext cx="7777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Questioni sulle quali riflett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e questo modello di business non si basasse sul finanziamento pubblico, quali fonti alternative di finanziamento potrebbe utilizzar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me si configura la relazione tra la Eastex material exchange e altre aziend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 è il ruolo che il coinvolgimento degli stakholder potrebbe giocare in un modello di business come questo e in generale per piccole e medie start-up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i strategie si possono mettere in campo per coivolgere gli stakeholder e mantenere la relazione sul lungo termin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7700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Riferimenti bibliograf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Grazie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Gruppo Didattica della Fisica</cp:lastModifiedBy>
  <dcterms:modified xsi:type="dcterms:W3CDTF">2016-06-24T14:14:23Z</dcterms:modified>
  <cp:revision>177</cp:revision>
  <dc:subject/>
  <dc:title>@MINDSET: Managing Social Relations in Schools</dc:title>
</cp:coreProperties>
</file>