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3AD4DD-EA69-4020-9627-AF2A0EB88F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547398-FEB2-4D13-98A9-6B60544B2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988CD-7861-4E8D-8FF9-B36D6759E0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8B3B80-30D6-4036-90B8-C99C57AEC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1851BD-49E0-4175-8C95-CD59F06181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D6CD1-CDBE-4E20-8930-CFE14E2242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98EC52-93E6-4824-BE86-66B59D69FC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1ADF8C-FE51-4C46-9FCC-B969E7B3B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B320A-9191-4A5B-AE7C-9F3C9E66E7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37CB18-5FBC-4922-A5EC-DC5EC584D5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F8BEB1-EBFD-49E3-8328-ECEB974B8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52C3A-F779-4D3F-A0FB-636C5B7FF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87E20C-BAED-4890-8885-947063DCFB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76DF95-717C-43F2-9C9A-B733EFF38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B7114D-E9E9-4CCC-BD5D-A36D49373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E8415E-908C-47AE-A4EC-B71CE92EAB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58B932-71CF-40B9-9629-5FE532C395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B493C7-5117-4EC8-B528-EBC8E26A36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B654D1-81B0-4AD3-B0AE-DA2B237026C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67BD68-E8CA-4FBB-A6CA-14BC7F275D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AC62A-7823-406A-B394-C431628680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045AAC-BBC2-4230-B324-AD7F19EE89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46C2C8-3C03-4435-BC74-D169176DEA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EA03D1-8717-4E9A-A174-E66C18321A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544E47-3F0F-41AF-A370-28C40EFDF1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652CCA-0638-48E2-AE29-2A6891858F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AB53B8-05AD-43E7-8192-F0CD8F22D2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FF1B0C-4722-45C4-B0C6-3C858141D2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C725169-3390-4B1E-BB5F-933547099C1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BBB8B6-8CA5-47FF-B300-182C74D55E1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9F9EE7C-1EA7-4237-AC54-D6CB453E21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B8C84B-72CD-49A7-AED9-8D3704790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2531DD-8BBD-403B-B03E-B015A23C5A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6E5EC-2D73-4028-A086-12D66422C3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C4325E3-7AAC-4BB2-8CF8-CC57878D04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FAC9A4-0ACE-4CE1-97FA-2803C80FD7D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99AF1F-3C74-46C3-AF41-3BDD987DEF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B388B0-158B-403A-B381-C2BD8D873D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19C84A-C7AC-4D15-AA79-B51A8889C9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2D647-71DF-485C-AD1A-DAA034FD42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BF0BD5B-34B9-46E2-A63C-C9D0B74F66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12F693-76A3-4FC1-8365-4A5D6B5661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E8476C-01BF-45A7-8A68-0C493B52D4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FBF9AB-AE9F-4707-9E4B-E4AB47F8C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F1BBCF-2705-464F-AC6C-ABF9CD6FA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6E0B0-ACD0-4E8E-BE55-29AD9E44D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F18089-9721-41A9-B6CC-390DB49BF6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64C62-A63A-4073-89CC-886FB9053A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8F636-9926-4E88-A8E0-EEF2BF3968AE}"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9C050-C552-4A4C-B23E-12DDE13ECE65}"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88753-CABB-4A05-862D-7AB6EB5ED251}"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828CF-04A4-40BA-B965-3DFBE0C75832}"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35280" y="2491920"/>
            <a:ext cx="4896000" cy="175284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Calibri"/>
              </a:rPr>
              <a:t>O2 - Environmental portfolio</a:t>
            </a:r>
            <a:endParaRPr b="0" lang="en-US" sz="27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Entrepreneurship-Intelligent energ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Green Entrepreneurship case stud</a:t>
            </a:r>
            <a:r>
              <a:rPr b="0" lang="en-US" sz="2400" spc="-1" strike="noStrike">
                <a:solidFill>
                  <a:srgbClr val="ffffff"/>
                </a:solidFill>
                <a:latin typeface="Calibri"/>
              </a:rPr>
              <a:t>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ek 34-36</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lvis &amp; Kresse</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34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he business model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Elvis &amp; Kresse’s value proposition is to provide its customers with fashionable and durable life-style accessories with social and environmental meaning.</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innovativeness of Elvis &amp; Kresse’s business model lies in the fact that the company manufactures their products from waste streams that traditionally are not recyclable. This brings a deeper meaning to the products as they help to solve niche waste problems. In addition, the company donates 50% of all profits made on products from each of their associated waste streams to a charitable organisation associated with the waste. The company currently manufactures products from 10 waste streams, with the most important products being durable belts and bags in timeless designs and reusable and compostable shopping bags. Today the company also sells its products through major retailers and boutiques, as well as high-end retailers. Elvis &amp; Kresse are characterised to have developed a special relationship with some of their customers.</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r>
              <a:rPr b="1" lang="en-US" sz="1200" spc="-1" strike="noStrike">
                <a:solidFill>
                  <a:srgbClr val="ffffff"/>
                </a:solidFill>
                <a:latin typeface="Calibri"/>
              </a:rPr>
              <a:t>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enriksen et al. 2012., p. 22f.  </a:t>
            </a:r>
            <a:endParaRPr b="0" lang="en-US" sz="12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 Box 9"/>
          <p:cNvSpPr/>
          <p:nvPr/>
        </p:nvSpPr>
        <p:spPr>
          <a:xfrm>
            <a:off x="378000" y="741240"/>
            <a:ext cx="7777080" cy="5202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ts and impact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The environmental benefits of Elvis &amp; Kresse’s business model stem from the fact that it reduces the amount of waste going to landfill. Since 2005 the company has prevented some 160 tonnes of waste from going to landfill.</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In terms of finances, the business model and partnership structure have also lead to large benefits; both for Elvis &amp; Kresse, but also for their waste, charity and sales partners. The waste generating partners save money because of not having to dispose of their waste. The waste associated charity partners benefit from Elvis &amp; Kresse’s profits, and sales partners benefit from the sales of Elvis &amp; Kresse’s products in their stores, e.g. Sainsbury currently sells 1,000 of Elvis &amp; Kresse’s shopping bags every week. All involved enjoy the associated PR value from upcycling waste to products and donating money to a charity, and Elvis &amp; Kresse gain enormous marketing value in the process.</a:t>
            </a:r>
            <a:endParaRPr b="0" lang="en-US" sz="1800" spc="-1" strike="noStrike">
              <a:solidFill>
                <a:srgbClr val="ffffff"/>
              </a:solidFill>
              <a:latin typeface="Times New Roman"/>
            </a:endParaRPr>
          </a:p>
          <a:p>
            <a:pPr algn="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22 f.</a:t>
            </a:r>
            <a:endParaRPr b="0" lang="en-US" sz="1200" spc="-1" strike="noStrike">
              <a:solidFill>
                <a:srgbClr val="ffffff"/>
              </a:solidFill>
              <a:latin typeface="Times New Roman"/>
            </a:endParaRPr>
          </a:p>
        </p:txBody>
      </p:sp>
      <p:sp>
        <p:nvSpPr>
          <p:cNvPr id="234"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 Box 5"/>
          <p:cNvSpPr/>
          <p:nvPr/>
        </p:nvSpPr>
        <p:spPr>
          <a:xfrm>
            <a:off x="507960" y="493560"/>
            <a:ext cx="7664400" cy="539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Drivers </a:t>
            </a:r>
            <a:r>
              <a:rPr b="1" lang="en-GB" sz="1800" spc="-1" strike="noStrike" u="sng">
                <a:solidFill>
                  <a:srgbClr val="ffffff"/>
                </a:solidFill>
                <a:uFillTx/>
                <a:latin typeface="Calibri"/>
                <a:ea typeface="Times New Roman"/>
              </a:rPr>
              <a:t>and barriers </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One of the two main drivers behind the success of Elvis &amp; Kresse’s business has been the waste partnerships. The other main driver behind the success of Elvis &amp; Kresse has been the founders’ personal commitment and motivation to avoid that waste goes to landfill.</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One of Elvis &amp; Kresse’s main barriers was the almost immediate success of their business. When sales of their belts took off they were completely unprepared to meet the demand. Also, space for storing raw materials for new products was extremely limited and still poses a challenge for Elvis &amp; Kresse’s growth. Looking ahead towards the establishment of the Elvis &amp; Kresse brand, another barrier was their limited knowledge about fashion, design and manufacturing. In all of these areas, Elvis &amp; Kresse have literally relied on learning by doing. </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22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38"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 Box 5"/>
          <p:cNvSpPr/>
          <p:nvPr/>
        </p:nvSpPr>
        <p:spPr>
          <a:xfrm>
            <a:off x="395280" y="770040"/>
            <a:ext cx="7777080" cy="414288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ction questions</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US" sz="1800" spc="-1" strike="noStrike">
                <a:solidFill>
                  <a:srgbClr val="ffffff"/>
                </a:solidFill>
                <a:latin typeface="Calibri"/>
              </a:rPr>
              <a:t>What are the strengths of the company?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How do these affect the company`s business model (positive and negative)?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On a larger scale, how is risk taking linked to entrepreneurship?</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can an entrepreneur do in order to take control of risks or support decision making?</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42"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lvis &amp; Kres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Elvis &amp; Kresse</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erence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mb</cp:lastModifiedBy>
  <dcterms:modified xsi:type="dcterms:W3CDTF">2016-02-15T10:57:17Z</dcterms:modified>
  <cp:revision>173</cp:revision>
  <dc:subject/>
  <dc:title>@MINDSET: Managing Social Relations in Schools</dc:title>
</cp:coreProperties>
</file>