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0FE46-DCFD-43A0-A908-0D62106B79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CA5C-5322-40A2-85AE-33F222F3B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CBA367-8FCF-4675-892A-1474CF27DA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36C38-E37B-4B98-81AD-9AC3CE99D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3A9F4A-F193-478E-B38A-F1427727C3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6B3172-01C7-416E-9A95-404BFC6D57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6A5662-1D3C-4BEE-A3A0-0B1E3A17E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C7F9CF-3C32-4444-A02A-C74EF53746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8FFB1-603C-49C2-A144-88CEEC7CFA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BA04D9-957B-4143-B41E-17A4459BE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0E966-1301-4872-B635-619D0491FB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1D810-81D8-4715-84BC-07605C48D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61314B-5EFD-4A4E-AB0B-9BCA17E97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8227C3-8C53-497F-BDFC-22AC13DD1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490976-E456-412E-90AF-868A38E2E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ADEE55-B3FD-44DC-BAFE-28420D5BA7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F802C6-FC83-4624-9E3F-97E60D903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9D2B7F-7B7B-4B49-A4A3-D025ED4D96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47FD6F-D1C4-411B-B745-C08D29B1D4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92348C-899F-4F82-97B3-6537A37E4C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B810071-1367-469C-AA1C-AC1E67C66E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E1E697-49D2-4EF1-8558-46C9B8E7F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055807-A627-4178-BC89-3709D178B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45BECA-EAFB-4C29-9A39-DCA8112A1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478C3-DDEA-4F92-B386-A4FF01AAC5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42650DC-17C0-4D8B-860A-2D6CCA7B1F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F9ECA1-BF33-4DD5-B2FB-D07A7CACC5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898FD-4D7C-4775-B211-152AB73E36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19DD20-5E8D-411A-823F-8F4F3E34CB4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4B2562-13C7-4B2B-A3F9-B095A0A858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D9234B-0DC2-499F-8E49-3B8441113BA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E631DD-E2E2-4A3A-BCB1-3D2A75F637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1017FB-E85D-4769-92E2-76CF6A43F7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4DE66-395C-4BF0-AF5E-49EC47184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8005EB7-AB5E-4BD4-B935-E78CE2242A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C5F2049-9F98-46BA-8CF1-4DA20C31828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27849E-F195-4053-9C38-55CCC9D1A8D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75F894-E13D-402D-A073-D8F17E2907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A801D-BAA0-4186-AF16-3D69BB0CF1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4829BC-981D-48A2-97E4-835974C76A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F976FD-666C-4500-9B4F-D5E56919ED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6F4B27-B40B-4F3E-974A-136DE1DD85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251BD3-8367-4481-8D31-0872305C53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287E51-59E2-48B8-871C-9CB49DDFD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EB055-E10A-434E-BD51-F1590A1E9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A6CD-F45D-4F6E-A19E-FEE2DC30B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61F49-F341-44D5-A6F2-FFE6BB3E8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CACD-2E36-48FB-AC8C-5EEE8D334F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C724C-A32A-41F5-AE6C-15E3552FDD55}"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1CC99-39C5-4C7E-8927-ED452FF6AA19}"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05359-A8B7-4D0E-946C-FD47088C23BD}"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C46D6-9B59-43A1-A956-212309B8220A}"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35280" y="2491920"/>
            <a:ext cx="4896000" cy="175284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Calibri"/>
              </a:rPr>
              <a:t>O2 - Environmental portfolio</a:t>
            </a:r>
            <a:endParaRPr b="0" lang="en-US" sz="27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Entrepreneurship-Intelligent energ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Green Entrepreneurship case stud</a:t>
            </a:r>
            <a:r>
              <a:rPr b="0" lang="en-US" sz="2400" spc="-1" strike="noStrike">
                <a:solidFill>
                  <a:srgbClr val="ffffff"/>
                </a:solidFill>
                <a:latin typeface="Calibri"/>
              </a:rPr>
              <a:t>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ek 43-45</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22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761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he business model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value proposition of Siemens Building Technologies’ performance contracting services is to provide customers with low-risk and self-financed energy saving solutions for large buildings and ships. The energy savings lead both to less money spent on energy consumption and lower CO2 emissions.</a:t>
            </a:r>
            <a:r>
              <a:rPr b="1" lang="en-US" sz="1800" spc="-1" strike="noStrike">
                <a:solidFill>
                  <a:srgbClr val="ffffff"/>
                </a:solidFill>
                <a:latin typeface="Calibri"/>
              </a:rPr>
              <a:t>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innovative part of the business model is twofold. First of all, Siemens can provide its customers with a guarantee of meeting very specific energy saving targets by basing their solutions on proven technologies and specific knowhow in the area. If these savings are not met, Siemens will pay the difference to their customers. The investment therefore only carries a very small risk for the customer. And secondly, if savings are higher than estimated, the additional benefit is shared between Siemens and the customer. This creates an incentive for Siemens to strive for over-performance, and it motivates the customer to play an active role in helping to reduce energy consumption as much as possible to reap even larger benefits. As such, the performance contract also helps to facilitate close cooperation between Siemens and its customers, which is necessary for realising energy savings.</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0" lang="en-US" sz="1200" spc="-1" strike="noStrike">
                <a:solidFill>
                  <a:srgbClr val="ffffff"/>
                </a:solidFill>
                <a:latin typeface="Calibri"/>
              </a:rPr>
              <a:t>Henriksen et al. 2012., p. 58 f.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4113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ts and impact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Siemens’ energy saving solutions lead to significant economic gains in terms of increasing building values. For instance, a building which has much lower operation costs than similar buildings is of much more value to potential renters. For this reason, building owners may set higher net rents, hence increasing the net revenue and financial efficiency of invested capital. In addition, energy saving solutions can increase a company’s environmental image and CSR profile. Up until recently, the value derived from this source has mostly been seen as a spillover effect, but its merit and importance is increasing significantly.</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p:txBody>
      </p:sp>
      <p:sp>
        <p:nvSpPr>
          <p:cNvPr id="234"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507960" y="493560"/>
            <a:ext cx="7664400" cy="632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Drivers </a:t>
            </a:r>
            <a:r>
              <a:rPr b="1" lang="en-GB" sz="1800" spc="-1" strike="noStrike" u="sng">
                <a:solidFill>
                  <a:srgbClr val="ffffff"/>
                </a:solidFill>
                <a:uFillTx/>
                <a:latin typeface="Calibri"/>
                <a:ea typeface="Times New Roman"/>
              </a:rPr>
              <a:t>and barriers </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he overall driver of Siemens’ energy saving solutions relates to what the company refers to as a specific ‘megatrend’; namely, the ongoing population growth coupled with the increase in urbanisation and the rising demand for energy. Today, cities represent 80 per cent of the world’s CO2 emissions but only 50 per cent of the world’s population. In the future, the city populations will grow, as well the need for energy, and this means a growing market for the performance contracting services that Siemens offers. Likewise, rapid technological developments make it possible to deliver solutions with higher and higher energy savings, providing a foundation for energy savings services of a more continuous nature, i.e. cycles over a 10-year period for a given building.</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Obstacles may arise from diverting interests between owners and renters of the building to which the energy saving solution is applied. The benefits of lower energy consumption will be reaped by the renters, leaving the obvious question; who should take on the investment, the owner or the renter?</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58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50889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ction questions</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US" sz="1800" spc="-1" strike="noStrike">
                <a:solidFill>
                  <a:srgbClr val="ffffff"/>
                </a:solidFill>
                <a:latin typeface="Calibri"/>
              </a:rPr>
              <a:t>What is the company`s ambition to introduce this change of business model?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How can its introduction be managed internally?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hat are the resources of the company?</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How is the external view of the company concerned?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hat are the impacts of this external views and internal recourses in view of the business model?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hat are the main differences in comparison to an SME?</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How is the owner-renter discrepancy addressed?</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a:t>
            </a:r>
            <a:r>
              <a:rPr b="1" lang="en-US" sz="2400" spc="-1" strike="noStrike">
                <a:solidFill>
                  <a:srgbClr val="ffffff"/>
                </a:solidFill>
                <a:latin typeface="Calibri"/>
              </a:rPr>
              <a:t>Siemens Building Technologi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erence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cmb</cp:lastModifiedBy>
  <dcterms:modified xsi:type="dcterms:W3CDTF">2016-02-15T10:58:37Z</dcterms:modified>
  <cp:revision>178</cp:revision>
  <dc:subject/>
  <dc:title>@MINDSET: Managing Social Relations in Schools</dc:title>
</cp:coreProperties>
</file>