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568DCB-45B6-4F0D-96D5-7C6E17C5C7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5D6F5-5A0A-4472-9059-9DE36B790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391069-5202-46FE-8ACD-C47993DB1D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9D1CA-2771-4072-854A-8B67B955C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478BF6E-5274-4009-B3FE-6DEF025E26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E527CA-6231-42CA-ADA1-39B1ECDB56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4852B-3113-4AFF-A0E1-6A775CE2A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E59824-027A-4E98-BC25-D289F48BA7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443D6A-2CC1-4C85-8887-A8E8C8D10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DD16E9-7B30-4444-B287-B9F929F30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B30B0E-AFC2-4697-807E-89923EE04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A8F098-7AA8-466C-93DE-ECDF9CADA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091D6-7062-471C-B900-55982E16C3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94FC24-116B-42B6-B634-F306EA33C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B0678A-0A63-4E0F-8D38-0C05926184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F6A8F4-C4BD-4965-B80E-2CD9759EA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8A2F7E-1459-423D-8DC6-F0995825F7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29B6636-34A9-47D6-A0E9-C5525B5896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0C86A1-9E41-4F50-938C-E5128CB764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2C2DE2-8325-46FE-B39F-7F4753B474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99EA1E-4462-4D7F-9D5A-6C0E42F262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8194FD-B6A4-4574-83F0-80473D9ED3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E126C1-6823-445E-B277-0F436E6304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14A259-1BD7-4697-ACFC-5FA748AF614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0F4033-CDA2-40F3-AC14-FB7880C393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C74446-10B3-4BDC-B40F-D07334D5B7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63C458-901D-434D-9170-7B905F6E24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AA0760-46B5-455B-A6DF-0EF8873A42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1BA3C67-30CD-4A1E-A746-7F2FFA5B08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B59BCF3-06E7-4B29-896B-5BBBC9239F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A8FCCC1-7DDE-49DE-B2BC-325C16A5EA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A02F774-DF2D-4234-98AA-5E14229AF8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B8127B-155C-483A-85D3-E5E91ABC85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E88390-F2DC-42E7-BF80-E5EA3B550D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24976A-D3E1-4701-B483-CB60EC1115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0D30B7-3C5D-44E9-A79E-D599C9BBB6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40B4A70-45D5-45D3-8571-C2EC6E8072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7C8C45-5CFB-4405-85E1-15E9BBE4C9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6C545F-C55A-4294-9B63-D959E7B611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BD9E21-4722-4D1A-ABD7-1EEB3C3621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D0D913-B08D-4E51-8BEC-607CDFF80C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4DBD14-5758-4616-A956-D01AD9D6C3A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912166-61E6-4267-BDA1-720E5008B6C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84D509-E201-4650-ACF9-6ACCFA8FA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343CEA-78F4-4668-BAC5-C84852426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BE3E8-3743-4887-9B34-B359B7DA3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EEF9C5-D437-45CE-98B9-C298E82169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B46B8-68FF-41DB-B78B-CE545EE88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E96E9-4703-437C-BBB0-4616C7782CCA}"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6FB3B-4E4D-4D56-A0FF-F5A07B3A2E62}"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0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A9384-5DCF-4460-A82B-BE0E5B242A1A}"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42" name="Group 2"/>
          <p:cNvGrpSpPr/>
          <p:nvPr/>
        </p:nvGrpSpPr>
        <p:grpSpPr>
          <a:xfrm>
            <a:off x="0" y="0"/>
            <a:ext cx="9144000" cy="6934320"/>
            <a:chOff x="0" y="0"/>
            <a:chExt cx="9144000" cy="6934320"/>
          </a:xfrm>
        </p:grpSpPr>
        <p:sp>
          <p:nvSpPr>
            <p:cNvPr id="143"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E16BC-B658-4A9E-9C9B-C0BA1DD76D4C}"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635280" y="2565360"/>
            <a:ext cx="4896000" cy="1752480"/>
          </a:xfrm>
          <a:prstGeom prst="rect">
            <a:avLst/>
          </a:prstGeom>
          <a:noFill/>
          <a:ln w="0">
            <a:noFill/>
          </a:ln>
        </p:spPr>
        <p:txBody>
          <a:bodyPr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Calibri"/>
              </a:rPr>
              <a:t>O2 - Environmental portfolio</a:t>
            </a:r>
            <a:endParaRPr b="0" lang="en-US" sz="27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Course 3 - Entrepreneurship-Intelligent energy</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Module 4 – Green Entrepreneurship case stud</a:t>
            </a:r>
            <a:r>
              <a:rPr b="0" lang="en-US" sz="2400" spc="-1" strike="noStrike">
                <a:solidFill>
                  <a:srgbClr val="ffffff"/>
                </a:solidFill>
                <a:latin typeface="Calibri"/>
              </a:rPr>
              <a:t>y</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eek 40-42</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eveloped by: </a:t>
            </a:r>
            <a:endParaRPr b="0" lang="en-US" sz="18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Best-Institut für berufsbezogene Weiterbildung und Personaltraining</a:t>
            </a:r>
            <a:endParaRPr b="0" lang="en-US" sz="1800" spc="-1" strike="noStrike">
              <a:solidFill>
                <a:srgbClr val="ffffff"/>
              </a:solidFill>
              <a:latin typeface="Calibri"/>
            </a:endParaRPr>
          </a:p>
        </p:txBody>
      </p:sp>
      <p:pic>
        <p:nvPicPr>
          <p:cNvPr id="222" name="Θέση εικόνας 5" descr=""/>
          <p:cNvPicPr/>
          <p:nvPr/>
        </p:nvPicPr>
        <p:blipFill>
          <a:blip r:embed="rId2"/>
          <a:stretch/>
        </p:blipFill>
        <p:spPr>
          <a:xfrm>
            <a:off x="7812000" y="6308640"/>
            <a:ext cx="1079640" cy="317520"/>
          </a:xfrm>
          <a:prstGeom prst="rect">
            <a:avLst/>
          </a:prstGeom>
          <a:ln w="0">
            <a:noFill/>
          </a:ln>
        </p:spPr>
      </p:pic>
      <p:pic>
        <p:nvPicPr>
          <p:cNvPr id="223"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224" name="Picture 2" descr=""/>
          <p:cNvPicPr/>
          <p:nvPr/>
        </p:nvPicPr>
        <p:blipFill>
          <a:blip r:embed="rId4"/>
          <a:stretch/>
        </p:blipFill>
        <p:spPr>
          <a:xfrm>
            <a:off x="6846840" y="5013360"/>
            <a:ext cx="676440" cy="55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Eastex Material Exchange</a:t>
            </a:r>
            <a:endParaRPr b="0" lang="en-US" sz="2400" spc="-1" strike="noStrike">
              <a:solidFill>
                <a:srgbClr val="ffffff"/>
              </a:solidFill>
              <a:latin typeface="Times New Roman"/>
            </a:endParaRPr>
          </a:p>
        </p:txBody>
      </p:sp>
      <p:pic>
        <p:nvPicPr>
          <p:cNvPr id="226" name="Θέση εικόνας 5" descr=""/>
          <p:cNvPicPr/>
          <p:nvPr/>
        </p:nvPicPr>
        <p:blipFill>
          <a:blip r:embed="rId1"/>
          <a:stretch/>
        </p:blipFill>
        <p:spPr>
          <a:xfrm>
            <a:off x="7812000" y="6308640"/>
            <a:ext cx="1079640" cy="317520"/>
          </a:xfrm>
          <a:prstGeom prst="rect">
            <a:avLst/>
          </a:prstGeom>
          <a:ln w="0">
            <a:noFill/>
          </a:ln>
        </p:spPr>
      </p:pic>
      <p:pic>
        <p:nvPicPr>
          <p:cNvPr id="22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28" name="Text Box 5"/>
          <p:cNvSpPr/>
          <p:nvPr/>
        </p:nvSpPr>
        <p:spPr>
          <a:xfrm>
            <a:off x="468360" y="765000"/>
            <a:ext cx="7740720" cy="5130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The business model </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 Eastex Material Exchange is a web-based platform that facilitates the exchange of surplus materials between different parties. The value proposition of the Eastex Material Exchange is to make it possible for SME to find cheaper raw materials and equipment, or to exchange their surplus materials while contributing to lower waste generation.</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 platform is free of charge to all members; a service which has mainly been financed through local government funding. Management was however handed over to a private community interest company called Bright Green in December 2010, with the aim of making the platform self-sustained.</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 platform can also be used by public organisations, as well as social enterprises, charities and other types of organisations. In terms of key resources, the Eastex Materials Exchange platform has benefitted greatly from local government grants as well as cooperative efforts between the different counties that were involved with the project.</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65 f.</a:t>
            </a:r>
            <a:endParaRPr b="0" lang="en-US" sz="1200" spc="-1" strike="noStrike">
              <a:solidFill>
                <a:srgbClr val="ffffff"/>
              </a:solidFill>
              <a:latin typeface="Times New Roman"/>
            </a:endParaRPr>
          </a:p>
        </p:txBody>
      </p:sp>
      <p:sp>
        <p:nvSpPr>
          <p:cNvPr id="229" name="AutoShape 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Θέση εικόνας 5" descr=""/>
          <p:cNvPicPr/>
          <p:nvPr/>
        </p:nvPicPr>
        <p:blipFill>
          <a:blip r:embed="rId1"/>
          <a:stretch/>
        </p:blipFill>
        <p:spPr>
          <a:xfrm>
            <a:off x="7812000" y="6308640"/>
            <a:ext cx="1079640" cy="317520"/>
          </a:xfrm>
          <a:prstGeom prst="rect">
            <a:avLst/>
          </a:prstGeom>
          <a:ln w="0">
            <a:noFill/>
          </a:ln>
        </p:spPr>
      </p:pic>
      <p:pic>
        <p:nvPicPr>
          <p:cNvPr id="231"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2" name="Text Box 8"/>
          <p:cNvSpPr/>
          <p:nvPr/>
        </p:nvSpPr>
        <p:spPr>
          <a:xfrm>
            <a:off x="395280" y="907920"/>
            <a:ext cx="828036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Text Box 9"/>
          <p:cNvSpPr/>
          <p:nvPr/>
        </p:nvSpPr>
        <p:spPr>
          <a:xfrm>
            <a:off x="378000" y="741240"/>
            <a:ext cx="7777080" cy="39304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ea typeface="Times New Roman"/>
              </a:rPr>
              <a:t>Benefits and impacts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he environmental impact of the Eastex Material Exchange stems from the material exchanges occurring through the platform and thereby material reuses.</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 terms of finances, the material exchange helps its members to avoid waste disposal costs, including transportation costs and landfill taxes. Allowing platform members to obtain raw materials at cheaper prices compared to what would otherwise have been the case also saves money. </a:t>
            </a:r>
            <a:endParaRPr b="0" lang="en-US" sz="1800" spc="-1" strike="noStrike">
              <a:solidFill>
                <a:srgbClr val="ffffff"/>
              </a:solidFill>
              <a:latin typeface="Times New Roman"/>
            </a:endParaRPr>
          </a:p>
          <a:p>
            <a:pPr algn="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ffffff"/>
                </a:solidFill>
                <a:latin typeface="Calibri"/>
              </a:rPr>
              <a:t>Henriksen et al. </a:t>
            </a:r>
            <a:r>
              <a:rPr b="0" lang="en-GB" sz="1200" spc="-1" strike="noStrike">
                <a:solidFill>
                  <a:srgbClr val="ffffff"/>
                </a:solidFill>
                <a:latin typeface="Calibri"/>
              </a:rPr>
              <a:t>2012., p. 65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4"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Eastex Material Exchan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Θέση εικόνας 5" descr=""/>
          <p:cNvPicPr/>
          <p:nvPr/>
        </p:nvPicPr>
        <p:blipFill>
          <a:blip r:embed="rId1"/>
          <a:stretch/>
        </p:blipFill>
        <p:spPr>
          <a:xfrm>
            <a:off x="7812000" y="6308640"/>
            <a:ext cx="1079640" cy="317520"/>
          </a:xfrm>
          <a:prstGeom prst="rect">
            <a:avLst/>
          </a:prstGeom>
          <a:ln w="0">
            <a:noFill/>
          </a:ln>
        </p:spPr>
      </p:pic>
      <p:pic>
        <p:nvPicPr>
          <p:cNvPr id="236"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7" name="Text Box 5"/>
          <p:cNvSpPr/>
          <p:nvPr/>
        </p:nvSpPr>
        <p:spPr>
          <a:xfrm>
            <a:off x="488880" y="681120"/>
            <a:ext cx="7664400" cy="4662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u="sng">
                <a:solidFill>
                  <a:srgbClr val="ffffff"/>
                </a:solidFill>
                <a:uFillTx/>
                <a:latin typeface="Calibri"/>
                <a:ea typeface="Times New Roman"/>
              </a:rPr>
              <a:t>Drivers </a:t>
            </a:r>
            <a:r>
              <a:rPr b="1" lang="en-GB" sz="1800" spc="-1" strike="noStrike" u="sng">
                <a:solidFill>
                  <a:srgbClr val="ffffff"/>
                </a:solidFill>
                <a:uFillTx/>
                <a:latin typeface="Calibri"/>
                <a:ea typeface="Times New Roman"/>
              </a:rPr>
              <a:t>and barriers </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he main driver for pursuing the Eastex Materials Exchange was the British government’s focus on improving resource efficiency.</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here have been three main barriers with regards to setting up the Eastex Material Exchange. The first was related to educating businesses to make use of the platform and explaining its potential. The second barrier was to make companies use the platform on a continued basis, which required several marketing campaigns. The third barrier has been that once companies joined as members in the material exchange and established a profitable relationship with a ‘waste’ partner, there would be a tendency for the companies to leave the platform.</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65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8"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Eastex Material Exchan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Θέση εικόνας 5" descr=""/>
          <p:cNvPicPr/>
          <p:nvPr/>
        </p:nvPicPr>
        <p:blipFill>
          <a:blip r:embed="rId1"/>
          <a:stretch/>
        </p:blipFill>
        <p:spPr>
          <a:xfrm>
            <a:off x="7812000" y="6308640"/>
            <a:ext cx="1079640" cy="317520"/>
          </a:xfrm>
          <a:prstGeom prst="rect">
            <a:avLst/>
          </a:prstGeom>
          <a:ln w="0">
            <a:noFill/>
          </a:ln>
        </p:spPr>
      </p:pic>
      <p:pic>
        <p:nvPicPr>
          <p:cNvPr id="240"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1" name="Text Box 5"/>
          <p:cNvSpPr/>
          <p:nvPr/>
        </p:nvSpPr>
        <p:spPr>
          <a:xfrm>
            <a:off x="395280" y="770040"/>
            <a:ext cx="7777080" cy="55062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eflection questions</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US" sz="1800" spc="-1" strike="noStrike">
                <a:solidFill>
                  <a:srgbClr val="ffffff"/>
                </a:solidFill>
                <a:latin typeface="Calibri"/>
              </a:rPr>
              <a:t>Think of different dimensions, the model has a positive impact on the environment. </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If the model wasn`t relying on public funding, what alternative funding options are there?</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How is the relationship between Eastex material exchange and companies?</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Please describe the importance of stakeholder involvement, especially for small Start-ups.</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What strategies are there in order to get relevant stakeholder on board and to guarantee a long-term relationship?</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Eastex Material Exchan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pic>
        <p:nvPicPr>
          <p:cNvPr id="243" name="Θέση εικόνας 5" descr=""/>
          <p:cNvPicPr/>
          <p:nvPr/>
        </p:nvPicPr>
        <p:blipFill>
          <a:blip r:embed="rId1"/>
          <a:stretch/>
        </p:blipFill>
        <p:spPr>
          <a:xfrm>
            <a:off x="7812000" y="6308640"/>
            <a:ext cx="1079640" cy="317520"/>
          </a:xfrm>
          <a:prstGeom prst="rect">
            <a:avLst/>
          </a:prstGeom>
          <a:ln w="0">
            <a:noFill/>
          </a:ln>
        </p:spPr>
      </p:pic>
      <p:pic>
        <p:nvPicPr>
          <p:cNvPr id="24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5"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Eastex Material Exchange</a:t>
            </a:r>
            <a:endParaRPr b="0" lang="en-US" sz="2400" spc="-1" strike="noStrike">
              <a:solidFill>
                <a:srgbClr val="ffffff"/>
              </a:solidFill>
              <a:latin typeface="Times New Roman"/>
            </a:endParaRPr>
          </a:p>
        </p:txBody>
      </p:sp>
      <p:sp>
        <p:nvSpPr>
          <p:cNvPr id="246" name="Text Box 5"/>
          <p:cNvSpPr/>
          <p:nvPr/>
        </p:nvSpPr>
        <p:spPr>
          <a:xfrm>
            <a:off x="395280" y="770040"/>
            <a:ext cx="7777080" cy="2728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eference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nriksen et al. (2012): Green business model innovation. Business case study compendum. Nordic Innovation publication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Θέση εικόνας 5" descr=""/>
          <p:cNvPicPr/>
          <p:nvPr/>
        </p:nvPicPr>
        <p:blipFill>
          <a:blip r:embed="rId2"/>
          <a:stretch/>
        </p:blipFill>
        <p:spPr>
          <a:xfrm>
            <a:off x="7812000" y="6308640"/>
            <a:ext cx="1079640" cy="317520"/>
          </a:xfrm>
          <a:prstGeom prst="rect">
            <a:avLst/>
          </a:prstGeom>
          <a:ln w="0">
            <a:noFill/>
          </a:ln>
        </p:spPr>
      </p:pic>
      <p:pic>
        <p:nvPicPr>
          <p:cNvPr id="248"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49"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Thank you!</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cmb</cp:lastModifiedBy>
  <dcterms:modified xsi:type="dcterms:W3CDTF">2016-02-15T10:58:09Z</dcterms:modified>
  <cp:revision>171</cp:revision>
  <dc:subject/>
  <dc:title>@MINDSET: Managing Social Relations in Schools</dc:title>
</cp:coreProperties>
</file>