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899-146E-4DA7-8759-579A8916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888-E433-4048-9163-1FC4F687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E41-E2BA-4A86-AC8C-45C328B1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C60-1C57-48A4-ADE1-422839DA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A4C4-C035-491E-B3AF-69321D66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E7EA-D597-466A-A529-C650F823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D75A-45DF-4A20-985E-D409B167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AA0E-1EAA-4BED-BEBD-EBA6F8DD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551D-0258-4BAC-8E3C-0B8C7415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4AA8-DB63-4425-B798-3A0666AF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A3D1-6FE7-4D71-BC7B-FD0BEEC8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058-BE3C-4EB1-9474-405207CA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D18B-B27B-48A7-9936-E4C02D79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8AAF-F918-4ADA-9409-31FEC0C0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B34C-1C50-4F14-AB1A-F3512EC2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9F7D-359F-46BD-AA85-B00E507F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D95F-DB5C-4C21-976C-0766E7B8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ED62-5E53-4F09-A54E-EE3FCFC7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88D8E-69ED-4A96-90D7-F221BFC7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46C7-1B8C-4553-8871-C8111DF7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A35A4-38AD-4C7A-8DC6-86CA9CBA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66C3-700B-4852-A2DB-E32189A5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58F-5788-4102-9F1C-3B8F9E06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7FB0F-581A-4D9A-90DE-2BBB30DE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9742-F7F4-4224-A5CD-BC65F689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FCEF0-6242-45CE-9391-7F7A8814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A00C-FBCF-4F89-AFD3-0E536000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8E4AD-DFE4-4B7D-B6A6-D91DFE16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12BC4-3E11-430F-A387-95F2D1F6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44780-B98D-42D5-98C7-58D0954A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6D70E-B2F6-4611-BE7D-8695109C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A504C-F956-42E6-8902-A1F15C78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ADF75-5C67-46E3-8664-132D77AC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9A9-64F5-4E4D-AE3B-016FC889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FA787-4170-4F36-9CCB-DAF22A47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7313E-3592-437C-9AB6-B171F443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3DC87-28DD-4F01-83FC-B941EC89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AE66B-7E79-4D82-AF09-22ECAC3C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DE0C4-7678-4322-A031-580BEB2C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8203E-C755-4956-81BB-C2330E31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DA4AA-6D77-4ADD-86CA-990196E6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B27B3-CAFB-4CB7-A785-174594C6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85408-3674-4707-8DA0-F88AEDCB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8CE-FE6F-4966-B950-46B0638E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A5AB-9658-4F04-A363-62A85A98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71C-22F0-4DB3-9B93-1CA0C140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632-5D09-4F1C-8EB1-DECF42A8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E00-380E-4837-8CE2-5C670E48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5b8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4349-2DAC-4F3A-B1C6-010F3C8C053C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00a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D648-119A-4312-9542-2DAC8E36B82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00a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2E2D-FF6B-4DB3-B7E6-0E682459D19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75b8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5600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6fb56d"/>
                </a:gs>
                <a:gs pos="100000">
                  <a:srgbClr val="00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CC87-0601-45AD-A66A-1F6A71CA847F}" type="slidenum">
              <a:rPr b="0" lang="de-A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995640" y="1557360"/>
            <a:ext cx="4896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O2 – </a:t>
            </a:r>
            <a:r>
              <a:rPr b="1" lang="el-GR" sz="3200" spc="-1" strike="noStrike">
                <a:solidFill>
                  <a:srgbClr val="ffffff"/>
                </a:solidFill>
                <a:latin typeface="Calibri"/>
              </a:rPr>
              <a:t>Περιβαλλοντικό χαρτοφυλάκι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Πρόγραμμα εκπαίδευσης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3 –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Επιχειρηματικότητα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 Έξυπνη ενέργεια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Ενότητα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4 –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Μελέτη περίπτωσης πράσινης επιχειρηματικότητα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Βδομάδες 34-3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Calibri"/>
              </a:rPr>
              <a:t>Αναπτύχθηκε από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Best-Institut für berufsbezogene Weiterbildung und Personaltrain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2" name="Θέση εικόνας 5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23" name="Θέση εικόνας 6" descr=""/>
          <p:cNvPicPr/>
          <p:nvPr/>
        </p:nvPicPr>
        <p:blipFill>
          <a:blip r:embed="rId3"/>
          <a:srcRect l="4339" t="0" r="4339" b="0"/>
          <a:stretch/>
        </p:blipFill>
        <p:spPr>
          <a:xfrm>
            <a:off x="6372360" y="6308640"/>
            <a:ext cx="1150920" cy="36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4"/>
          <a:stretch/>
        </p:blipFill>
        <p:spPr>
          <a:xfrm>
            <a:off x="324000" y="6093000"/>
            <a:ext cx="723600" cy="596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5"/>
          <a:stretch/>
        </p:blipFill>
        <p:spPr>
          <a:xfrm>
            <a:off x="7448400" y="5229360"/>
            <a:ext cx="7239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Calibri"/>
              </a:rPr>
              <a:t>ΜΕΛΕΤΗ ΠΕΡΙΠΤΩΣΗΣ ΠΡΑΣΙΝΗΣ ΕΠΙΧΕΙΡΗΜΑΤΙΚΟΤΗΤΑΣ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: Elvis &amp; Kre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28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468360" y="765000"/>
            <a:ext cx="77407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ffffff"/>
                </a:solidFill>
                <a:uFillTx/>
                <a:latin typeface="Calibri"/>
              </a:rPr>
              <a:t>Το επιχειρηματικό μοντέλο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Η πολύτιμη πρόταση της Elvis &amp; Kresse είναι να παρέχει στους πελάτες της μοντέρνα και ανθεκτικά </a:t>
            </a:r>
            <a:r>
              <a:rPr b="1" lang="en-US" sz="1700" spc="-1" strike="noStrike">
                <a:solidFill>
                  <a:srgbClr val="ffffff"/>
                </a:solidFill>
                <a:latin typeface="Calibri"/>
              </a:rPr>
              <a:t>life-style </a:t>
            </a: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αξεσουάρ με κοινωνική και περιβαλλοντική σημασία. Η καινοτομία του επιχειρηματικού μοντέλου της Elvis &amp; Kresse έγκειται στο γεγονός ότι η εταιρεία κατασκευάζει τα προϊόντα τους από τις ροές αποβλήτων που παραδοσιακά δεν είναι ανακυκλώσιμα. Αυτό φέρνει ένα βαθύτερο νόημα στα προϊόντα καθώς βοηθούν στην επίλυση προβλημάτων των αποβλήτων. Επιπλέον, η εταιρεία δωρίζει το 50% όλων των κερδών επί των προϊόντων από κάθε συνδεόμενη ροή αποβλήτων τους σε μια φιλανθρωπική οργάνωση που συνδέεται με τα απόβλητα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ffffff"/>
                </a:solidFill>
                <a:latin typeface="Calibri"/>
              </a:rPr>
              <a:t>Η εταιρεία κατασκευάζει σήμερα προϊόντα από 10 ροές αποβλήτων, με τα πιο σημαντικά της προϊόντα να είναι ανθεκτικές ζώνες και τσάντες σε διαχρονικό σχεδιασμό και επαναχρησιμοποιήσιμες και λιπασματοποιήσιμες σακούλες αγορών. Σήμερα, η εταιρεία πωλεί τα προϊόντα της μέσω των μεγάλων λιανοπωλητών και μπουτίκ, καθώς και λιανοπωλητών υψηλής τεχνολογίας. Η Elvis &amp; Kresse χαρακτηρίζεται από το ότι έχει αναπτύξει μια ιδιαίτερη σχέση με μερικούς από τους πελάτες τους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enriksen et al. 2012., p. 22f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32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395280" y="90792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78000" y="741240"/>
            <a:ext cx="777708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Πλεονεκτήματα και επιπτώσεις</a:t>
            </a:r>
            <a:r>
              <a:rPr b="1" lang="en-GB" sz="16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Τα περιβαλλοντικά πλεονεκτήματα του επιχειρηματικού μοντέλου της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Elvis &amp; Kresse’s 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πηγάζουν από το γεγονός ότι ελαττώνει το ποσό των αποβλήτων που καταλήγουν σε χώρους υγειονομικής ταφής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. 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Από το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 2005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, η εταιρεία έχει εμποδίσει 160 τόνους αποβλήτους από το να καταλήξουν εκεί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Σχετικά με τα οικονομικά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, 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το επιχειρηματικό μοντέλο και η δομή των εταιρικών της σχέσεων έχουν επίσης οδηγήσει σε μεγάλα πλεονεκτήματα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; 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τόσο για την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 Elvis &amp; Kresse, 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αλλά και για τα απόβλητα, τη φιλανθρωπία και τους εταίρους πωλήσεών της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. 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Οι εταίροι που παράγουν απόβλητα εξοικονομούν γιατί δεν πρέπει να τα διαθέσουν. Τα φιλανθρωπικοί εταίροι που σχετίζονται με τα απόβλητα κερδίζουν από τα κέρδη της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Elvis &amp; Kresse’s, 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και οι εταίροι πωλήσεων κερδίζουν από τις πωλήσεις των προϊόντων της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Elvis &amp; Kresse’s 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στα καταστήματά τους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, 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π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χ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. 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η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Sainsbury 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πουλάει σήμερα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1,000 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από τις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Elvis &amp; Kresse’s </a:t>
            </a: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τσάντες αγορών κάθε βδομάδα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22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Calibri"/>
              </a:rPr>
              <a:t>ΜΕΛΕΤΗ ΠΕΡΙΠΤΩΣΗΣ ΠΡΑΣΙΝΗΣ ΕΠΙΧΕΙΡΗΜΑΤΙΚΟΤΗΤΑΣ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: Elvis &amp; Kre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37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507960" y="493560"/>
            <a:ext cx="7664400" cy="60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Οδηγοί και εμπόδια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Μία από τις δύο κύριες κινητήριες δυνάμεις πίσω από την επιτυχία της επιχείρησής Elvis &amp; Kresse υπήρξαν οι συνεργασίες αποβλήτων. Η άλλη βασική κινητήρια δύναμη είναι η προσωπική δέσμευση και το κίνητρο των ιδρυτών για να αποφευχθεί η μετάβαση των αποβλήτων σε χώρους υγειονομικής ταφή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Ένα από τα κύρια εμπόδια της Elvis &amp; Kresse ήταν η σχεδόν άμεση επιτυχία της επιχείρησής τους. Όταν οι πωλήσεις των ζωνών τους απογειώθηκαν, ήταν εντελώς απροετοίμαστοι να ανταποκριθούν στη ζήτηση. Επίσης, ο χώρος για την αποθήκευση των πρώτων υλών για νέα προϊόντα ήταν εξαιρετικά περιορισμένος και εξακολουθεί να αποτελεί πρόκληση για την ανάπτυξη της Elvis &amp; Kresse. Κοιτάζοντας μπροστά, προς τη δημιουργία της μάρκας Elvis &amp; Kresse, ένα άλλο εμπόδιο ήταν οι περιορισμένες γνώσεις τους για τη μόδα, το σχεδιασμό και την κατασκευή. Σε όλους αυτούς τους τομείς, η Elvis &amp; Kresse κυριολεκτικά στηρίχθηκε στη μάθηση μέσα από την πράξη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4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ffffff"/>
                </a:solidFill>
                <a:latin typeface="Calibri"/>
              </a:rPr>
              <a:t>Henriksen et al.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2012., p. 22 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Calibri"/>
              </a:rPr>
              <a:t>ΜΕΛΕΤΗ ΠΕΡΙΠΤΩΣΗΣ ΠΡΑΣΙΝΗΣ ΕΠΙΧΕΙΡΗΜΑΤΙΚΟΤΗΤΑΣ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: Elvis &amp; Kre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1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395280" y="770040"/>
            <a:ext cx="777708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ffffff"/>
                </a:solidFill>
                <a:uFillTx/>
                <a:latin typeface="Calibri"/>
              </a:rPr>
              <a:t>Ερωτήσεις κρίσεω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Ποια είναι τα δυνατά σημεία της εταιρίας;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Πώς αυτά επηρεάζουν το επιχειρηματικό μοντέλο της εταιρείας (θετικά και αρνητικά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Σε μεγαλύτερη κλίμακα, πώς συνδέεται με την επιχειρηματικότητα η ανάληψη κινδύνων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Calibri"/>
              </a:rPr>
              <a:t>Τι μπορεί να κάνει ένας επιχειρηματίας, προκειμένου να αναλάβει τον έλεγχο των κινδύνων ή την υποστήριξη λήψης αποφάσεων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Calibri"/>
              </a:rPr>
              <a:t>ΜΕΛΕΤΗ ΠΕΡΙΠΤΩΣΗΣ ΠΡΑΣΙΝΗΣ ΕΠΙΧΕΙΡΗΜΑΤΙΚΟΤΗΤΑΣ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: Elvis &amp; Kre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Θέση εικόνας 5" descr=""/>
          <p:cNvPicPr/>
          <p:nvPr/>
        </p:nvPicPr>
        <p:blipFill>
          <a:blip r:embed="rId1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5" name="Θέση εικόνας 6" descr=""/>
          <p:cNvPicPr/>
          <p:nvPr/>
        </p:nvPicPr>
        <p:blipFill>
          <a:blip r:embed="rId2"/>
          <a:srcRect l="4339" t="0" r="4339" b="0"/>
          <a:stretch/>
        </p:blipFill>
        <p:spPr>
          <a:xfrm>
            <a:off x="179280" y="623736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"/>
          <p:cNvSpPr/>
          <p:nvPr/>
        </p:nvSpPr>
        <p:spPr>
          <a:xfrm>
            <a:off x="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Calibri"/>
              </a:rPr>
              <a:t>ΜΕΛΕΤΗ ΠΕΡΙΠΤΩΣΗΣ ΠΡΑΣΙΝΗΣ ΕΠΙΧΕΙΡΗΜΑΤΙΚΟΤΗΤΑΣ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: Elvis &amp; Kre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95280" y="1011240"/>
            <a:ext cx="77770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ffffff"/>
                </a:solidFill>
                <a:uFillTx/>
                <a:latin typeface="Calibri"/>
              </a:rPr>
              <a:t>Αναφορέ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nriksen et al. (2012): Green business model innovation. Business case study compendum. Nordic Innovation publica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125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Θέση εικόνας 5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1079640" cy="317520"/>
          </a:xfrm>
          <a:prstGeom prst="rect">
            <a:avLst/>
          </a:prstGeom>
          <a:ln w="0">
            <a:noFill/>
          </a:ln>
        </p:spPr>
      </p:pic>
      <p:pic>
        <p:nvPicPr>
          <p:cNvPr id="249" name="Θέση εικόνας 6" descr=""/>
          <p:cNvPicPr/>
          <p:nvPr/>
        </p:nvPicPr>
        <p:blipFill>
          <a:blip r:embed="rId3"/>
          <a:srcRect l="4339" t="0" r="4339" b="0"/>
          <a:stretch/>
        </p:blipFill>
        <p:spPr>
          <a:xfrm>
            <a:off x="6372360" y="630864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250" name="Textfeld 1"/>
          <p:cNvSpPr/>
          <p:nvPr/>
        </p:nvSpPr>
        <p:spPr>
          <a:xfrm>
            <a:off x="3924360" y="4076640"/>
            <a:ext cx="37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ffffff"/>
                </a:solidFill>
                <a:latin typeface="Calibri"/>
              </a:rPr>
              <a:t>Ευχαριστώ</a:t>
            </a:r>
            <a:r>
              <a:rPr b="1" lang="de-AT" sz="27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7T17:10:25Z</dcterms:created>
  <dc:creator>Isabel Nunes</dc:creator>
  <dc:description/>
  <dc:language>en-US</dc:language>
  <cp:lastModifiedBy>dodinio</cp:lastModifiedBy>
  <dcterms:modified xsi:type="dcterms:W3CDTF">2016-07-27T17:16:45Z</dcterms:modified>
  <cp:revision>184</cp:revision>
  <dc:subject/>
  <dc:title>@MINDSET: Managing Social Relations in Schools</dc:title>
</cp:coreProperties>
</file>