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46C4-3876-4A4E-81DF-3DEF73868E9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54A6-C86A-436B-874A-A62D39BF7A2B}"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55B0-A28D-4364-AD73-FE788882F54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1A7A-4819-4054-9C48-EDCE0A0A41F8}"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79A7-81BE-4637-B340-3DCA7BA947C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A293-1CA0-4031-801A-CAA00618D71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5798-B13E-417F-9DF3-9E6EC1A5FF7A}"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CF59-36B0-4D76-A37F-A2F4A3298C55}"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A581-0283-424C-AA98-D7BDD401255D}"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6FEB-3ACA-4913-81AA-4AA5D09467D6}"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9223-E141-49E3-9C59-078BFE3F4259}"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B037D-2793-4B23-85D9-3BCA57D33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80C10-FBBB-4ADD-9413-BE831CA96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C49FB-5ACF-4DE6-834D-90E95B830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C8E89-E2DD-4588-B1E0-49E057A5D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3DDCB-2AA6-4843-8D90-5E73663D9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766CD-3F00-41F2-ACD2-739BF2360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3C62A-3809-4175-A0D4-49BA6AA15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03216-84A8-45D7-AEAF-BD43E4F21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EBEF1-4254-43DC-8EA1-1E678260A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8AEDD-0E70-4001-AECD-38BF585C8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6540-4DB8-441D-9851-EB5EBCB9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EBC0B-C9D0-48AE-A3CB-BA4D0FF2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15A7F-30A1-462D-8567-675E6F762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7872-CA88-43D9-B509-5CEB50503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64CD9-7997-43A2-9E6C-ABB0DA7CF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2AA13-4FC6-495B-A587-5D28A99CE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F9755-65C3-49F7-AD6A-FE425E6A7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F7A73-FBA4-49C2-B4DF-78AAE7B98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ADDE4-1C6B-43C7-AB8E-1D5EE8EB6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BB138-3A68-43CB-827B-5CD379A76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28B71-7985-42BF-A9E3-37CFA61B4C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AFF58-0732-48F3-8E2E-A0F560EA3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17A1E-C691-4E67-9F93-5ED9ECBF6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B328C-44CF-47D6-B2DF-98FE3CAD4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8756D-3625-41CD-A205-0FA970C85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EC4D1-46C5-417D-9445-2B650B72D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0A2AA-2DB3-43BD-B10D-84856F9E8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48FD5-92AF-4333-B5AA-B1F4E7D12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9DAABC-CE9F-448B-AF84-CF0E02A0F4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B99C5-CED8-4C88-A2AD-E7B77E8815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907985-F71C-4776-A58D-11BA5FB959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56313-51F4-447F-847D-075907451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747CA-FAC9-47DB-8FBB-CD72F38C6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2E26A-2B40-4166-A3E0-9EF51042D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A31DA-909E-49A3-B64C-4D1AA4340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4932A-7759-49A5-BD42-BD77B0F8D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0C672-8BE0-4F9D-8E6B-918F396CD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EB78D-D492-40E0-A7ED-486B4B761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460A1-E960-487B-8597-6A12A6899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F94FE-028C-42E2-8CE2-2CB231F75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7370F-54C4-4510-8A72-3C1847490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C4E2EA-D165-4A40-AD23-B1FF08677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92941-580B-4EC2-B149-165FD1FB5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DDCB9C-4B80-406D-A06F-2136345C1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20BEE-A5BC-48DD-8EAF-D26665C80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47010-9016-4107-A8B3-65AA649A1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95F6E-F7FC-4AD7-973D-8EC30B8DF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EB457-2CF4-447C-AF7E-A39DC623E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C57AB-0798-4155-8AFC-D3707B830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25FE93-19C2-4BC0-A1F0-178CF68FF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9F1A7-085B-4829-A9F5-FFEB2F493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EACE23-2047-4DFD-95BD-88A5C5AE3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06AF9-1E44-431A-91A7-7E1E6268F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97FA8-4170-4158-88A7-BFCB31CAC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BCD964-8994-45F2-AE63-747C518947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7EFE8-595A-440A-8261-6A5878CFF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5EC456-1D15-4CBF-A575-42FAF7F90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E92C-A694-4109-BFD0-4CD1AE1B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2C104-261A-4015-8343-58C974D1B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00D81-0976-4EE2-B1EE-D8E45031D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DF9E-750E-4687-8A79-58FF4844EF33}"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DD1A-39DA-4537-8977-F65B17EBA03D}"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A50D-F6BA-4B9A-BFE5-A0AE7853BB8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97E5-BAAC-44C2-BCA2-379F2537922C}"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ED98-18C5-4D60-8465-EC5D7611EEF0}"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a:t>
            </a:r>
            <a:r>
              <a:rPr b="1" lang="el-GR" sz="3200" spc="-1" strike="noStrike">
                <a:solidFill>
                  <a:srgbClr val="ffffff"/>
                </a:solidFill>
                <a:latin typeface="Calibri"/>
              </a:rPr>
              <a:t>Περιβαλλοντικό χαρτοφυλάκιο</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Πρόγραμμα εκπαίδευσης</a:t>
            </a:r>
            <a:r>
              <a:rPr b="0" lang="en-GB" sz="2800" spc="-1" strike="noStrike">
                <a:solidFill>
                  <a:srgbClr val="ffffff"/>
                </a:solidFill>
                <a:latin typeface="Calibri"/>
              </a:rPr>
              <a:t> 3 – </a:t>
            </a:r>
            <a:r>
              <a:rPr b="0" lang="el-GR" sz="2800" spc="-1" strike="noStrike">
                <a:solidFill>
                  <a:srgbClr val="ffffff"/>
                </a:solidFill>
                <a:latin typeface="Calibri"/>
              </a:rPr>
              <a:t>Επιχειρηματικότητα </a:t>
            </a:r>
            <a:r>
              <a:rPr b="0" lang="en-GB" sz="2800" spc="-1" strike="noStrike">
                <a:solidFill>
                  <a:srgbClr val="ffffff"/>
                </a:solidFill>
                <a:latin typeface="Calibri"/>
              </a:rPr>
              <a:t>–</a:t>
            </a:r>
            <a:r>
              <a:rPr b="0" lang="el-GR" sz="2800" spc="-1" strike="noStrike">
                <a:solidFill>
                  <a:srgbClr val="ffffff"/>
                </a:solidFill>
                <a:latin typeface="Calibri"/>
              </a:rPr>
              <a:t> Έξυπνη ενέργει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Ενότητα</a:t>
            </a:r>
            <a:r>
              <a:rPr b="0" lang="en-GB" sz="2800" spc="-1" strike="noStrike">
                <a:solidFill>
                  <a:srgbClr val="ffffff"/>
                </a:solidFill>
                <a:latin typeface="Calibri"/>
              </a:rPr>
              <a:t> 2 – </a:t>
            </a:r>
            <a:r>
              <a:rPr b="0" lang="el-GR" sz="2800" spc="-1" strike="noStrike">
                <a:solidFill>
                  <a:srgbClr val="ffffff"/>
                </a:solidFill>
                <a:latin typeface="Calibri"/>
              </a:rPr>
              <a:t>Εισαγωγή στην πράσινη επιχειρηματικότητα</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Βδομάδα 10</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Αναπτύχθηκε από</a:t>
            </a:r>
            <a:r>
              <a:rPr b="0" lang="en-GB" sz="2000" spc="-1" strike="noStrike">
                <a:solidFill>
                  <a:srgbClr val="ffffff"/>
                </a:solidFill>
                <a:latin typeface="Calibri"/>
              </a:rPr>
              <a:t>: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327" name="Θέση εικόνας 5" descr=""/>
          <p:cNvPicPr/>
          <p:nvPr/>
        </p:nvPicPr>
        <p:blipFill>
          <a:blip r:embed="rId2"/>
          <a:stretch/>
        </p:blipFill>
        <p:spPr>
          <a:xfrm>
            <a:off x="7812000" y="6308640"/>
            <a:ext cx="1079640" cy="317520"/>
          </a:xfrm>
          <a:prstGeom prst="rect">
            <a:avLst/>
          </a:prstGeom>
          <a:ln w="0">
            <a:noFill/>
          </a:ln>
        </p:spPr>
      </p:pic>
      <p:pic>
        <p:nvPicPr>
          <p:cNvPr id="328"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9" name="Picture 4" descr=""/>
          <p:cNvPicPr/>
          <p:nvPr/>
        </p:nvPicPr>
        <p:blipFill>
          <a:blip r:embed="rId4"/>
          <a:stretch/>
        </p:blipFill>
        <p:spPr>
          <a:xfrm>
            <a:off x="324000" y="6093000"/>
            <a:ext cx="723600" cy="596880"/>
          </a:xfrm>
          <a:prstGeom prst="rect">
            <a:avLst/>
          </a:prstGeom>
          <a:ln w="0">
            <a:noFill/>
          </a:ln>
        </p:spPr>
      </p:pic>
      <p:pic>
        <p:nvPicPr>
          <p:cNvPr id="330" name="Picture 4" descr=""/>
          <p:cNvPicPr/>
          <p:nvPr/>
        </p:nvPicPr>
        <p:blipFill>
          <a:blip r:embed="rId5"/>
          <a:stretch/>
        </p:blipFill>
        <p:spPr>
          <a:xfrm>
            <a:off x="7448400" y="486900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75"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76" name="Θέση εικόνας 5" descr=""/>
          <p:cNvPicPr/>
          <p:nvPr/>
        </p:nvPicPr>
        <p:blipFill>
          <a:blip r:embed="rId1"/>
          <a:stretch/>
        </p:blipFill>
        <p:spPr>
          <a:xfrm>
            <a:off x="7812000" y="6308640"/>
            <a:ext cx="1079640" cy="317520"/>
          </a:xfrm>
          <a:prstGeom prst="rect">
            <a:avLst/>
          </a:prstGeom>
          <a:ln w="0">
            <a:noFill/>
          </a:ln>
        </p:spPr>
      </p:pic>
      <p:pic>
        <p:nvPicPr>
          <p:cNvPr id="37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8" name="Text Box 6"/>
          <p:cNvSpPr/>
          <p:nvPr/>
        </p:nvSpPr>
        <p:spPr>
          <a:xfrm>
            <a:off x="539640" y="90792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Text Box 7"/>
          <p:cNvSpPr/>
          <p:nvPr/>
        </p:nvSpPr>
        <p:spPr>
          <a:xfrm>
            <a:off x="500040" y="830160"/>
            <a:ext cx="8064360" cy="3991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Κύρια εμπόδια στην εκκίνηση μίας πράσινης επιχείρηση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ε γενικές γραμμές, η έναρξη μιας επιχείρησης, και μια πράσινη επιχείρηση συγκεκριμένα, φέρει κινδύνους, αλλά και ευκαιρίες. Συνολικά, είναι πιο δύσκολο για τις νεοφυείς μικρές επιχειρήσεις, οι οποίες αναπτύσσουν το επιχειρηματικό τους μοντέλο πάνω σε αρχές βιωσιμότητας αντί των μεγάλων επιχειρήσεων που υλοποιούν μέτρα βιωσιμότητας στις πολιτικές του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έλλειψη πόρων, η ανεπαρκής διαχείριση ή η οικονομική ύφεση συνθέτουν πιθανά εσωτερικά ή εξωτερικά εμπόδια για τις νέες επιχειρήσει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πό την άλλη πλευρά, είναι δυνατή μια γρήγορη αντίδραση στις αλλαγές της αγοράς, λόγω του μικρότερου μεγέθους τους και τη λιγότερο πολύπλοκη δομή τους.</a:t>
            </a:r>
            <a:endParaRPr b="0" lang="en-US" sz="1800" spc="-1" strike="noStrike">
              <a:solidFill>
                <a:srgbClr val="ffffff"/>
              </a:solidFill>
              <a:latin typeface="Times New Roman"/>
            </a:endParaRPr>
          </a:p>
        </p:txBody>
      </p:sp>
      <p:pic>
        <p:nvPicPr>
          <p:cNvPr id="380" name="Picture 7"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82"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83" name="Θέση εικόνας 5" descr=""/>
          <p:cNvPicPr/>
          <p:nvPr/>
        </p:nvPicPr>
        <p:blipFill>
          <a:blip r:embed="rId1"/>
          <a:stretch/>
        </p:blipFill>
        <p:spPr>
          <a:xfrm>
            <a:off x="7812000" y="6308640"/>
            <a:ext cx="1079640" cy="317520"/>
          </a:xfrm>
          <a:prstGeom prst="rect">
            <a:avLst/>
          </a:prstGeom>
          <a:ln w="0">
            <a:noFill/>
          </a:ln>
        </p:spPr>
      </p:pic>
      <p:pic>
        <p:nvPicPr>
          <p:cNvPr id="38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85" name="Text Box 6"/>
          <p:cNvSpPr/>
          <p:nvPr/>
        </p:nvSpPr>
        <p:spPr>
          <a:xfrm>
            <a:off x="324000" y="808200"/>
            <a:ext cx="8208720" cy="4970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rPr>
              <a:t>Δυνατότητες εκκίνησης μίας πράσινης επιχείρησης</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Υπάρχουν πολλές δυνατότητες για αυτούς που ξεκινούν πράσινες επιχειρήσεις. Η εστίαση στη βιωσιμότητα ταιριάζει στον επιχειρηματία, καθώς μπορεί να θεωρηθεί ότι βρίσκεται σε σύνδεση με ατομικές κοσμοθεωρίες, αξίες και ιδανικά. Αυτή η άποψη μεταφέρει την αυθεντικότητα και τα εγγενή κίνητρα του προϊόντος/υπηρεσίας</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Το προαναφερθέν εμπόδιο, δηλαδή το ρίσκο, μπορεί να χαρακτηριστεί ως αιτία μιας νέας πράσινης επιχειρηματικότητας. Όπως περιγράφηκε προηγουμένως, η ανάληψη κινδύνων αποτελεί βασικό χαρακτηριστικό του κάθε επιχειρηματία και σχετίζεται με το επιχειρηματικό πνεύμα, όπως και η δημιουργικότητα και η καινοτομία</a:t>
            </a:r>
            <a:endParaRPr b="0" lang="en-US" sz="1700" spc="-1" strike="noStrike">
              <a:solidFill>
                <a:srgbClr val="ffffff"/>
              </a:solidFill>
              <a:latin typeface="Times New Roman"/>
            </a:endParaRPr>
          </a:p>
          <a:p>
            <a:pPr>
              <a:lnSpc>
                <a:spcPct val="11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Σχετικά με τις επιχειρήσεις, οι πράσινοι επιχειρηματίες προετοιμάζουν καινοτόμες λύσεις που ταιριάζουν στις ανάγκες των καταναλωτών και αντανακλούν το πνέυμα της εποχής. Η προσέγγιση αυτή είναι χαρακτηριστική για τις νεοσύστατες επιχειρήσεις και μπορεί πράγματι να θεωρηθεί ως θετική πτυχή σε σύγκριση με τις τυπικές μεγάλες επιχειρηματικές δομές. Επενδύοντας στη βιωσιμότητα καλύπτονται ορισμένες από τις απαιτήσεις και σηματοδοτείται μια αλλαγή στην επιχειρηματική δραστηριότητα.</a:t>
            </a:r>
            <a:endParaRPr b="0" lang="en-US" sz="1700" spc="-1" strike="noStrike">
              <a:solidFill>
                <a:srgbClr val="ffffff"/>
              </a:solidFill>
              <a:latin typeface="Times New Roman"/>
            </a:endParaRPr>
          </a:p>
        </p:txBody>
      </p:sp>
      <p:pic>
        <p:nvPicPr>
          <p:cNvPr id="386"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p:txBody>
      </p:sp>
      <p:pic>
        <p:nvPicPr>
          <p:cNvPr id="388" name="Θέση εικόνας 5" descr=""/>
          <p:cNvPicPr/>
          <p:nvPr/>
        </p:nvPicPr>
        <p:blipFill>
          <a:blip r:embed="rId1"/>
          <a:stretch/>
        </p:blipFill>
        <p:spPr>
          <a:xfrm>
            <a:off x="7812000" y="6308640"/>
            <a:ext cx="1079640" cy="317520"/>
          </a:xfrm>
          <a:prstGeom prst="rect">
            <a:avLst/>
          </a:prstGeom>
          <a:ln w="0">
            <a:noFill/>
          </a:ln>
        </p:spPr>
      </p:pic>
      <p:pic>
        <p:nvPicPr>
          <p:cNvPr id="38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0" name="Inhaltsplatzhalter 3"/>
          <p:cNvSpPr/>
          <p:nvPr/>
        </p:nvSpPr>
        <p:spPr>
          <a:xfrm>
            <a:off x="466560" y="798480"/>
            <a:ext cx="8425080" cy="55054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Ορισμός Κοινωνικής Εταιρικής Ευθύνης</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Καταρχήν, πρέπει να σημειωθεί ότι δεν υπάρχει κάποιος κοινός ορισμός της Εταιρικής Κοινωνικής Ευθύνης (ΕΚΕ). «Οι περισσότεροι ορισμοί της ΕΚΕ την περιγράφουν ως μια έννοια σύμφωνα με την οποία οι εταιρείες ενσωματώνουν κοινωνικές και περιβαλλοντικές ανησυχίες στις επιχειρηματικές τους δραστηριότητες και στις επαφές τους με άλλα ενδιαφερόμενα μέρη σε εθελοντική βάση.»</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http://eur-lex.europa.eu/legal-content/EN/TXT/?uri=CELEX:52001DC0366</a:t>
            </a:r>
            <a:endParaRPr b="0" lang="en-US" sz="1200" spc="-1" strike="noStrike">
              <a:solidFill>
                <a:srgbClr val="ffffff"/>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Ευρωπαϊκή Επιτροπή ορίζει την ΕΚΕ ως «η ευθύνη των επιχειρήσεων για τον αντίκτυπό τους στην κοινωνία» (COM (2011) 681). Η Επιτροπή ενθαρρύνει ότι οι επιχειρήσεις «θα πρέπει να έχουν σε ισχύ μια διαδικασία για την ενσωμάτωση των κοινωνικών, περιβαλλοντικών, ηθικών δικαιωμάτων του ανθρώπου και των ανησυχιών των καταναλωτών στις επιχειρηματικές τους δραστηριότητες και τη βασική τους στρατηγική σε στενή συνεργασία με τα ενδιαφερόμενα μέρη τους».</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ttp://ec.europa.eu/enterprise/policies/sustainable-business/corporate-social-responsibility/index_en.htm</a:t>
            </a:r>
            <a:endParaRPr b="0" lang="en-US" sz="1200" spc="-1" strike="noStrike">
              <a:solidFill>
                <a:srgbClr val="ffffff"/>
              </a:solidFill>
              <a:latin typeface="Times New Roman"/>
            </a:endParaRPr>
          </a:p>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9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a:t>
            </a:r>
            <a:r>
              <a:rPr b="1" lang="el-GR" sz="2400" spc="-1" strike="noStrike">
                <a:solidFill>
                  <a:srgbClr val="ffffff"/>
                </a:solidFill>
                <a:latin typeface="Calibri"/>
              </a:rPr>
              <a:t>ΑΡΧΕΣ ΕΚΕ</a:t>
            </a:r>
            <a:r>
              <a:rPr b="1" lang="en-GB" sz="2400" spc="-1" strike="noStrike">
                <a:solidFill>
                  <a:srgbClr val="ffffff"/>
                </a:solidFill>
                <a:latin typeface="Calibri"/>
              </a:rPr>
              <a:t>, </a:t>
            </a:r>
            <a:r>
              <a:rPr b="1" lang="el-GR" sz="2400" spc="-1" strike="noStrike">
                <a:solidFill>
                  <a:srgbClr val="ffffff"/>
                </a:solidFill>
                <a:latin typeface="Calibri"/>
              </a:rPr>
              <a:t>ΠΕΡΙΒΑΛΛΟΝΤΙΚΟ ΣΤΡΩΜΑ ΚΑΙ ΠΡΑΣΙΝΗ ΕΠΙΧΕΙΡΗΣΗ</a:t>
            </a:r>
            <a:endParaRPr b="0" lang="en-US" sz="2400" spc="-1" strike="noStrike">
              <a:solidFill>
                <a:srgbClr val="ffffff"/>
              </a:solidFill>
              <a:latin typeface="Times New Roman"/>
            </a:endParaRPr>
          </a:p>
        </p:txBody>
      </p:sp>
      <p:sp>
        <p:nvSpPr>
          <p:cNvPr id="393" name=""/>
          <p:cNvSpPr txBox="1"/>
          <p:nvPr/>
        </p:nvSpPr>
        <p:spPr>
          <a:xfrm>
            <a:off x="468000" y="260280"/>
            <a:ext cx="7775640" cy="588168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ffff"/>
                </a:solidFill>
                <a:uFillTx/>
                <a:latin typeface="Calibri"/>
              </a:rPr>
              <a:t>Αρχές και κατευθυντήριες γραμμές ΕΚΕ</a:t>
            </a:r>
            <a:endParaRPr b="0" lang="en-US" sz="1600" spc="-1" strike="noStrike">
              <a:solidFill>
                <a:srgbClr val="ffffff"/>
              </a:solidFill>
              <a:latin typeface="Times New Roman"/>
            </a:endParaRPr>
          </a:p>
          <a:p>
            <a:pPr>
              <a:lnSpc>
                <a:spcPct val="11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Η Επιτροπή προωθεί την εφαρμογή της ΕΚΕ σε εθνικό επίπεδο και ανέπτυξε μια στρατηγική για την προώθηση της ΕΚΕ στις επιχειρήσεις με βάση τις κατευθυντήριες γραμμές και αρχές της παρακάτω λίστας. Ο κατάλογος αυτός βασίζεται σε διεθνώς αναγνωρισμένες κατευθυντήριες γραμμές και αρχές ΕΚΕ που έχουν προσδιοριστεί και εγκριθεί από την Ευρωπαϊκή Επιτροπή το 2011:</a:t>
            </a:r>
            <a:endParaRPr b="0" lang="en-US" sz="1600" spc="-1" strike="noStrike">
              <a:solidFill>
                <a:srgbClr val="ffffff"/>
              </a:solidFill>
              <a:latin typeface="Times New Roman"/>
            </a:endParaRPr>
          </a:p>
          <a:p>
            <a:pPr>
              <a:lnSpc>
                <a:spcPct val="114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r>
              <a:rPr b="1" lang="el-GR" sz="1600" spc="-1" strike="noStrike">
                <a:solidFill>
                  <a:srgbClr val="ffffff"/>
                </a:solidFill>
                <a:latin typeface="Calibri"/>
              </a:rPr>
              <a:t>Οικουμενικό Σύμφωνο Ηνωμένων Εθνών – </a:t>
            </a:r>
            <a:r>
              <a:rPr b="1" lang="en-GB" sz="1600" spc="-1" strike="noStrike">
                <a:solidFill>
                  <a:srgbClr val="ffffff"/>
                </a:solidFill>
                <a:latin typeface="Calibri"/>
              </a:rPr>
              <a:t>United Nations Global Compact (2000)</a:t>
            </a:r>
            <a:endParaRPr b="0" lang="en-US" sz="1600" spc="-1" strike="noStrike">
              <a:solidFill>
                <a:srgbClr val="ffffff"/>
              </a:solidFill>
              <a:latin typeface="Times New Roman"/>
            </a:endParaRPr>
          </a:p>
          <a:p>
            <a:pPr>
              <a:lnSpc>
                <a:spcPct val="114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r>
              <a:rPr b="1" lang="el-GR" sz="1600" spc="-1" strike="noStrike">
                <a:solidFill>
                  <a:srgbClr val="ffffff"/>
                </a:solidFill>
                <a:latin typeface="Calibri"/>
              </a:rPr>
              <a:t>Κατευθυντήριες Γραμμές για Επιχειρήσεις και Ανθρώπινα Δικαιώματα – </a:t>
            </a:r>
            <a:r>
              <a:rPr b="1" lang="en-GB" sz="1600" spc="-1" strike="noStrike">
                <a:solidFill>
                  <a:srgbClr val="ffffff"/>
                </a:solidFill>
                <a:latin typeface="Calibri"/>
              </a:rPr>
              <a:t>United Nations Guiding Principles on Business and Human Rights (2011)</a:t>
            </a:r>
            <a:endParaRPr b="0" lang="en-US" sz="1600" spc="-1" strike="noStrike">
              <a:solidFill>
                <a:srgbClr val="ffffff"/>
              </a:solidFill>
              <a:latin typeface="Times New Roman"/>
            </a:endParaRPr>
          </a:p>
          <a:p>
            <a:pPr>
              <a:lnSpc>
                <a:spcPct val="114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r>
              <a:rPr b="1" lang="en-GB" sz="1600" spc="-1" strike="noStrike">
                <a:solidFill>
                  <a:srgbClr val="ffffff"/>
                </a:solidFill>
                <a:latin typeface="Calibri"/>
              </a:rPr>
              <a:t>ISO 26000 </a:t>
            </a:r>
            <a:r>
              <a:rPr b="1" lang="el-GR" sz="1600" spc="-1" strike="noStrike">
                <a:solidFill>
                  <a:srgbClr val="ffffff"/>
                </a:solidFill>
                <a:latin typeface="Calibri"/>
              </a:rPr>
              <a:t>Πρότυπο Καθοδήγησης Εταιρικής Ευθύνης – </a:t>
            </a:r>
            <a:r>
              <a:rPr b="1" lang="en-GB" sz="1600" spc="-1" strike="noStrike">
                <a:solidFill>
                  <a:srgbClr val="ffffff"/>
                </a:solidFill>
                <a:latin typeface="Calibri"/>
              </a:rPr>
              <a:t>ISO 26000 Guidance Standard on Social Responsibility (2010)</a:t>
            </a:r>
            <a:endParaRPr b="0" lang="en-US" sz="1600" spc="-1" strike="noStrike">
              <a:solidFill>
                <a:srgbClr val="ffffff"/>
              </a:solidFill>
              <a:latin typeface="Times New Roman"/>
            </a:endParaRPr>
          </a:p>
          <a:p>
            <a:pPr>
              <a:lnSpc>
                <a:spcPct val="114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rPr>
              <a:t> </a:t>
            </a:r>
            <a:r>
              <a:rPr b="1" lang="el-GR" sz="1600" spc="-1" strike="noStrike">
                <a:solidFill>
                  <a:srgbClr val="ffffff"/>
                </a:solidFill>
                <a:latin typeface="Calibri"/>
              </a:rPr>
              <a:t>Διεθνής Οργάνωση Εργασίας Τριμερή Δήλωση Αρχών Κοινωνικής Πολιτικής για τις Πολυεθνικές Επιχειρήσεις – </a:t>
            </a:r>
            <a:r>
              <a:rPr b="1" lang="en-GB" sz="1600" spc="-1" strike="noStrike">
                <a:solidFill>
                  <a:srgbClr val="ffffff"/>
                </a:solidFill>
                <a:latin typeface="Calibri"/>
              </a:rPr>
              <a:t> International Labour Organization Tripartite Declaration of Principles concerning Multinational Enterprises on Social Policy (1977/1991/2001/2014)</a:t>
            </a:r>
            <a:endParaRPr b="0" lang="en-US" sz="1600" spc="-1" strike="noStrike">
              <a:solidFill>
                <a:srgbClr val="ffffff"/>
              </a:solidFill>
              <a:latin typeface="Times New Roman"/>
            </a:endParaRPr>
          </a:p>
          <a:p>
            <a:pPr>
              <a:lnSpc>
                <a:spcPct val="114000"/>
              </a:lnSpc>
              <a:spcBef>
                <a:spcPts val="4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r>
              <a:rPr b="1" lang="el-GR" sz="1600" spc="-1" strike="noStrike">
                <a:solidFill>
                  <a:srgbClr val="ffffff"/>
                </a:solidFill>
                <a:latin typeface="Calibri"/>
              </a:rPr>
              <a:t>Κατευθυντήριες Γραμμές Πολυεθνικές Επιχειρήσεις στον – </a:t>
            </a:r>
            <a:r>
              <a:rPr b="1" lang="en-GB" sz="1600" spc="-1" strike="noStrike">
                <a:solidFill>
                  <a:srgbClr val="ffffff"/>
                </a:solidFill>
                <a:latin typeface="Calibri"/>
              </a:rPr>
              <a:t>OECD Guidelines for Multinational Enterprises (2008/2011 Updated)</a:t>
            </a:r>
            <a:endParaRPr b="0" lang="en-US" sz="1600" spc="-1" strike="noStrike">
              <a:solidFill>
                <a:srgbClr val="ffffff"/>
              </a:solidFill>
              <a:latin typeface="Times New Roman"/>
            </a:endParaRPr>
          </a:p>
          <a:p>
            <a:pPr algn="r">
              <a:lnSpc>
                <a:spcPct val="11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http://ec.europa.eu/enterprise/policies/sustainable-business/corporate-social-responsibility/index_en.htm</a:t>
            </a:r>
            <a:endParaRPr b="0" lang="en-US" sz="1600" spc="-1" strike="noStrike">
              <a:solidFill>
                <a:srgbClr val="ffffff"/>
              </a:solidFill>
              <a:latin typeface="Times New Roman"/>
            </a:endParaRPr>
          </a:p>
        </p:txBody>
      </p:sp>
      <p:pic>
        <p:nvPicPr>
          <p:cNvPr id="394" name="Θέση εικόνας 5" descr=""/>
          <p:cNvPicPr/>
          <p:nvPr/>
        </p:nvPicPr>
        <p:blipFill>
          <a:blip r:embed="rId1"/>
          <a:stretch/>
        </p:blipFill>
        <p:spPr>
          <a:xfrm>
            <a:off x="7812000" y="6308640"/>
            <a:ext cx="1079640" cy="317520"/>
          </a:xfrm>
          <a:prstGeom prst="rect">
            <a:avLst/>
          </a:prstGeom>
          <a:ln w="0">
            <a:noFill/>
          </a:ln>
        </p:spPr>
      </p:pic>
      <p:pic>
        <p:nvPicPr>
          <p:cNvPr id="39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6"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hteck 2"/>
          <p:cNvSpPr/>
          <p:nvPr/>
        </p:nvSpPr>
        <p:spPr>
          <a:xfrm>
            <a:off x="18720" y="0"/>
            <a:ext cx="36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ΗΛΕΚΤΡΟΝΙΚΕΣ ΑΝΑΦΟΡΕΣ</a:t>
            </a:r>
            <a:endParaRPr b="0" lang="en-US" sz="2400" spc="-1" strike="noStrike">
              <a:solidFill>
                <a:srgbClr val="ffffff"/>
              </a:solidFill>
              <a:latin typeface="Times New Roman"/>
            </a:endParaRPr>
          </a:p>
        </p:txBody>
      </p:sp>
      <p:sp>
        <p:nvSpPr>
          <p:cNvPr id="398" name="Textfeld 1"/>
          <p:cNvSpPr/>
          <p:nvPr/>
        </p:nvSpPr>
        <p:spPr>
          <a:xfrm>
            <a:off x="360360" y="384120"/>
            <a:ext cx="8675640" cy="63687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1. </a:t>
            </a:r>
            <a:r>
              <a:rPr b="1" lang="el-GR" sz="1600" spc="-1" strike="noStrike">
                <a:solidFill>
                  <a:srgbClr val="ffffff"/>
                </a:solidFill>
                <a:latin typeface="Calibri"/>
              </a:rPr>
              <a:t>Τι είναι επιχειρηματικότητα</a:t>
            </a:r>
            <a:r>
              <a:rPr b="1" lang="en-GB" sz="1600" spc="-1" strike="noStrike">
                <a:solidFill>
                  <a:srgbClr val="ffffff"/>
                </a:solidFill>
                <a:latin typeface="Calibri"/>
              </a:rPr>
              <a:t>: </a:t>
            </a:r>
            <a:r>
              <a:rPr b="1" lang="el-GR" sz="1600" spc="-1" strike="noStrike">
                <a:solidFill>
                  <a:srgbClr val="ffffff"/>
                </a:solidFill>
                <a:latin typeface="Calibri"/>
              </a:rPr>
              <a:t>μία εισαγωγή</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entrepreneurship.html [08.06.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green-business.html [08.06.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700" spc="-1" strike="noStrike">
                <a:solidFill>
                  <a:srgbClr val="ffffff"/>
                </a:solidFill>
                <a:latin typeface="Calibri"/>
              </a:rPr>
              <a:t>http://courseblog-entrepreneurship.blogspot.co.at/2013/03/nature-and-development-of_8.html</a:t>
            </a:r>
            <a:r>
              <a:rPr b="1" lang="en-US" sz="1700" spc="-1" strike="noStrike">
                <a:solidFill>
                  <a:srgbClr val="ffffff"/>
                </a:solidFill>
                <a:latin typeface="Calibri"/>
              </a:rPr>
              <a:t> [</a:t>
            </a:r>
            <a:r>
              <a:rPr b="1" lang="de-AT" sz="1700" spc="-1" strike="noStrike">
                <a:solidFill>
                  <a:srgbClr val="ffffff"/>
                </a:solidFill>
                <a:latin typeface="Calibri"/>
              </a:rPr>
              <a:t>08.07.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66ff33"/>
                </a:solidFill>
                <a:uFillTx/>
                <a:latin typeface="Calibri"/>
              </a:rPr>
              <a:t>http://oin.at/_publikationen/PublikationenALT/Fachartikel/Strigl%202004%20cs%20in%20austria.pdf </a:t>
            </a:r>
            <a:r>
              <a:rPr b="1" lang="en-US" sz="1700" spc="-1" strike="noStrike">
                <a:solidFill>
                  <a:srgbClr val="ffffff"/>
                </a:solidFill>
                <a:latin typeface="Calibri"/>
              </a:rPr>
              <a:t>[07.06.2015]</a:t>
            </a: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a:t>
            </a:r>
            <a:r>
              <a:rPr b="1" lang="el-GR" sz="1600" spc="-1" strike="noStrike">
                <a:solidFill>
                  <a:srgbClr val="ffffff"/>
                </a:solidFill>
                <a:latin typeface="Calibri"/>
              </a:rPr>
              <a:t>Αρχές ΕΚΕ</a:t>
            </a:r>
            <a:r>
              <a:rPr b="1" lang="en-GB" sz="1600" spc="-1" strike="noStrike">
                <a:solidFill>
                  <a:srgbClr val="ffffff"/>
                </a:solidFill>
                <a:latin typeface="Calibri"/>
              </a:rPr>
              <a:t>, </a:t>
            </a:r>
            <a:r>
              <a:rPr b="1" lang="el-GR" sz="1600" spc="-1" strike="noStrike">
                <a:solidFill>
                  <a:srgbClr val="ffffff"/>
                </a:solidFill>
                <a:latin typeface="Calibri"/>
              </a:rPr>
              <a:t>περιβαλλοντικό στρώμα και τι είναι μία πράσινη επιχείρηση;</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www.changemakers.com/g20media/greenSMEs [08.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9"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400" name="Θέση εικόνας 5" descr=""/>
          <p:cNvPicPr/>
          <p:nvPr/>
        </p:nvPicPr>
        <p:blipFill>
          <a:blip r:embed="rId2"/>
          <a:stretch/>
        </p:blipFill>
        <p:spPr>
          <a:xfrm>
            <a:off x="7812000" y="6308640"/>
            <a:ext cx="1079640" cy="317520"/>
          </a:xfrm>
          <a:prstGeom prst="rect">
            <a:avLst/>
          </a:prstGeom>
          <a:ln w="0">
            <a:noFill/>
          </a:ln>
        </p:spPr>
      </p:pic>
      <p:pic>
        <p:nvPicPr>
          <p:cNvPr id="40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Θέση εικόνας 5" descr=""/>
          <p:cNvPicPr/>
          <p:nvPr/>
        </p:nvPicPr>
        <p:blipFill>
          <a:blip r:embed="rId2"/>
          <a:stretch/>
        </p:blipFill>
        <p:spPr>
          <a:xfrm>
            <a:off x="7812000" y="6308640"/>
            <a:ext cx="1079640" cy="317520"/>
          </a:xfrm>
          <a:prstGeom prst="rect">
            <a:avLst/>
          </a:prstGeom>
          <a:ln w="0">
            <a:noFill/>
          </a:ln>
        </p:spPr>
      </p:pic>
      <p:pic>
        <p:nvPicPr>
          <p:cNvPr id="403"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4"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ffffff"/>
                </a:solidFill>
                <a:latin typeface="Calibri"/>
              </a:rPr>
              <a:t>Ευχαριστώ</a:t>
            </a:r>
            <a:r>
              <a:rPr b="1" lang="de-AT" sz="2700" spc="-1" strike="noStrike">
                <a:solidFill>
                  <a:srgbClr val="ffffff"/>
                </a:solidFill>
                <a:latin typeface="Calibri"/>
              </a:rPr>
              <a:t>!</a:t>
            </a:r>
            <a:endParaRPr b="0" lang="en-US" sz="2700" spc="-1" strike="noStrike">
              <a:solidFill>
                <a:srgbClr val="ffffff"/>
              </a:solidFill>
              <a:latin typeface="Times New Roman"/>
            </a:endParaRPr>
          </a:p>
        </p:txBody>
      </p:sp>
      <p:pic>
        <p:nvPicPr>
          <p:cNvPr id="405"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ΣΤΟΧΟΙ</a:t>
            </a:r>
            <a:endParaRPr b="0" lang="en-US" sz="2400" spc="-1" strike="noStrike">
              <a:solidFill>
                <a:srgbClr val="ffffff"/>
              </a:solidFill>
              <a:latin typeface="Times New Roman"/>
            </a:endParaRPr>
          </a:p>
        </p:txBody>
      </p:sp>
      <p:sp>
        <p:nvSpPr>
          <p:cNvPr id="332" name="TextBox 4"/>
          <p:cNvSpPr/>
          <p:nvPr/>
        </p:nvSpPr>
        <p:spPr>
          <a:xfrm>
            <a:off x="395280" y="620640"/>
            <a:ext cx="8353440" cy="1739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εισαχθεί η ιστορία της επιχειρηματικότητας</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οριστεί</a:t>
            </a:r>
            <a:r>
              <a:rPr b="1" lang="en-US" sz="1800" spc="-1" strike="noStrike">
                <a:solidFill>
                  <a:srgbClr val="ffffff"/>
                </a:solidFill>
                <a:latin typeface="Calibri"/>
              </a:rPr>
              <a:t> </a:t>
            </a:r>
            <a:r>
              <a:rPr b="1" lang="el-GR" sz="1800" spc="-1" strike="noStrike">
                <a:solidFill>
                  <a:srgbClr val="ffffff"/>
                </a:solidFill>
                <a:latin typeface="Calibri"/>
              </a:rPr>
              <a:t>η Εταιρική Κοινωνική Ευθύνη (ΕΚΕ)</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l-GR" sz="1800" spc="-1" strike="noStrike">
                <a:solidFill>
                  <a:srgbClr val="ffffff"/>
                </a:solidFill>
                <a:latin typeface="Calibri"/>
              </a:rPr>
              <a:t>Να κατανοηθούν οι αρχές της πράσινης επιχειρηματικότητας</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ΠΙΝΑΚΑΣ ΠΕΡΙΕΧΟΜΕΝΩΝ</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ι είναι η επιχειρηματικότητα</a:t>
            </a:r>
            <a:r>
              <a:rPr b="1" lang="en-GB" sz="1800" spc="-1" strike="noStrike">
                <a:solidFill>
                  <a:srgbClr val="ffffff"/>
                </a:solidFill>
                <a:latin typeface="Calibri"/>
              </a:rPr>
              <a:t>: </a:t>
            </a:r>
            <a:r>
              <a:rPr b="1" lang="el-GR" sz="1800" spc="-1" strike="noStrike">
                <a:solidFill>
                  <a:srgbClr val="ffffff"/>
                </a:solidFill>
                <a:latin typeface="Calibri"/>
              </a:rPr>
              <a:t>μία εισαγωγή</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ρχές ΕΚΕ</a:t>
            </a:r>
            <a:r>
              <a:rPr b="1" lang="en-GB" sz="1800" spc="-1" strike="noStrike">
                <a:solidFill>
                  <a:srgbClr val="ffffff"/>
                </a:solidFill>
                <a:latin typeface="Calibri"/>
              </a:rPr>
              <a:t>, </a:t>
            </a:r>
            <a:r>
              <a:rPr b="1" lang="el-GR" sz="1800" spc="-1" strike="noStrike">
                <a:solidFill>
                  <a:srgbClr val="ffffff"/>
                </a:solidFill>
                <a:latin typeface="Calibri"/>
              </a:rPr>
              <a:t>περιβαλλοντικό στρώμα και τι είναι μία πράσινη επιχείρηση; </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ναφορές</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42" name="TextBox 4"/>
          <p:cNvSpPr/>
          <p:nvPr/>
        </p:nvSpPr>
        <p:spPr>
          <a:xfrm>
            <a:off x="503280" y="765000"/>
            <a:ext cx="7848720" cy="5312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Γενική εισαγωγή στην επιχειρηματικότητα</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Ως μία πρώτη εισαγωγή για το είναι η «επιχειρηματικότητα», ο ορισμός του ηλεκτρονικού λεξικού επιχειρήσεων καλύπτει πολλές πλευρές της και την περιγράφει ως εξής:</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l-GR" sz="1800" spc="-1" strike="noStrike">
                <a:solidFill>
                  <a:srgbClr val="ffffff"/>
                </a:solidFill>
                <a:latin typeface="Calibri"/>
              </a:rPr>
              <a:t>Η επιχειρηματικότητα είναι η ικανότητα και η προθυμία ανάπτυξης, οργάνωσης και διαχείρισης ένα επιχειρηματικού εγχειρήματος, μαζί με οποιοδήποτε από τους κινδύνους της, προκειμένου να αποκομιστεί κάποιο κέρδος. Το πιο προφανές παράδειγμα της επιχειρηματικότητας είναι η εκκίνηση νέων επιχειρήσεων. Στα οικονομικά, η επιχειρηματικότητα σε συνδυασμό με τη γη, την εργασία, τους φυσικούς πόρους και τα κεφάλαια μπορούν να παράγουν κέρδος. Το επιχειρηματικό πνεύμα χαρακτηρίζεται από την καινοτομία και την ανάληψη κινδύνων και είναι ένα ουσιαστικό μέρος της ικανότητας ενός έθνους να επιτύχει σε μία συνεχώς μεταβαλλόμενη και ολοένα και πιο ανταγωνιστική παγκόσμια αγορά.</a:t>
            </a:r>
            <a:r>
              <a:rPr b="1" lang="en-GB" sz="1800" spc="-1" strike="noStrike">
                <a:solidFill>
                  <a:srgbClr val="ffffff"/>
                </a:solidFill>
                <a:latin typeface="Calibri"/>
              </a:rPr>
              <a:t>”</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usinessdictionary.com/definition/entrepreneurship.htm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47" name="TextBox 4"/>
          <p:cNvSpPr/>
          <p:nvPr/>
        </p:nvSpPr>
        <p:spPr>
          <a:xfrm>
            <a:off x="503280" y="765000"/>
            <a:ext cx="7848720" cy="681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Ιστορική ανασκόπηση της επιχειρηματικότητας</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Παρόλο που ο όρος «επιχειρηματικότητα» είναι Γαλλικός, η προέλευση, οι πρώτες εξελίξεις μπορούν να βρεθούν στην Αγγλο-Αμερικανική περιοχή. Στην πραγματικότητα</a:t>
            </a:r>
            <a:r>
              <a:rPr b="1" lang="en-GB" sz="1800" spc="-1" strike="noStrike">
                <a:solidFill>
                  <a:srgbClr val="ffffff"/>
                </a:solidFill>
                <a:latin typeface="Calibri"/>
              </a:rPr>
              <a:t>, </a:t>
            </a:r>
            <a:r>
              <a:rPr b="1" lang="el-GR" sz="1800" spc="-1" strike="noStrike">
                <a:solidFill>
                  <a:srgbClr val="ffffff"/>
                </a:solidFill>
                <a:latin typeface="Calibri"/>
              </a:rPr>
              <a:t>στοιχειώδεις δομές της επιχειρηματικότητας υπήρχαν από το μεσαίωνα και αναπτύχθηκαν ανά τους αιώνες αποκτώντας πολυπλοκότητα, σε συμφωνία με τις κοινωνικές και οικονομικές δομές</a:t>
            </a:r>
            <a:r>
              <a:rPr b="1" lang="en-GB" sz="1800" spc="-1" strike="noStrike">
                <a:solidFill>
                  <a:srgbClr val="ffffff"/>
                </a:solidFill>
                <a:latin typeface="Calibri"/>
              </a:rPr>
              <a: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τα τέλη του 19</a:t>
            </a:r>
            <a:r>
              <a:rPr b="1" lang="el-GR" sz="1800" spc="-1" strike="noStrike" baseline="30000">
                <a:solidFill>
                  <a:srgbClr val="ffffff"/>
                </a:solidFill>
                <a:latin typeface="Calibri"/>
              </a:rPr>
              <a:t>ου</a:t>
            </a:r>
            <a:r>
              <a:rPr b="1" lang="el-GR" sz="1800" spc="-1" strike="noStrike">
                <a:solidFill>
                  <a:srgbClr val="ffffff"/>
                </a:solidFill>
                <a:latin typeface="Calibri"/>
              </a:rPr>
              <a:t> και στις αρχές του 20</a:t>
            </a:r>
            <a:r>
              <a:rPr b="1" lang="el-GR" sz="1800" spc="-1" strike="noStrike" baseline="30000">
                <a:solidFill>
                  <a:srgbClr val="ffffff"/>
                </a:solidFill>
                <a:latin typeface="Calibri"/>
              </a:rPr>
              <a:t>ου</a:t>
            </a:r>
            <a:r>
              <a:rPr b="1" lang="el-GR" sz="1800" spc="-1" strike="noStrike">
                <a:solidFill>
                  <a:srgbClr val="ffffff"/>
                </a:solidFill>
                <a:latin typeface="Calibri"/>
              </a:rPr>
              <a:t> αιώνα, η επιχειρηματικότητα εστίασε στην οικονομική πλευρά. Για παράδειγμα, ο</a:t>
            </a:r>
            <a:r>
              <a:rPr b="1" lang="en-GB" sz="1800" spc="-1" strike="noStrike">
                <a:solidFill>
                  <a:srgbClr val="ffffff"/>
                </a:solidFill>
                <a:latin typeface="Calibri"/>
              </a:rPr>
              <a:t> Andrew Carnegie </a:t>
            </a:r>
            <a:r>
              <a:rPr b="1" lang="el-GR" sz="1800" spc="-1" strike="noStrike">
                <a:solidFill>
                  <a:srgbClr val="ffffff"/>
                </a:solidFill>
                <a:latin typeface="Calibri"/>
              </a:rPr>
              <a:t>που έχτισε την Αμερικάνικη βιομηχανία χάλυβα χαρακτηρίστηκε περισσότερο για την ανταγωνιστικότητα παρά για τη δημιουργικότητά του.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Στα μέσα του 20</a:t>
            </a:r>
            <a:r>
              <a:rPr b="1" lang="el-GR" sz="1800" spc="-1" strike="noStrike" baseline="30000">
                <a:solidFill>
                  <a:srgbClr val="ffffff"/>
                </a:solidFill>
                <a:latin typeface="Calibri"/>
              </a:rPr>
              <a:t>ου</a:t>
            </a:r>
            <a:r>
              <a:rPr b="1" lang="el-GR" sz="1800" spc="-1" strike="noStrike">
                <a:solidFill>
                  <a:srgbClr val="ffffff"/>
                </a:solidFill>
                <a:latin typeface="Calibri"/>
              </a:rPr>
              <a:t> αιώνα αυτό άλλαξε και ο επιχειρηματίας αναγνωριζόταν περισσότερο ως ένας καινοτόμος. Για παράδειγμα, ο</a:t>
            </a:r>
            <a:r>
              <a:rPr b="1" lang="en-GB" sz="1800" spc="-1" strike="noStrike">
                <a:solidFill>
                  <a:srgbClr val="ffffff"/>
                </a:solidFill>
                <a:latin typeface="Calibri"/>
              </a:rPr>
              <a:t> Edward Harriman, </a:t>
            </a:r>
            <a:r>
              <a:rPr b="1" lang="el-GR" sz="1800" spc="-1" strike="noStrike">
                <a:solidFill>
                  <a:srgbClr val="ffffff"/>
                </a:solidFill>
                <a:latin typeface="Calibri"/>
              </a:rPr>
              <a:t>που επανοργάνωσε το Νότιο σιδηρόδρομο και το σιδηρόδρομο του Οντάριο μέσω της ένωσης βορίου Ειρηνικού</a:t>
            </a:r>
            <a:r>
              <a:rPr b="1" lang="en-GB" sz="1800" spc="-1" strike="noStrike">
                <a:solidFill>
                  <a:srgbClr val="ffffff"/>
                </a:solidFill>
                <a:latin typeface="Calibri"/>
              </a:rPr>
              <a: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52" name="TextBox 4"/>
          <p:cNvSpPr/>
          <p:nvPr/>
        </p:nvSpPr>
        <p:spPr>
          <a:xfrm>
            <a:off x="503280" y="765000"/>
            <a:ext cx="7848720" cy="586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Ιστορική ανασκόπηση της επιχειρηματικότητας</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 οικονομολόγος </a:t>
            </a:r>
            <a:r>
              <a:rPr b="1" lang="en-GB" sz="1800" spc="-1" strike="noStrike">
                <a:solidFill>
                  <a:srgbClr val="ffffff"/>
                </a:solidFill>
                <a:latin typeface="Calibri"/>
              </a:rPr>
              <a:t>Joseph Schumpeter </a:t>
            </a:r>
            <a:r>
              <a:rPr b="1" lang="el-GR" sz="1800" spc="-1" strike="noStrike">
                <a:solidFill>
                  <a:srgbClr val="ffffff"/>
                </a:solidFill>
                <a:latin typeface="Calibri"/>
              </a:rPr>
              <a:t>παίζει ένα ρόλο-κλειδί στην έρευνα για την επιχειρηματικότητα. Στη δεκαετία του 30</a:t>
            </a:r>
            <a:r>
              <a:rPr b="1" lang="en-GB" sz="1800" spc="-1" strike="noStrike">
                <a:solidFill>
                  <a:srgbClr val="ffffff"/>
                </a:solidFill>
                <a:latin typeface="Calibri"/>
              </a:rPr>
              <a:t> </a:t>
            </a:r>
            <a:r>
              <a:rPr b="1" lang="el-GR" sz="1800" spc="-1" strike="noStrike">
                <a:solidFill>
                  <a:srgbClr val="ffffff"/>
                </a:solidFill>
                <a:latin typeface="Calibri"/>
              </a:rPr>
              <a:t>του 20</a:t>
            </a:r>
            <a:r>
              <a:rPr b="1" lang="el-GR" sz="1800" spc="-1" strike="noStrike" baseline="30000">
                <a:solidFill>
                  <a:srgbClr val="ffffff"/>
                </a:solidFill>
                <a:latin typeface="Calibri"/>
              </a:rPr>
              <a:t>ου</a:t>
            </a:r>
            <a:r>
              <a:rPr b="1" lang="el-GR" sz="1800" spc="-1" strike="noStrike">
                <a:solidFill>
                  <a:srgbClr val="ffffff"/>
                </a:solidFill>
                <a:latin typeface="Calibri"/>
              </a:rPr>
              <a:t> αιώνα περίγραψε τον επιχειρηματία σαν κάποιον που έχει στόχο όχι να επινοήσει κάτι νέο, αλλά να εξερευνήσει κάτι που υπάρχει ήδη με νέο τρόπο και να το εισάγει επιτυχώς στην αγορά. Σε αυτό τον ορισμό το ενδιαφέρον μετατοπίζεται στο επιτυχές μάρκετινγκ ενός, όχι απαραίτητα πρόσφατα επινοημένου, προϊόντος. </a:t>
            </a:r>
            <a:r>
              <a:rPr b="1" lang="en-GB" sz="1800" spc="-1" strike="noStrike">
                <a:solidFill>
                  <a:srgbClr val="ffffff"/>
                </a:solidFill>
                <a:latin typeface="Calibri"/>
              </a:rPr>
              <a:t> </a:t>
            </a:r>
            <a:r>
              <a:rPr b="1" lang="el-GR" sz="1800" spc="-1" strike="noStrike">
                <a:solidFill>
                  <a:srgbClr val="ffffff"/>
                </a:solidFill>
                <a:latin typeface="Calibri"/>
              </a:rPr>
              <a:t>Ωστόσο, η ίδια η διαδικασία του μάρκετινγκ απαιτεί δημιουργικότητα και καινοτόμο και εφευρετικό πνεύμα</a:t>
            </a:r>
            <a:r>
              <a:rPr b="1" lang="en-GB" sz="1800" spc="-1" strike="noStrike">
                <a:solidFill>
                  <a:srgbClr val="ffffff"/>
                </a:solidFill>
                <a:latin typeface="Calibri"/>
              </a:rPr>
              <a: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Αυτή η αλλαγή της εστίασης είχε τεράστιο αντίκτυπο στον σύγχρονο ορισμό της επιχειρηματικότητας. Με αυτή την έννοια, εταιρείες όπως η Red Bull μπορεί να αναχθούν στην επιχειρηματική φιλοδοξία</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3" name="Θέση εικόνας 5" descr=""/>
          <p:cNvPicPr/>
          <p:nvPr/>
        </p:nvPicPr>
        <p:blipFill>
          <a:blip r:embed="rId1"/>
          <a:stretch/>
        </p:blipFill>
        <p:spPr>
          <a:xfrm>
            <a:off x="7812000" y="6308640"/>
            <a:ext cx="1079640" cy="317520"/>
          </a:xfrm>
          <a:prstGeom prst="rect">
            <a:avLst/>
          </a:prstGeom>
          <a:ln w="0">
            <a:noFill/>
          </a:ln>
        </p:spPr>
      </p:pic>
      <p:pic>
        <p:nvPicPr>
          <p:cNvPr id="35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p:txBody>
      </p:sp>
      <p:sp>
        <p:nvSpPr>
          <p:cNvPr id="357" name="TextBox 4"/>
          <p:cNvSpPr/>
          <p:nvPr/>
        </p:nvSpPr>
        <p:spPr>
          <a:xfrm>
            <a:off x="503280" y="549360"/>
            <a:ext cx="7848720" cy="597564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u="sng">
                <a:solidFill>
                  <a:srgbClr val="ffffff"/>
                </a:solidFill>
                <a:uFillTx/>
                <a:latin typeface="Calibri"/>
              </a:rPr>
              <a:t>Εκπαίδευση και επιχειρηματικότητα</a:t>
            </a:r>
            <a:br>
              <a:rPr sz="1700"/>
            </a:br>
            <a:r>
              <a:rPr b="1" lang="el-GR" sz="1700" spc="-1" strike="noStrike">
                <a:solidFill>
                  <a:srgbClr val="ffffff"/>
                </a:solidFill>
                <a:latin typeface="Calibri"/>
              </a:rPr>
              <a:t>Το 1947, προσφέρθηκε στο Πανεπιστήμιο του Χάρβαρντ το πρώτο μάθημα επιχειρηματικότητας, με στόχο την υποστήριξη των βετεράνων για να ξεκινήσουν τη δική τους επιχείρηση. Στη δεκαετία του 1950 και του 1960, την εκπαίδευση στην επιχειρηματικότητα προσφέρθηκε σε πολλές σχολές διοίκησης επιχειρήσεων, και το κοινό μετατοπίστηκε προς τους νέους. Στη δεκαετία του 1970, υπήρξε μια σημαντική αύξηση στον τομέα αυτό, λόγω της υψηλής ζήτησης για μαθήματα επιχειρηματικότητας.</a:t>
            </a:r>
            <a:endParaRPr b="0" lang="en-US" sz="17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Στη δεκαετία του 1980 το θέμα της επιχειρηματικότητας συνδέθηκε με άλλους τομείς. Εκείνη τη στιγμή επίσης, πραγματοποιήθηκαν τα πρώτα συνέδρια και συνεδριάσεις. Τη δεκαετία του 1990 μπορεί να καταχωρηθεί η πραγματική έκρηξη της εκπαίδευσης στην επιχειρηματικότητα.</a:t>
            </a:r>
            <a:endParaRPr b="0" lang="en-US" sz="17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Calibri"/>
              </a:rPr>
              <a:t>Στην Ευρώπη, η εξέλιξη αυτή ξεκίνησε αργότερα. Στη Γερμανία, για παράδειγμα, ο αριθμός των μαθημάτων αυξήθηκε μέχρι το δεύτερο μισό της δεκαετίας του 1990. Ένα ορόσημο στην γερμανική ιστορία της επιχειρηματικότητας ήταν η ίδρυση της EXISTProgramms το 1998. Μέσω αυτού τοθ κλιματος χρηματοδότησης οι νεοφυείς επιχειρήσεις στα πανεπιστήμια θα πρέπει να βελτιωθεί.</a:t>
            </a:r>
            <a:br>
              <a:rPr sz="1700"/>
            </a:br>
            <a:br>
              <a:rPr sz="1700"/>
            </a:br>
            <a:endParaRPr b="0" lang="en-US" sz="1700" spc="-1" strike="noStrike">
              <a:solidFill>
                <a:srgbClr val="ffffff"/>
              </a:solidFill>
              <a:latin typeface="Times New Roman"/>
            </a:endParaRPr>
          </a:p>
        </p:txBody>
      </p:sp>
      <p:pic>
        <p:nvPicPr>
          <p:cNvPr id="358" name="Θέση εικόνας 5" descr=""/>
          <p:cNvPicPr/>
          <p:nvPr/>
        </p:nvPicPr>
        <p:blipFill>
          <a:blip r:embed="rId1"/>
          <a:stretch/>
        </p:blipFill>
        <p:spPr>
          <a:xfrm>
            <a:off x="7812000" y="6308640"/>
            <a:ext cx="1079640" cy="317520"/>
          </a:xfrm>
          <a:prstGeom prst="rect">
            <a:avLst/>
          </a:prstGeom>
          <a:ln w="0">
            <a:noFill/>
          </a:ln>
        </p:spPr>
      </p:pic>
      <p:pic>
        <p:nvPicPr>
          <p:cNvPr id="35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0" y="144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TextBox 4"/>
          <p:cNvSpPr/>
          <p:nvPr/>
        </p:nvSpPr>
        <p:spPr>
          <a:xfrm>
            <a:off x="503280" y="765000"/>
            <a:ext cx="7848720" cy="5190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κπαίδευση και επιχειρηματικότητα</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Τα τελευταία χρόνια, η σημασία της επιχειρηματικότητας και της σχετικής εκπαίδευσης αυξήθηκε σημαντικά. Ένας λόγος ήταν κυρίως η οικονομική κρίση του 2008. Η κρίση οδήγησε σε αρνητική οικονομική ανάπτυξη, υψηλή ανεργία και λίγες ευκαιρίες καριέρας για τους νέους. Ως αποτέλεσμα, οι πολιτικοί κλήθηκαν να προωθήσουν την επιχειρηματικότητα και οι μαθητές κλήθηκαν να εκπαιδευτούν στον τομέα για να αντισταθμιστούν οι ελλείψεις στο χώρο.</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Ευρωπαϊκή Επιτροπή ανταποκρίθηκε στην οικονομική κρίση του 2008, π.χ. με το σχέδιο δράσης για τη γυναικεία επιχειρηματικότητα 2020 που προτίθεται να ενισχύσει την ανταγωνιστικότητα και να επιτύχει βιώσιμη ανάπτυξη. Αυτό το σχέδιο δράσης επικεντρώνεται στην προώθηση της επιχειρηματικής εκπαίδευσης, στη βελτίωση του αναγκαίου επιχειρηματικού περιβάλλοντος και στην προώθηση μιας γενιάς νέων επιχειρηματιών.</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Ένας άλλος επιχειρηματικός τομέας είναι η λεγόμενη «ecopreneurship» ή «πράσινη επιχειρηματικότητα» που θα περιγραφεί στις επόμενες διαφάνειες.</a:t>
            </a:r>
            <a:endParaRPr b="0" lang="en-US" sz="1800" spc="-1" strike="noStrike">
              <a:solidFill>
                <a:srgbClr val="ffffff"/>
              </a:solidFill>
              <a:latin typeface="Times New Roman"/>
            </a:endParaRPr>
          </a:p>
        </p:txBody>
      </p:sp>
      <p:pic>
        <p:nvPicPr>
          <p:cNvPr id="363" name="Θέση εικόνας 5" descr=""/>
          <p:cNvPicPr/>
          <p:nvPr/>
        </p:nvPicPr>
        <p:blipFill>
          <a:blip r:embed="rId1"/>
          <a:stretch/>
        </p:blipFill>
        <p:spPr>
          <a:xfrm>
            <a:off x="7812000" y="6308640"/>
            <a:ext cx="1079640" cy="317520"/>
          </a:xfrm>
          <a:prstGeom prst="rect">
            <a:avLst/>
          </a:prstGeom>
          <a:ln w="0">
            <a:noFill/>
          </a:ln>
        </p:spPr>
      </p:pic>
      <p:pic>
        <p:nvPicPr>
          <p:cNvPr id="36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1"/>
          <p:cNvSpPr/>
          <p:nvPr/>
        </p:nvSpPr>
        <p:spPr>
          <a:xfrm>
            <a:off x="0" y="144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a:t>
            </a:r>
            <a:r>
              <a:rPr b="1" lang="el-GR" sz="2400" spc="-1" strike="noStrike">
                <a:solidFill>
                  <a:srgbClr val="ffffff"/>
                </a:solidFill>
                <a:latin typeface="Calibri"/>
              </a:rPr>
              <a:t>ΤΙ ΕΙΝΑΙ Η ΕΠΙΧΕΙΡΗΜΑΤΙΚΟΤΗΤΑ</a:t>
            </a:r>
            <a:r>
              <a:rPr b="1" lang="en-GB" sz="2400" spc="-1" strike="noStrike">
                <a:solidFill>
                  <a:srgbClr val="ffffff"/>
                </a:solidFill>
                <a:latin typeface="Calibri"/>
              </a:rPr>
              <a:t>: </a:t>
            </a:r>
            <a:r>
              <a:rPr b="1" lang="el-GR" sz="2400" spc="-1" strike="noStrike">
                <a:solidFill>
                  <a:srgbClr val="ffffff"/>
                </a:solidFill>
                <a:latin typeface="Calibri"/>
              </a:rPr>
              <a:t>ΜΙΑ ΕΙΣΑΓΩΓ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68" name="Θέση εικόνας 5" descr=""/>
          <p:cNvPicPr/>
          <p:nvPr/>
        </p:nvPicPr>
        <p:blipFill>
          <a:blip r:embed="rId1"/>
          <a:stretch/>
        </p:blipFill>
        <p:spPr>
          <a:xfrm>
            <a:off x="7812000" y="6308640"/>
            <a:ext cx="1079640" cy="317520"/>
          </a:xfrm>
          <a:prstGeom prst="rect">
            <a:avLst/>
          </a:prstGeom>
          <a:ln w="0">
            <a:noFill/>
          </a:ln>
        </p:spPr>
      </p:pic>
      <p:pic>
        <p:nvPicPr>
          <p:cNvPr id="36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0" name="Text Box 7"/>
          <p:cNvSpPr/>
          <p:nvPr/>
        </p:nvSpPr>
        <p:spPr>
          <a:xfrm>
            <a:off x="324000" y="9079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Text Box 8"/>
          <p:cNvSpPr/>
          <p:nvPr/>
        </p:nvSpPr>
        <p:spPr>
          <a:xfrm>
            <a:off x="468360" y="90792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Text Box 9"/>
          <p:cNvSpPr/>
          <p:nvPr/>
        </p:nvSpPr>
        <p:spPr>
          <a:xfrm>
            <a:off x="324000" y="814320"/>
            <a:ext cx="8567640" cy="5080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ffff"/>
                </a:solidFill>
                <a:uFillTx/>
                <a:latin typeface="Calibri"/>
              </a:rPr>
              <a:t>Ειδική εισαγωγή στις επιχειρήσεις και τη βιωσιμότητα</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Οι πράσινες επιχειρήσεις είναι οι επιχειρήσεις που έχουν δεσμευτεί να μειώσουν τις επιπτώσεις τους στο περιβάλλον ή, με έμφαση σε πιο ευρεία κλίμακα, στη βιωσιμότητα.</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βιωσιμότητα περιλαμβάνει όχι μόνο την εξέταση των περιβαλλοντικών ζητημάτων, αλλά περιλαμβάνει την κοινωνική, οικονομική και περιβαλλοντική θεώρηση, γνωστοί επίσης και ως οι τρεις πυλώνες της βιωσιμότητας.</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Μια στρατηγική για την εφαρμογή αξιών όπως τα ανθρώπινα δικαιώματα, η κοινωνική ισότητα και, φυσικά, η προστασία του περιβάλλοντος στις επιχειρήσεις είναι η έννοια της Εταιρικής Κοινωνικής Ευθύνης (ΕΚΕ).</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Calibri"/>
              </a:rPr>
              <a:t>Η ΕΚΕ δεν είναι ομοιόμορφη έννοια, αλλά βασίζεται σε ορισμένες αρχές και κατευθυντήριες γραμμές. Η έννοια της διαφέρει από χώρα σε χώρα, ακόμη και από εταιρεία σε εταιρεία. Για τις πράσινες επιχειρήσεις οι αρχές αυτές μπορεί να είναι μια καλή βάση για την εξασφάλιση της βιωσιμότητάς τους</a:t>
            </a:r>
            <a:endParaRPr b="0" lang="en-US" sz="1800" spc="-1" strike="noStrike">
              <a:solidFill>
                <a:srgbClr val="ffffff"/>
              </a:solidFill>
              <a:latin typeface="Times New Roman"/>
            </a:endParaRPr>
          </a:p>
        </p:txBody>
      </p:sp>
      <p:pic>
        <p:nvPicPr>
          <p:cNvPr id="373" name="Picture 8"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panagiotakopoulos</cp:lastModifiedBy>
  <dcterms:modified xsi:type="dcterms:W3CDTF">2016-07-27T10:04:21Z</dcterms:modified>
  <cp:revision>203</cp:revision>
  <dc:subject/>
  <dc:title>@MINDSET: Managing Social Relations in Schools</dc:title>
</cp:coreProperties>
</file>