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024ED-F7AB-49DD-9C0E-53EF2CDCF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8EAA9-564B-4981-86EB-BA377EDA4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7DAC9-260B-4C46-87F6-6565C6BF3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46ED8-6191-45CA-9D51-C357C0DAF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5C97D-E1D0-4E08-A71E-396FAB2A7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EDAFC-4BC9-48BE-A202-C40F0DAD9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00A85-947F-44EF-A07E-1475B232E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34CD6-FFB1-4C08-AB28-195C5E39B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C566B-166F-4726-A765-1E2547C1F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6899B-D8B1-4D54-8C44-E18712A25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8F111-7900-4D86-B5E7-246CAB21A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C32B-2EA1-4FE7-ACCD-E752FBB31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77353-3FD7-4F5C-9D28-B82DAC00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5BD5F-423C-475A-96E2-855A60B03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C11B7-EDAE-4CE8-95FA-198731E64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B1B39-774B-4007-9066-BFC04232D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3562C-AB34-4F8C-84D5-3EE54759E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9A546B-0CEC-47CD-8206-693DA85111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E8228-6DFA-40C3-90C8-EC34DC3AD8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AA996-77C6-4A63-8740-2516B330E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021D5-17DA-4C8C-AB56-38C75595C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5F07E-E4FA-42C7-B9FA-97305D6D2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B4AD-E6B3-45AD-9896-C386FE01C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50BA25-B747-4BFB-9DCB-29C305C2D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72078-B1A8-4ABE-9F47-CEC6868BE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10DF7-6A3D-4D62-9796-D3E70217B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8A1E0-A14D-46F6-A161-591D1E253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83C2E-4D7D-4A86-95FB-804370C23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B6439D-22AF-4A19-BA0B-CCCEA34DBA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32D8F-9EE8-4AFE-AF86-4DBD3E2CB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58FFE1-DB0E-4190-BE49-35D93B2829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D70ED-A745-4DD7-ADFA-89854BC4A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25CAA-2A35-4D27-A061-E2FD252B3C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AB198-0BF7-4912-8294-6A926F49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5E6B2-AEBF-48C9-8B6F-C5A1A310E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C4180-C83B-4261-ACA1-B2083900B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FF7612-9475-40D9-B5D2-F5B40A787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8D7AB-22C1-48A5-8FC5-25CD2794B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95CD3-A29B-4D08-B6CA-B1DD12B46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BA41E-3B5A-43DA-ADFC-E421ECC7D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4E64D7-A194-4AAD-930F-F5EC24D6C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C0D0F-25C4-4289-8EB6-E280DBC47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A6D24F-8423-480E-B9FE-C3B5774947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A3A1F-185B-407C-9DC2-E761A7CC0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056F7-9124-471A-BBCF-D6DBAF8F9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A67E-0116-44EC-A891-8EB1B6A0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EC88-CFF8-4DF5-8205-C9CF365B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28AD-9B4E-4F35-B206-D7379186A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60FE-3EB0-4697-8791-18373CF10021}"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ED89-F388-4083-96AA-ACE6A679603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ACD0-6DBF-4A22-83A5-630354337D4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E4F7-EF51-44B1-BA48-A7936CD7754E}"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Θέση εικόνας 5" descr=""/>
          <p:cNvPicPr/>
          <p:nvPr/>
        </p:nvPicPr>
        <p:blipFill>
          <a:blip r:embed="rId2"/>
          <a:stretch/>
        </p:blipFill>
        <p:spPr>
          <a:xfrm>
            <a:off x="7812000" y="6308640"/>
            <a:ext cx="1079640" cy="317520"/>
          </a:xfrm>
          <a:prstGeom prst="rect">
            <a:avLst/>
          </a:prstGeom>
          <a:ln w="0">
            <a:noFill/>
          </a:ln>
        </p:spPr>
      </p:pic>
      <p:pic>
        <p:nvPicPr>
          <p:cNvPr id="222"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23" name="Subtitle 2"/>
          <p:cNvSpPr/>
          <p:nvPr/>
        </p:nvSpPr>
        <p:spPr>
          <a:xfrm>
            <a:off x="3986280" y="1549440"/>
            <a:ext cx="4895640" cy="4464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4 – </a:t>
            </a:r>
            <a:r>
              <a:rPr b="0" lang="el-GR" sz="2800" spc="-1" strike="noStrike">
                <a:solidFill>
                  <a:srgbClr val="ffffff"/>
                </a:solidFill>
                <a:latin typeface="Calibri"/>
              </a:rPr>
              <a:t>Μελέτη περίπτωσης πράσινης επιχειρηματικότητας</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ες </a:t>
            </a:r>
            <a:r>
              <a:rPr b="0" lang="en-US" sz="2800" spc="-1" strike="noStrike">
                <a:solidFill>
                  <a:srgbClr val="ffffff"/>
                </a:solidFill>
                <a:latin typeface="Calibri"/>
              </a:rPr>
              <a:t>40</a:t>
            </a:r>
            <a:r>
              <a:rPr b="0" lang="el-GR" sz="2800" spc="-1" strike="noStrike">
                <a:solidFill>
                  <a:srgbClr val="ffffff"/>
                </a:solidFill>
                <a:latin typeface="Calibri"/>
              </a:rPr>
              <a:t>-</a:t>
            </a:r>
            <a:r>
              <a:rPr b="0" lang="en-US" sz="2800" spc="-1" strike="noStrike">
                <a:solidFill>
                  <a:srgbClr val="ffffff"/>
                </a:solidFill>
                <a:latin typeface="Calibri"/>
              </a:rPr>
              <a:t>42</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4" name="Picture 4" descr=""/>
          <p:cNvPicPr/>
          <p:nvPr/>
        </p:nvPicPr>
        <p:blipFill>
          <a:blip r:embed="rId4"/>
          <a:stretch/>
        </p:blipFill>
        <p:spPr>
          <a:xfrm>
            <a:off x="7432560" y="52023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Ανταλλακτήριο υλικών </a:t>
            </a:r>
            <a:r>
              <a:rPr b="1" lang="en-GB" sz="2400" spc="-1" strike="noStrike">
                <a:solidFill>
                  <a:srgbClr val="ffffff"/>
                </a:solidFill>
                <a:latin typeface="Calibri"/>
              </a:rPr>
              <a:t>Eastex</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285840" y="765000"/>
            <a:ext cx="8572320" cy="5445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Το επιχειρηματικό μοντέλο</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ο ανταλλακτήριο υλικών </a:t>
            </a:r>
            <a:r>
              <a:rPr b="1" lang="en-US" sz="1800" spc="-1" strike="noStrike">
                <a:solidFill>
                  <a:srgbClr val="ffffff"/>
                </a:solidFill>
                <a:latin typeface="Calibri"/>
              </a:rPr>
              <a:t>Eastex </a:t>
            </a:r>
            <a:r>
              <a:rPr b="1" lang="el-GR" sz="1800" spc="-1" strike="noStrike">
                <a:solidFill>
                  <a:srgbClr val="ffffff"/>
                </a:solidFill>
                <a:latin typeface="Calibri"/>
              </a:rPr>
              <a:t>είναι μία πλατφόρμα βασισμένη στον Ιστό που διευκολύνει την ανταλλαγή πρόσθετων υλικών μεταξύ διαφορετικών μερών. Η πρόταση αξίας του </a:t>
            </a:r>
            <a:r>
              <a:rPr b="1" lang="en-US" sz="1800" spc="-1" strike="noStrike">
                <a:solidFill>
                  <a:srgbClr val="ffffff"/>
                </a:solidFill>
                <a:latin typeface="Calibri"/>
              </a:rPr>
              <a:t>Eastex </a:t>
            </a:r>
            <a:r>
              <a:rPr b="1" lang="el-GR" sz="1800" spc="-1" strike="noStrike">
                <a:solidFill>
                  <a:srgbClr val="ffffff"/>
                </a:solidFill>
                <a:latin typeface="Calibri"/>
              </a:rPr>
              <a:t>είναι να καταστήσει δυνατή για τις ΜΜΕ την εύρεση φτηνότερων πρώτων υλών και εξοπλισμού, ή την ανταλλαγή των πλεοναζόντων υλικών τους, συμβάλλοντας παράλληλα στη μείωση της παραγωγής αποβλήτων.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πλατφόρμα είναι δωρεάν σε όλα τα μέλη; μια υπηρεσία που έχει κυρίως χρηματοδοτηθεί μέσω των τοπικών κυβερνήσεων. Η διαχείριση ωστόσο παραδόθηκε σε ιδιωτική εταιρεία με την επωνυμία </a:t>
            </a:r>
            <a:r>
              <a:rPr b="1" lang="en-US" sz="1800" spc="-1" strike="noStrike">
                <a:solidFill>
                  <a:srgbClr val="ffffff"/>
                </a:solidFill>
                <a:latin typeface="Calibri"/>
              </a:rPr>
              <a:t>Bright Green</a:t>
            </a:r>
            <a:r>
              <a:rPr b="1" lang="el-GR" sz="1800" spc="-1" strike="noStrike">
                <a:solidFill>
                  <a:srgbClr val="ffffff"/>
                </a:solidFill>
                <a:latin typeface="Calibri"/>
              </a:rPr>
              <a:t>  το Δεκέμβριο του 2010, με στόχο να καταστεί η πλατφόρμα αυτοσυντηρούμενη.</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πλατφόρμα μπορεί επίσης να χρησιμοποιηθεί από τους δημόσιους οργανισμούς, καθώς και τις κοινωνικές επιχειρήσεις, τα φιλανθρωπικά ιδρύματα και άλλα είδη οργανισμών. Από την άποψη των βασικών πόρων, η πλατφόρμα Eastex έχει επωφεληθεί σε μεγάλο βαθμό από τις τοπικές κρατικές επιχορηγήσεις καθώς και τις προσπάθειες συνεργασίας μεταξύ των διαφόρων επαρχιών που ασχολήθηκαν με το έργο.</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4245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ea typeface="Times New Roman"/>
              </a:rPr>
              <a:t>Πλεονεκτήματα και επιπτώσεις</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Οι περιβαλλοντικές επιπτώσεις της Eastex προέρχονται από τις ανταλλαγές υλικών που συμβαίνουν ατην πλατφόρμα και, ως εκ τούτου, από την επαναχρησιμοποίησή τους</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Από οικονομική άποψη, η ανταλλαγή υλικών βοηθά τα μέλη της να αποφύγουν το κόστος διάθεσης των αποβλήτων, συμπεριλαμβανομένων των εξόδων μεταφοράς και φόρων υγειονομικής ταφής. Επιτρέπει στα μέλη της πλατφόρμας την απόκτηση των πρώτων υλών σε φθηνότερες τιμές σε σύγκριση με άλλες μεθόδους απόκτησης, ενώ επίσης εξοικονομεί χρήματα.</a:t>
            </a:r>
            <a:r>
              <a:rPr b="1" lang="en-US" sz="1800" spc="-1" strike="noStrike">
                <a:solidFill>
                  <a:srgbClr val="ffffff"/>
                </a:solidFill>
                <a:latin typeface="Calibri"/>
              </a:rPr>
              <a:t> </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Ανταλλακτήριο υλικών </a:t>
            </a:r>
            <a:r>
              <a:rPr b="1" lang="en-GB" sz="2400" spc="-1" strike="noStrike">
                <a:solidFill>
                  <a:srgbClr val="ffffff"/>
                </a:solidFill>
                <a:latin typeface="Calibri"/>
              </a:rPr>
              <a:t>Easte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488880" y="681120"/>
            <a:ext cx="7664400" cy="444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ea typeface="Times New Roman"/>
              </a:rPr>
              <a:t>Οδηγοί και εμπόδια</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Ο βασικός οδηγός για τη συνέχιση της Eastex ήταν η εστίαση της βρετανικής κυβέρνησης στη βελτίωση της αποδοτικότητας των πόρων.</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Υπήρξαν τρία κύρια εμπόδια σε σχέση με τη σύσταση της Eastex. Το πρώτο σχετίζεται με την εκπαίδευση των επιχειρήσεων στη χρήση της πλατφόρμας και την επεξήγηση των δυνατοτήτων της</a:t>
            </a:r>
            <a:r>
              <a:rPr b="1" lang="en-US" sz="1800" spc="-1" strike="noStrike">
                <a:solidFill>
                  <a:srgbClr val="ffffff"/>
                </a:solidFill>
                <a:latin typeface="Calibri"/>
                <a:ea typeface="Times New Roman"/>
              </a:rPr>
              <a:t>.</a:t>
            </a:r>
            <a:r>
              <a:rPr b="1" lang="el-GR" sz="1800" spc="-1" strike="noStrike">
                <a:solidFill>
                  <a:srgbClr val="ffffff"/>
                </a:solidFill>
                <a:latin typeface="Calibri"/>
                <a:ea typeface="Times New Roman"/>
              </a:rPr>
              <a:t> Το δεύτερο εμπόδιο ήταν να κάνει τις επιχειρήσεις να χρησιμοποιούν την πλατφόρμα σε συνεχή βάση, κάτι που απαίτησε αρκετές εκστρατείες μάρκετινγκ. Το τρίτο εμπόδιο ήταν ότι μόλις οι εταιρείες εντάχθηκαν ως μέλη στην ανταλλαγή υλικών και καθιέρωσαν μια κερδοφόρα σχέση με έναν εταίρο «αποβλήτων», υπήρχε μια τάση να εγκαταλείπουν την πλατφόρμα</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Ανταλλακτήριο υλικών </a:t>
            </a:r>
            <a:r>
              <a:rPr b="1" lang="en-GB" sz="2400" spc="-1" strike="noStrike">
                <a:solidFill>
                  <a:srgbClr val="ffffff"/>
                </a:solidFill>
                <a:latin typeface="Calibri"/>
              </a:rPr>
              <a:t>Easte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58215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ρωτήσεις κρίσεως</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κεφτείτε τις διαφορετικές διαστάσεις που το μοντέλο αυτό έχει θετικό αντίκτυπο στο περιβάλλον.</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ν το μοντέλο δεν στηρίζονται σε δημόσια χρηματοδότηση, τι εναλλακτικές επιλογές χρηματοδότησης υπάρχουν;</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Πώς είναι η σχέση μεταξύ της Eastex και των εταιρειών;</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αρακαλείσθε να περιγράψετε τη σημασία της συμμετοχής των ενδιαφερόμενων μερών, ιδίως για τις μικρές νεοφυείς επιχειρήσεις.</a:t>
            </a:r>
            <a:r>
              <a:rPr b="1" lang="en-US"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οιες στρατηγικές υπάρχουν, προκειμένου να ενταχθούν οι άμεσα ενδιαφερόμενοι στην πλατφόρμα και να εγγυηθεί μια μακροχρόνια σχέση;</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Ανταλλακτήριο υλικών </a:t>
            </a:r>
            <a:r>
              <a:rPr b="1" lang="en-GB" sz="2400" spc="-1" strike="noStrike">
                <a:solidFill>
                  <a:srgbClr val="ffffff"/>
                </a:solidFill>
                <a:latin typeface="Calibri"/>
              </a:rPr>
              <a:t>Easte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 Box 5"/>
          <p:cNvSpPr/>
          <p:nvPr/>
        </p:nvSpPr>
        <p:spPr>
          <a:xfrm>
            <a:off x="395280" y="108108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Αναφορές</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Ανταλλακτήριο υλικών </a:t>
            </a:r>
            <a:r>
              <a:rPr b="1" lang="en-GB" sz="2400" spc="-1" strike="noStrike">
                <a:solidFill>
                  <a:srgbClr val="ffffff"/>
                </a:solidFill>
                <a:latin typeface="Calibri"/>
              </a:rPr>
              <a:t>Easte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Calibri"/>
              </a:rPr>
              <a:t>Ευχαριστώ</a:t>
            </a:r>
            <a:r>
              <a:rPr b="1" lang="de-AT" sz="2700" spc="-1" strike="noStrike">
                <a:solidFill>
                  <a:srgbClr val="ffffff"/>
                </a:solidFill>
                <a:latin typeface="Calibri"/>
              </a:rPr>
              <a:t>!</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panagiotakopoulos</cp:lastModifiedBy>
  <dcterms:modified xsi:type="dcterms:W3CDTF">2016-07-28T05:44:50Z</dcterms:modified>
  <cp:revision>177</cp:revision>
  <dc:subject/>
  <dc:title>@MINDSET: Managing Social Relations in Schools</dc:title>
</cp:coreProperties>
</file>