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00696-A637-4905-9973-A8A7B988B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FC128-E264-4017-80F8-A9552A151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B9E0E-8789-488E-8565-B70BE9094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2D05D-1656-495F-BA9F-993A9C99A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DDCEA-6A49-4BB4-9E80-47754AD9B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D7DD8-5E8B-4663-A8D3-BCB0866BD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3ADA1-20DC-4ED6-896F-0079796D5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56195-FB7F-4AE8-94C7-54EC40E4A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88E0A-429D-4FDC-A612-B3DE73B8C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0A8B4-9D0B-48C4-A6B9-826788D95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A88D5-7AC9-4067-8C7A-4B238441F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0D8F7-0412-4F83-928B-871A72CAD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AD7D3-B153-4559-9789-E071296D8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6AB03-41B5-4A3B-86E8-100FB27E4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BB6B7-0B9F-4764-85DB-C6526EA19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74E08-A797-4AFA-9A14-B2157C43F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68C63-665C-467E-ABF5-D817528A0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94CC7E-328C-433A-B3C5-62A0C5FA02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34E0F-F207-46CC-8089-4442D1B4F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CBFC25-3191-4555-AADD-1F47871A40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88186-3A63-454F-A2F2-A9756C458A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17527-D942-4B7A-B28A-B07D2CF49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BB73B-CC49-4540-9094-929A752CF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948FE9-99CA-4915-861C-AC744BDF3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B27D4-82FF-4AF0-820F-2C16F737A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A4263-D6B6-4EAC-9BB9-49F552852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F2681-BDC0-4261-85B9-B0C37EA54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29E0CF-55D7-4834-9DCD-596184C2F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706A33-EAB6-4AEC-ACEC-360A95BEF7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64B5D-4CC2-4446-926F-370B8C2139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EED52F-CC1F-4BF9-88DD-C8866FAE3C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037C67-7521-4FCC-8AD4-267328684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D12A3-AF81-4052-8541-1A49AE20C3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EEA96-E5A2-46A1-89EF-A355BAFAA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BB6554-01A0-4062-B59B-0081903FF1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A907F3-192C-4864-B7F4-97A8C88B0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7947F-ACCA-42A7-B556-9C4D85E14E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12FB8-4DFC-43CB-9956-F27662374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17C1C-0331-4C45-9F9D-423AD59D8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C34C0-A1F1-4799-BC1F-66F0FBADB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BDD08-E9FA-4E07-82BD-834B065D7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99979F-AAC8-4C7B-86F6-1B7EA494FD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65B52B-72A2-41EE-9B93-70CC8A640F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E470-7EA2-44D7-A553-FB9FA47D4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8DAC0-A822-47FE-914F-EB4337B0B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3EFAE-2AA4-4996-867C-52BEA1FA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DFEF-FE82-444C-BD83-873C10EB6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9F32F-10D9-41A9-BC63-E3B156CFC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89A0-E1A0-4901-AAD2-17C5F2C92816}"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47CC-7FAA-4140-AC44-1767ABB91DB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AEDF-FA1E-4D4A-9842-95BB420545E9}"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16"/>
            <p:cNvSpPr/>
            <p:nvPr/>
          </p:nvSpPr>
          <p:spPr>
            <a:xfrm>
              <a:off x="0" y="0"/>
              <a:ext cx="9144000" cy="457200"/>
            </a:xfrm>
            <a:prstGeom prst="pie">
              <a:avLst/>
            </a:pr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prstGeom prst="pie">
              <a:avLst/>
            </a:pr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Freeform 16"/>
            <p:cNvSpPr/>
            <p:nvPr/>
          </p:nvSpPr>
          <p:spPr>
            <a:xfrm>
              <a:off x="0" y="0"/>
              <a:ext cx="9144000" cy="457200"/>
            </a:xfrm>
            <a:prstGeom prst="pie">
              <a:avLst/>
            </a:pr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prstGeom prst="pie">
              <a:avLst/>
            </a:pr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9916-5D43-4DE5-98AA-FAA042A32819}"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Θέση εικόνας 5" descr=""/>
          <p:cNvPicPr/>
          <p:nvPr/>
        </p:nvPicPr>
        <p:blipFill>
          <a:blip r:embed="rId2"/>
          <a:stretch/>
        </p:blipFill>
        <p:spPr>
          <a:xfrm>
            <a:off x="7812000" y="6308640"/>
            <a:ext cx="1079640" cy="317520"/>
          </a:xfrm>
          <a:prstGeom prst="rect">
            <a:avLst/>
          </a:prstGeom>
          <a:ln w="0">
            <a:noFill/>
          </a:ln>
        </p:spPr>
      </p:pic>
      <p:pic>
        <p:nvPicPr>
          <p:cNvPr id="222"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23" name="Subtitle 2"/>
          <p:cNvSpPr/>
          <p:nvPr/>
        </p:nvSpPr>
        <p:spPr>
          <a:xfrm>
            <a:off x="3986280" y="1549440"/>
            <a:ext cx="4895640" cy="4464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a:t>
            </a:r>
            <a:r>
              <a:rPr b="1" lang="el-GR" sz="3200" spc="-1" strike="noStrike">
                <a:solidFill>
                  <a:srgbClr val="ffffff"/>
                </a:solidFill>
                <a:latin typeface="Calibri"/>
              </a:rPr>
              <a:t>Περιβαλλοντικό χαρτοφυλάκιο</a:t>
            </a:r>
            <a:endParaRPr b="0" lang="en-US" sz="32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Πρόγραμμα εκπαίδευσης</a:t>
            </a:r>
            <a:r>
              <a:rPr b="0" lang="en-GB" sz="2800" spc="-1" strike="noStrike">
                <a:solidFill>
                  <a:srgbClr val="ffffff"/>
                </a:solidFill>
                <a:latin typeface="Calibri"/>
              </a:rPr>
              <a:t> 3 – </a:t>
            </a:r>
            <a:r>
              <a:rPr b="0" lang="el-GR" sz="2800" spc="-1" strike="noStrike">
                <a:solidFill>
                  <a:srgbClr val="ffffff"/>
                </a:solidFill>
                <a:latin typeface="Calibri"/>
              </a:rPr>
              <a:t>Επιχειρηματικότητα </a:t>
            </a:r>
            <a:r>
              <a:rPr b="0" lang="en-GB" sz="2800" spc="-1" strike="noStrike">
                <a:solidFill>
                  <a:srgbClr val="ffffff"/>
                </a:solidFill>
                <a:latin typeface="Calibri"/>
              </a:rPr>
              <a:t>–</a:t>
            </a:r>
            <a:r>
              <a:rPr b="0" lang="el-GR" sz="2800" spc="-1" strike="noStrike">
                <a:solidFill>
                  <a:srgbClr val="ffffff"/>
                </a:solidFill>
                <a:latin typeface="Calibri"/>
              </a:rPr>
              <a:t> Έξυπνη ενέργεια</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Ενότητα</a:t>
            </a:r>
            <a:r>
              <a:rPr b="0" lang="en-GB" sz="2800" spc="-1" strike="noStrike">
                <a:solidFill>
                  <a:srgbClr val="ffffff"/>
                </a:solidFill>
                <a:latin typeface="Calibri"/>
              </a:rPr>
              <a:t> 4 – </a:t>
            </a:r>
            <a:r>
              <a:rPr b="0" lang="el-GR" sz="2800" spc="-1" strike="noStrike">
                <a:solidFill>
                  <a:srgbClr val="ffffff"/>
                </a:solidFill>
                <a:latin typeface="Calibri"/>
              </a:rPr>
              <a:t>Μελέτη περίπτωσης πράσινης επιχειρηματικότητας</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Βδομάδες 3</a:t>
            </a:r>
            <a:r>
              <a:rPr b="0" lang="en-US" sz="2800" spc="-1" strike="noStrike">
                <a:solidFill>
                  <a:srgbClr val="ffffff"/>
                </a:solidFill>
                <a:latin typeface="Calibri"/>
              </a:rPr>
              <a:t>7</a:t>
            </a:r>
            <a:r>
              <a:rPr b="0" lang="el-GR" sz="2800" spc="-1" strike="noStrike">
                <a:solidFill>
                  <a:srgbClr val="ffffff"/>
                </a:solidFill>
                <a:latin typeface="Calibri"/>
              </a:rPr>
              <a:t>-3</a:t>
            </a:r>
            <a:r>
              <a:rPr b="0" lang="en-US" sz="2800" spc="-1" strike="noStrike">
                <a:solidFill>
                  <a:srgbClr val="ffffff"/>
                </a:solidFill>
                <a:latin typeface="Calibri"/>
              </a:rPr>
              <a:t>9</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Αναπτύχθηκε από</a:t>
            </a:r>
            <a:r>
              <a:rPr b="0" lang="en-GB" sz="2000" spc="-1" strike="noStrike">
                <a:solidFill>
                  <a:srgbClr val="ffffff"/>
                </a:solidFill>
                <a:latin typeface="Calibri"/>
              </a:rPr>
              <a:t>: </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24" name="Picture 4" descr=""/>
          <p:cNvPicPr/>
          <p:nvPr/>
        </p:nvPicPr>
        <p:blipFill>
          <a:blip r:embed="rId4"/>
          <a:stretch/>
        </p:blipFill>
        <p:spPr>
          <a:xfrm>
            <a:off x="7432560" y="52023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 </a:t>
            </a:r>
            <a:r>
              <a:rPr b="1" lang="en-GB" sz="2400" spc="-1" strike="noStrike">
                <a:solidFill>
                  <a:srgbClr val="ffffff"/>
                </a:solidFill>
                <a:latin typeface="Calibri"/>
              </a:rPr>
              <a:t>: Royal mosa</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49280" y="549360"/>
            <a:ext cx="8265960" cy="5777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u="sng">
                <a:solidFill>
                  <a:srgbClr val="ffffff"/>
                </a:solidFill>
                <a:uFillTx/>
                <a:latin typeface="Calibri"/>
              </a:rPr>
              <a:t>Το επιχειρηματικό μοντέλο</a:t>
            </a:r>
            <a:r>
              <a:rPr b="1" lang="en-GB" sz="1700" spc="-1" strike="noStrike" u="sng">
                <a:solidFill>
                  <a:srgbClr val="ffffff"/>
                </a:solidFill>
                <a:uFillTx/>
                <a:latin typeface="Calibri"/>
              </a:rPr>
              <a:t> </a:t>
            </a:r>
            <a:endParaRPr b="0" lang="en-US" sz="17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Η </a:t>
            </a:r>
            <a:r>
              <a:rPr b="1" lang="en-US" sz="1700" spc="-1" strike="noStrike">
                <a:solidFill>
                  <a:srgbClr val="ffffff"/>
                </a:solidFill>
                <a:latin typeface="Calibri"/>
              </a:rPr>
              <a:t>Royal Mosa </a:t>
            </a:r>
            <a:r>
              <a:rPr b="1" lang="el-GR" sz="1700" spc="-1" strike="noStrike">
                <a:solidFill>
                  <a:srgbClr val="ffffff"/>
                </a:solidFill>
                <a:latin typeface="Calibri"/>
              </a:rPr>
              <a:t>παρέχει στους πελάτες της καινοτόμα κεραμικά προϊόντα υψηλής ποιότητας με ιδιαίτερη έμφαση στο σχεδιασμό και τη βιωσιμότητα, μέσω της εφαρμογής της φιλοσοφίας «από λίκνο σε λίκνο»</a:t>
            </a:r>
            <a:r>
              <a:rPr b="1" lang="en-US" sz="1700" spc="-1" strike="noStrike">
                <a:solidFill>
                  <a:srgbClr val="ffffff"/>
                </a:solidFill>
                <a:latin typeface="Calibri"/>
              </a:rPr>
              <a:t>. </a:t>
            </a:r>
            <a:r>
              <a:rPr b="1" lang="el-GR" sz="1700" spc="-1" strike="noStrike">
                <a:solidFill>
                  <a:srgbClr val="ffffff"/>
                </a:solidFill>
                <a:latin typeface="Calibri"/>
              </a:rPr>
              <a:t>Έτσι, επιτυγχάνεται η καινοτομία της εταιρείας έχοντας μία ειδική ομάδα σχεδιασμού </a:t>
            </a:r>
            <a:r>
              <a:rPr b="1" lang="en-US" sz="1700" spc="-1" strike="noStrike">
                <a:solidFill>
                  <a:srgbClr val="ffffff"/>
                </a:solidFill>
                <a:latin typeface="Calibri"/>
              </a:rPr>
              <a:t>Mosa</a:t>
            </a:r>
            <a:r>
              <a:rPr b="1" lang="el-GR" sz="1700" spc="-1" strike="noStrike">
                <a:solidFill>
                  <a:srgbClr val="ffffff"/>
                </a:solidFill>
                <a:latin typeface="Calibri"/>
              </a:rPr>
              <a:t>, με άτομα απευθείας από την ομάδα σχεδιασμού να συνεργάζονται στενά με αρχιτέκτονες για την ανάπτυξη νέων συλλογών. Καθώς η </a:t>
            </a:r>
            <a:r>
              <a:rPr b="1" lang="en-US" sz="1700" spc="-1" strike="noStrike">
                <a:solidFill>
                  <a:srgbClr val="ffffff"/>
                </a:solidFill>
                <a:latin typeface="Calibri"/>
              </a:rPr>
              <a:t>Mosa </a:t>
            </a:r>
            <a:r>
              <a:rPr b="1" lang="el-GR" sz="1700" spc="-1" strike="noStrike">
                <a:solidFill>
                  <a:srgbClr val="ffffff"/>
                </a:solidFill>
                <a:latin typeface="Calibri"/>
              </a:rPr>
              <a:t> εστιάζει το επιχειρηματικό της μοντέλο στις αγορές των επαγγελματιών, οι 2 βασικές ομάδες εστίασης είναι αρχιτέκτονες και επιχειρήσεις. Σε μερικές χώρες, εστιάζει επίσης στις στεγαστικές εταιρείες.</a:t>
            </a:r>
            <a:endParaRPr b="0" lang="en-US" sz="17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Συνεχίζει επίσης να αναπτύσσει και να εφαρμόζει τις αξίες από λίκνο σε λίκνο εντός των εταιρικών προϊόντων και διαδικασιών της. Η φιλοσοφία αυτή διαφοροποιείται μεταξύ ενός βιολογικού και ενός τεχνικού κύκλου. Στο βιολογικό κύκλο, τα προϊόντα παράγονται από φυσικά υλικά που εξυπηρετούν σαν τροφή για οργανισμούς, στο τέλος της χρήσης τους. Ωστόσο, καθώς πολλά προϊόντα δεν είναι κομποστοποιήσιμα και ταιριάζουν καλύτερα στον τεχνικό κύκλο, η </a:t>
            </a:r>
            <a:r>
              <a:rPr b="1" lang="en-US" sz="1700" spc="-1" strike="noStrike">
                <a:solidFill>
                  <a:srgbClr val="ffffff"/>
                </a:solidFill>
                <a:latin typeface="Calibri"/>
              </a:rPr>
              <a:t>Mosa</a:t>
            </a:r>
            <a:r>
              <a:rPr b="1" lang="el-GR" sz="1700" spc="-1" strike="noStrike">
                <a:solidFill>
                  <a:srgbClr val="ffffff"/>
                </a:solidFill>
                <a:latin typeface="Calibri"/>
              </a:rPr>
              <a:t> έχει επιτύχει στο να τα κάνει μη επιβλαβή για το περιβάλλον. Η </a:t>
            </a:r>
            <a:r>
              <a:rPr b="1" lang="en-US" sz="1700" spc="-1" strike="noStrike">
                <a:solidFill>
                  <a:srgbClr val="ffffff"/>
                </a:solidFill>
                <a:latin typeface="Calibri"/>
              </a:rPr>
              <a:t>Mosa</a:t>
            </a:r>
            <a:r>
              <a:rPr b="1" lang="el-GR" sz="1700" spc="-1" strike="noStrike">
                <a:solidFill>
                  <a:srgbClr val="ffffff"/>
                </a:solidFill>
                <a:latin typeface="Calibri"/>
              </a:rPr>
              <a:t> χρησιμοποιεί ανάλυση κύκλου ζωής για να προσδιορίσει τον αντίκτυπο του κύκλου ζωής των προϊόντων της και τα σημεία που πρέπει να τον μειώσει</a:t>
            </a:r>
            <a:r>
              <a:rPr b="1" lang="el-GR" sz="1800" spc="-1" strike="noStrike">
                <a:solidFill>
                  <a:srgbClr val="ffffff"/>
                </a:solidFill>
                <a:latin typeface="Calibri"/>
              </a:rPr>
              <a: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Calibri"/>
              </a:rPr>
              <a:t> </a:t>
            </a:r>
            <a:r>
              <a:rPr b="1" lang="en-US"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7 f.</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8265960" cy="5743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u="sng">
                <a:solidFill>
                  <a:srgbClr val="ffffff"/>
                </a:solidFill>
                <a:uFillTx/>
                <a:latin typeface="Calibri"/>
                <a:ea typeface="Times New Roman"/>
              </a:rPr>
              <a:t>Πλεονεκτήματα και επιπτώσεις</a:t>
            </a:r>
            <a:endParaRPr b="0" lang="en-US" sz="1700" spc="-1" strike="noStrike">
              <a:solidFill>
                <a:srgbClr val="ffffff"/>
              </a:solidFill>
              <a:latin typeface="Times New Roman"/>
            </a:endParaRPr>
          </a:p>
          <a:p>
            <a:pPr>
              <a:lnSpc>
                <a:spcPct val="11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ea typeface="Times New Roman"/>
              </a:rPr>
              <a:t>Η </a:t>
            </a:r>
            <a:r>
              <a:rPr b="1" lang="en-US" sz="1700" spc="-1" strike="noStrike">
                <a:solidFill>
                  <a:srgbClr val="ffffff"/>
                </a:solidFill>
                <a:latin typeface="Calibri"/>
                <a:ea typeface="Times New Roman"/>
              </a:rPr>
              <a:t>Mosa </a:t>
            </a:r>
            <a:r>
              <a:rPr b="1" lang="el-GR" sz="1700" spc="-1" strike="noStrike">
                <a:solidFill>
                  <a:srgbClr val="ffffff"/>
                </a:solidFill>
                <a:latin typeface="Calibri"/>
                <a:ea typeface="Times New Roman"/>
              </a:rPr>
              <a:t>έχει σημαντικό αντίκτυπο σχετικά με υλικά και συνταγές, καθώς τα πλακάκια της δεν απελευθερώνουν βλαβερές ενώσεις και δεν βλάπτουν το περιβάλλον όταν πετιούνται μετά τη χρήση και είναι επίσης ανακυκλώσιμα. Μέσα από ένα πρόγραμμα εκσυγχρονισμού, η Mosa έχει καταφέρει να μειώσει τις εκπομπές CO2 κατά 48%, καθώς και τις εκπομπές σωματιδίων κατά 91%. Η Mosa έχει επίσης επιτύχει στο κλείσιμο ενός κύκλου ψύξης νερού με αποτέλεσμα μια μείωση άνω του 60% στην κατανάλωση των υπόγειων υδάτων. Εκτός από την καταβολή προσπαθειών για να χρησιμοποιηθεί η λιγότερη δυνατή ενέργεια, η Mosa έχει επίσης αλλάξει σχεδόν εξ ολοκλήρου με τη χρήση βιώσιμης ενέργειας</a:t>
            </a:r>
            <a:endParaRPr b="0" lang="en-US" sz="1700" spc="-1" strike="noStrike">
              <a:solidFill>
                <a:srgbClr val="ffffff"/>
              </a:solidFill>
              <a:latin typeface="Times New Roman"/>
            </a:endParaRPr>
          </a:p>
          <a:p>
            <a:pPr>
              <a:lnSpc>
                <a:spcPct val="11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ea typeface="Times New Roman"/>
              </a:rPr>
              <a:t>Βραχυπρόθεσμα, η εταιρεία έχει γενικά κάνει απόσβεση ως αποτέλεσμα της καινοτομίας της στο πράσινο επιχειρηματικό μοντέλο. Αναμένεται ότι οι νέες δραστηριότητες θα αποσπάσουν ένα μεγαλύτερο μερίδιο του κύκλου εργασιών στο μέλλον και οι εταιρείες τώρα οφελούνται επίσης από το να είναι πιο βιώσιμες και είναι καλύτερα προετοιμασμένες για το μέλλον. Επιπλέον, το νέο επιχειρηματικό μοντέλο έχει οδηγήσει στη δημιουργία πέντε νέων θέσεων εργασίας</a:t>
            </a:r>
            <a:endParaRPr b="0" lang="en-US" sz="17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0" lang="en-GB"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7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TextBox 1"/>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 </a:t>
            </a:r>
            <a:r>
              <a:rPr b="1" lang="en-GB" sz="2400" spc="-1" strike="noStrike">
                <a:solidFill>
                  <a:srgbClr val="ffffff"/>
                </a:solidFill>
                <a:latin typeface="Calibri"/>
              </a:rPr>
              <a:t>: Royal mo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0" y="681120"/>
            <a:ext cx="9001080" cy="533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u="sng">
                <a:solidFill>
                  <a:srgbClr val="ffffff"/>
                </a:solidFill>
                <a:uFillTx/>
                <a:latin typeface="Calibri"/>
                <a:ea typeface="Times New Roman"/>
              </a:rPr>
              <a:t>Οδηγοί και εμπόδια</a:t>
            </a:r>
            <a:endParaRPr b="0" lang="en-US" sz="17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ea typeface="Times New Roman"/>
              </a:rPr>
              <a:t>Ένας οδηγός της Mosa ήταν η πεποίθηση ότι μόνο βιώσιμες επιχειρήσεις θα επιβιώσουν μακροπρόθεσμα και ότι θα ήθελε να είναι μια κερδοφόρα επιχείρηση στο μέλλον.</a:t>
            </a:r>
            <a:endParaRPr b="0" lang="en-US" sz="17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ea typeface="Times New Roman"/>
              </a:rPr>
              <a:t>Η Mosa εξακολουθεί να βλέπει τη φιλοσοφία από λίκνο σε λίκνο ως σχετικά άγνωστη. Υπάρχει μεγάλη έμφαση στο διοξείδιο του άνθρακα (</a:t>
            </a:r>
            <a:r>
              <a:rPr b="1" lang="en-US" sz="1700" spc="-1" strike="noStrike">
                <a:solidFill>
                  <a:srgbClr val="ffffff"/>
                </a:solidFill>
                <a:latin typeface="Calibri"/>
                <a:ea typeface="Times New Roman"/>
              </a:rPr>
              <a:t>CO2</a:t>
            </a:r>
            <a:r>
              <a:rPr b="1" lang="el-GR" sz="1700" spc="-1" strike="noStrike">
                <a:solidFill>
                  <a:srgbClr val="ffffff"/>
                </a:solidFill>
                <a:latin typeface="Calibri"/>
                <a:ea typeface="Times New Roman"/>
              </a:rPr>
              <a:t>), αλλά το κοινό δεν είναι πλήρως ενημερωμένο για το σύνολο της έλλειψης πόρων και ττις επιπτώσεις που έχουν τα υλικά εκτός του CO2 στο περιβάλλον. Η οικονομική κρίση έχει οδηγήσει κάποιους από τους πιθανούς καταναλωτές της Mosa να έχουν μια πιο βραχυπρόθεσμη προσέγγιση κοιτώντας μόνο την τιμή</a:t>
            </a:r>
            <a:r>
              <a:rPr b="1" lang="en-US" sz="1700" spc="-1" strike="noStrike">
                <a:solidFill>
                  <a:srgbClr val="ffffff"/>
                </a:solidFill>
                <a:latin typeface="Calibri"/>
                <a:ea typeface="Times New Roman"/>
              </a:rPr>
              <a:t>.</a:t>
            </a:r>
            <a:endParaRPr b="0" lang="en-US" sz="17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ea typeface="Times New Roman"/>
              </a:rPr>
              <a:t>Έχει υπάρξει επίσης μια πρόκληση σχετικά με την ανάπλαση των προϊόντων για συμφωνούν με τα πρότυπα C2C. Χρειάστηκαν περισσότερα από δύο χρόνια εκτεταμένης έρευνας και ανάπτυξης των προϊόντων, καθώς και ορισμένες επιπλέον επενδύσεις για τις δοκιμές, την έρευνα και τη λήψη συμβουλών.</a:t>
            </a:r>
            <a:endParaRPr b="0" lang="en-US" sz="17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ea typeface="Times New Roman"/>
              </a:rPr>
              <a:t>Έχει επίσης αποδειχθεί δύσκολο να γίνουν πραγματικά πολύτιμοι τεχνικοί κύκλοι που η Mosa εξακολουθεί να δουλεύει, κάτι που απαιτεί πολλές επενδύσεις. Αυτή η διαδικασία χρειάζεται τη συμμετοχή όλων των αρμόδιων παραγόντων και απαιτεί επίσης σχεδόν ακριβείς επιστημονικούς υπολογισμούς από τις καλύτερες λύσεις για τη δημιουργία βιώσιμων προϊόντων</a:t>
            </a:r>
            <a:endParaRPr b="0" lang="en-US" sz="17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7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 </a:t>
            </a:r>
            <a:r>
              <a:rPr b="1" lang="en-GB" sz="2400" spc="-1" strike="noStrike">
                <a:solidFill>
                  <a:srgbClr val="ffffff"/>
                </a:solidFill>
                <a:latin typeface="Calibri"/>
              </a:rPr>
              <a:t>: Royal mo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55062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Ερωτήσεις κρίσεως</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Πώς γίνεται η επεξεργασία των προϊόντων, προκειμένου να εξηγηθεί η από λίκνο σε λίκνο προσέγγιση του επιχειρηματικού μοντέλου;</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Ποιες είναι οι (θετικές και αρνητικές) επιπτώσεις αυτού του βιώσιμου επιχειρηματικού μοντέλου;</a:t>
            </a:r>
            <a:r>
              <a:rPr b="1" lang="en-US" sz="1800" spc="-1" strike="noStrike">
                <a:solidFill>
                  <a:srgbClr val="ffffff"/>
                </a:solidFill>
                <a:latin typeface="Calibri"/>
              </a:rPr>
              <a:t>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l-GR" sz="1800" spc="-1" strike="noStrike">
                <a:solidFill>
                  <a:srgbClr val="ffffff"/>
                </a:solidFill>
                <a:latin typeface="Calibri"/>
              </a:rPr>
              <a:t>Πώς σχετίζονται αυτές με την οικονομική επιτυχία της εταιρείας;</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l-GR" sz="1800" spc="-1" strike="noStrike">
                <a:solidFill>
                  <a:srgbClr val="ffffff"/>
                </a:solidFill>
                <a:latin typeface="Calibri"/>
              </a:rPr>
              <a:t>Από οικονομική άποψη, είναι τα περιβαλλοντικά οφέλη μεγαλύτερα από τα οικονομικά;</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l-GR" sz="1800" spc="-1" strike="noStrike">
                <a:solidFill>
                  <a:srgbClr val="ffffff"/>
                </a:solidFill>
                <a:latin typeface="Calibri"/>
              </a:rPr>
              <a:t>Τι μπορεί να γίνει ώστε να εξισορροπηθεί ή να εγγυηθεί η επιτυχία και στις δύο πλευρές;</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 </a:t>
            </a:r>
            <a:r>
              <a:rPr b="1" lang="en-GB" sz="2400" spc="-1" strike="noStrike">
                <a:solidFill>
                  <a:srgbClr val="ffffff"/>
                </a:solidFill>
                <a:latin typeface="Calibri"/>
              </a:rPr>
              <a:t>: Royal mo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Αναφορές</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TextBox 1"/>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 </a:t>
            </a:r>
            <a:r>
              <a:rPr b="1" lang="en-GB" sz="2400" spc="-1" strike="noStrike">
                <a:solidFill>
                  <a:srgbClr val="ffffff"/>
                </a:solidFill>
                <a:latin typeface="Calibri"/>
              </a:rPr>
              <a:t>: Royal mo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Calibri"/>
              </a:rPr>
              <a:t>Ευχαριστώ</a:t>
            </a:r>
            <a:r>
              <a:rPr b="1" lang="de-AT" sz="2700" spc="-1" strike="noStrike">
                <a:solidFill>
                  <a:srgbClr val="ffffff"/>
                </a:solidFill>
                <a:latin typeface="Calibri"/>
              </a:rPr>
              <a:t>!</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dodinio</cp:lastModifiedBy>
  <dcterms:modified xsi:type="dcterms:W3CDTF">2016-07-27T17:57:09Z</dcterms:modified>
  <cp:revision>178</cp:revision>
  <dc:subject/>
  <dc:title>@MINDSET: Managing Social Relations in Schools</dc:title>
</cp:coreProperties>
</file>