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6997-87E4-4D8A-BB0C-5EC7D936598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35A9-1871-474B-82CF-EFC707BE68DA}"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8A7C-3C1F-4156-9028-9143D1D9383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D8D7-E09E-4E9C-B9B6-2E5A534DDD49}"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E594-7E8B-4FAB-BF3B-9AAA1E7E9990}"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00D9-E59F-4800-8C08-4C52E6A80F16}"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56E3-B42D-42CA-BB5A-7837B5617D5E}"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A992B-BB42-47D0-A9E0-26646F0F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363A6-B3AB-4C32-9E93-8F82DC6AC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610C-931F-42AE-8CF5-E0A7C29AB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1340F-BFBE-4DC6-9AB7-638469B9F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CD4F6-3854-41E4-8A83-0D2E48AE0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64566-B527-4D05-AF08-AC5A336B8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76982-B2F2-4B34-9687-9272819DF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89ED-1147-4847-AAB3-96313FDB6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6586F-B3C7-4674-912A-AA6EE48E2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720D6-29CA-4BE6-B8E1-B3443F0DF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E412-3490-4C19-95C1-ACAD0B5F4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FE60-DE18-41EC-85D5-A6883FF2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F2788-D9E1-406C-823D-606B25FFD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52FFD-EB8B-4449-BDF5-F35ABBDC4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1CC5C-2ECA-417D-A7E4-5237E033A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CC5B2-A36E-4D4C-B4C1-4929BF332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57FC1-9376-4EC8-A782-FF6CF9838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25C945-A68E-42F7-9B34-CD3EE7037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DBF94-AFE0-449D-898C-986E6FE6D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48DB5-D2D5-482E-82E1-2208E85ADC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04E3C-DF35-4384-BE68-FD990DBC3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3B0109-8DF1-4A7C-865C-45563FAEC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A9C14-BFEA-4DF5-BB97-07D34735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B8F36-AC8A-4B9B-9110-DD7BC96F1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6ACCD-75E5-4300-AE76-CE9441837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84488-C63A-4776-BB5F-B56DE1246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0EF04-1C2A-490E-A51A-104F8CA8D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45DD71-6122-4498-8467-296CD9096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5D9EF-68E0-4806-9B92-D68966F06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BB6792-5D3E-4120-ADAC-C341C90F30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AD572-E6F5-4671-ABC9-068FF63C2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DAA41-D86E-4659-A09E-990FDE81D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D048F-4406-4214-9457-713ED9617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59471-2733-4B27-BAF9-70E88712D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F4AC3-2BA5-422D-991F-C61331613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8C108F-3794-4CF0-BA1D-889AC3326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996F3-4F8C-41A3-89AF-B806FF6D7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F54CC-EDBE-423D-A124-6EEFDE61F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81F93-4EA0-454B-8D8E-D07145F15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888BA-4138-4A74-A80D-5AFF6948A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8EB2D-50AE-43FC-8F6F-2A244C752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26B20-F626-4262-8DEB-D885C56F45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30D9B-0C9C-47CF-9F8C-D5B2DB8EB6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54DC58-3FAD-4305-9724-0AE5456EF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BF77-6A27-4F54-9873-2243A448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49883F-C516-49AE-8B2A-E980440D2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7D888-7541-43C0-84D4-F8704DEEC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B23E1-D9DD-4C22-950A-EAA3EA94B7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89792-5D53-4DF7-B7AC-365A908F9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29AF3-30B5-4FF8-8CAC-9686C6F53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DDFF0-251B-40AE-88AE-7BDC7A77E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A3BA2-43E9-4B50-BE07-9040E2ABF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5DED2-F1F5-490C-B4DF-ED0F1A468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6205D-9AC0-4E63-B569-8D040BA5B2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7E1A2D-7DEF-4027-8DC2-5CFBB56F28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C17F1-0339-4935-9588-82532DA01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173036-FBDB-46D8-A5F4-7872386616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663E-216B-4B80-A9F9-93B630B62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BAEE-6031-437B-9C35-9F0667FC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5D96-6AEB-4682-B3FB-FBC52DB82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A425-AD35-4FCD-A7E4-38A1F72142B9}"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0F26-31A7-44CF-8F12-C38D95ACBAE6}"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3AEB-16AA-4D9E-82F3-730A04D094EB}"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6CFE-963C-4B3E-ABA8-5EF0DB392D4C}"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68F7-4B66-4422-ACD6-EECB8941FB33}"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hyperlink" Target="http://2012books.lardbucket.org/books/sustainable-business-cases/s10-%20sustainable-business-marketing.html"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2 – </a:t>
            </a:r>
            <a:r>
              <a:rPr b="0" lang="el-GR" sz="2800" spc="-1" strike="noStrike">
                <a:solidFill>
                  <a:srgbClr val="ffffff"/>
                </a:solidFill>
                <a:latin typeface="Calibri"/>
              </a:rPr>
              <a:t>Εισαγωγή στην πράσινη επιχειρηματικότητ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α </a:t>
            </a:r>
            <a:r>
              <a:rPr b="0" lang="en-GB" sz="2800" spc="-1" strike="noStrike">
                <a:solidFill>
                  <a:srgbClr val="ffffff"/>
                </a:solidFill>
                <a:latin typeface="Calibri"/>
              </a:rPr>
              <a:t>16</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327" name="Θέση εικόνας 5" descr=""/>
          <p:cNvPicPr/>
          <p:nvPr/>
        </p:nvPicPr>
        <p:blipFill>
          <a:blip r:embed="rId2"/>
          <a:stretch/>
        </p:blipFill>
        <p:spPr>
          <a:xfrm>
            <a:off x="7812000" y="6308640"/>
            <a:ext cx="1079640" cy="317520"/>
          </a:xfrm>
          <a:prstGeom prst="rect">
            <a:avLst/>
          </a:prstGeom>
          <a:ln w="0">
            <a:noFill/>
          </a:ln>
        </p:spPr>
      </p:pic>
      <p:pic>
        <p:nvPicPr>
          <p:cNvPr id="328"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9" name="Picture 4" descr=""/>
          <p:cNvPicPr/>
          <p:nvPr/>
        </p:nvPicPr>
        <p:blipFill>
          <a:blip r:embed="rId4"/>
          <a:stretch/>
        </p:blipFill>
        <p:spPr>
          <a:xfrm>
            <a:off x="324000" y="6093000"/>
            <a:ext cx="723600" cy="596880"/>
          </a:xfrm>
          <a:prstGeom prst="rect">
            <a:avLst/>
          </a:prstGeom>
          <a:ln w="0">
            <a:noFill/>
          </a:ln>
        </p:spPr>
      </p:pic>
      <p:pic>
        <p:nvPicPr>
          <p:cNvPr id="330" name="Picture 4" descr=""/>
          <p:cNvPicPr/>
          <p:nvPr/>
        </p:nvPicPr>
        <p:blipFill>
          <a:blip r:embed="rId5"/>
          <a:stretch/>
        </p:blipFill>
        <p:spPr>
          <a:xfrm>
            <a:off x="7448400" y="486900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Box 1"/>
          <p:cNvSpPr/>
          <p:nvPr/>
        </p:nvSpPr>
        <p:spPr>
          <a:xfrm>
            <a:off x="0" y="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6. </a:t>
            </a:r>
            <a:r>
              <a:rPr b="1" lang="el-GR" sz="2400" spc="-1" strike="noStrike">
                <a:solidFill>
                  <a:srgbClr val="ffffff"/>
                </a:solidFill>
                <a:latin typeface="Calibri"/>
              </a:rPr>
              <a:t>ΣΥΜΜΟΡΦΩΣΗ ΜΕ ΤΟΥΣ ΚΑΝΟΝΕΣ ΚΑΙ ΤΙΣ ΔΙΑΤΑΞΕΙΣ ΓΙΑ ΝΑ ΞΕΚΙΝΗΣΕΙ Η ΠΡΑΣΙΝΗ ΕΠΙΧΕΙΡΗΣΗ ΣΑΣ</a:t>
            </a:r>
            <a:endParaRPr b="0" lang="en-US" sz="2400" spc="-1" strike="noStrike">
              <a:solidFill>
                <a:srgbClr val="ffffff"/>
              </a:solidFill>
              <a:latin typeface="Times New Roman"/>
            </a:endParaRPr>
          </a:p>
        </p:txBody>
      </p:sp>
      <p:sp>
        <p:nvSpPr>
          <p:cNvPr id="374" name="TextBox 4"/>
          <p:cNvSpPr/>
          <p:nvPr/>
        </p:nvSpPr>
        <p:spPr>
          <a:xfrm>
            <a:off x="195120" y="1192320"/>
            <a:ext cx="7991640" cy="459432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ea typeface="Times New Roman"/>
              </a:rPr>
              <a:t>Ξεκινώντας μία πράσινη επιχείρηση</a:t>
            </a:r>
            <a:r>
              <a:rPr b="1" lang="de-DE" sz="1800" spc="-1" strike="noStrike">
                <a:solidFill>
                  <a:srgbClr val="ffffff"/>
                </a:solidFill>
                <a:latin typeface="Calibri"/>
                <a:ea typeface="Times New Roman"/>
              </a:rPr>
              <a:t>	</a:t>
            </a:r>
            <a:endParaRPr b="0" lang="en-US" sz="1800" spc="-1" strike="noStrike">
              <a:solidFill>
                <a:srgbClr val="ffffff"/>
              </a:solidFill>
              <a:latin typeface="Times New Roman"/>
            </a:endParaRPr>
          </a:p>
          <a:p>
            <a:pPr marL="95400" indent="-954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Οι προϋποθέσεις για να ξεκινήσει μια πράσινη επιχείρηση διαφέρουν από χώρα σε χώρα και εξαρτώνται από τη νομική κατάσταση σχετικά με την ίδρυση επιχειρήσεων και το περιβαλλοντικό πλαίσιο. Εκτός από αυτά, η φύση των επιχειρήσεων απαιτεί την εξέταση πιο συγκεκριμένων νόμων. Ανάλογα με αυτούς τους παράγοντες, ανάμεσα στις νομικές απαιτήσεις που θα πρέπει να εξεταστούν είναι</a:t>
            </a:r>
            <a:r>
              <a:rPr b="1" lang="en-GB" sz="1800" spc="-1" strike="noStrike">
                <a:solidFill>
                  <a:srgbClr val="ffffff"/>
                </a:solidFill>
                <a:latin typeface="Calibri"/>
                <a:ea typeface="Times New Roman"/>
              </a:rPr>
              <a:t>: </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Νομική υπόσταση επιχειρήσεων</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Εμπορικός νόμος</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Νόμος άδειας εργααστασίου</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Δράση κοινωνικής ασφάλισης</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Περιβαλλοντικοί νόμοι και ρυθμίσεις</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l-GR" sz="1800" spc="-1" strike="noStrike">
                <a:solidFill>
                  <a:srgbClr val="ffffff"/>
                </a:solidFill>
                <a:latin typeface="Calibri"/>
                <a:ea typeface="Times New Roman"/>
              </a:rPr>
              <a:t>Κ.λπ.</a:t>
            </a:r>
            <a:endParaRPr b="0" lang="en-US" sz="1800" spc="-1" strike="noStrike">
              <a:solidFill>
                <a:srgbClr val="ffffff"/>
              </a:solidFill>
              <a:latin typeface="Times New Roman"/>
            </a:endParaRPr>
          </a:p>
        </p:txBody>
      </p:sp>
      <p:pic>
        <p:nvPicPr>
          <p:cNvPr id="375" name="Θέση εικόνας 5" descr=""/>
          <p:cNvPicPr/>
          <p:nvPr/>
        </p:nvPicPr>
        <p:blipFill>
          <a:blip r:embed="rId1"/>
          <a:stretch/>
        </p:blipFill>
        <p:spPr>
          <a:xfrm>
            <a:off x="7812000" y="6308640"/>
            <a:ext cx="1079640" cy="317520"/>
          </a:xfrm>
          <a:prstGeom prst="rect">
            <a:avLst/>
          </a:prstGeom>
          <a:ln w="0">
            <a:noFill/>
          </a:ln>
        </p:spPr>
      </p:pic>
      <p:pic>
        <p:nvPicPr>
          <p:cNvPr id="37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1"/>
          <p:cNvSpPr/>
          <p:nvPr/>
        </p:nvSpPr>
        <p:spPr>
          <a:xfrm>
            <a:off x="7920" y="11160"/>
            <a:ext cx="913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a:t>
            </a:r>
            <a:r>
              <a:rPr b="1" lang="el-GR" sz="2400" spc="-1" strike="noStrike">
                <a:solidFill>
                  <a:srgbClr val="ffffff"/>
                </a:solidFill>
                <a:latin typeface="Calibri"/>
              </a:rPr>
              <a:t>ΞΕΚΙΝΩΝΤΑΣ ΤΗΝ ΠΡΑΣΙΝΗ ΕΠΙΧΕΙΡΗΣΗ – ΔΙΑΧΕΙΡΙΣΗ ΠΟΙΟΤΗΤΑΣ ΒΑΣΕΙ </a:t>
            </a:r>
            <a:r>
              <a:rPr b="1" lang="en-GB" sz="2300" spc="-1" strike="noStrike">
                <a:solidFill>
                  <a:srgbClr val="ffffff"/>
                </a:solidFill>
                <a:latin typeface="Calibri"/>
              </a:rPr>
              <a:t>PDCA</a:t>
            </a:r>
            <a:endParaRPr b="0" lang="en-US" sz="2300" spc="-1" strike="noStrike">
              <a:solidFill>
                <a:srgbClr val="ffffff"/>
              </a:solidFill>
              <a:latin typeface="Times New Roman"/>
            </a:endParaRPr>
          </a:p>
        </p:txBody>
      </p:sp>
      <p:sp>
        <p:nvSpPr>
          <p:cNvPr id="379" name="TextBox 4"/>
          <p:cNvSpPr/>
          <p:nvPr/>
        </p:nvSpPr>
        <p:spPr>
          <a:xfrm>
            <a:off x="539640" y="1052640"/>
            <a:ext cx="79916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Ο κύκλος του </a:t>
            </a:r>
            <a:r>
              <a:rPr b="1" lang="en-US" sz="1800" spc="-1" strike="noStrike" u="sng">
                <a:solidFill>
                  <a:srgbClr val="ffffff"/>
                </a:solidFill>
                <a:uFillTx/>
                <a:latin typeface="Calibri"/>
              </a:rPr>
              <a:t>Deming/</a:t>
            </a:r>
            <a:r>
              <a:rPr b="1" lang="de-DE" sz="1800" spc="-1" strike="noStrike" u="sng">
                <a:solidFill>
                  <a:srgbClr val="ffffff"/>
                </a:solidFill>
                <a:uFillTx/>
                <a:latin typeface="Calibri"/>
              </a:rPr>
              <a:t>PDCA (Plan-Do-Check-Act)</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0" name="Θέση εικόνας 5" descr=""/>
          <p:cNvPicPr/>
          <p:nvPr/>
        </p:nvPicPr>
        <p:blipFill>
          <a:blip r:embed="rId1"/>
          <a:stretch/>
        </p:blipFill>
        <p:spPr>
          <a:xfrm>
            <a:off x="7812000" y="6308640"/>
            <a:ext cx="1079640" cy="317520"/>
          </a:xfrm>
          <a:prstGeom prst="rect">
            <a:avLst/>
          </a:prstGeom>
          <a:ln w="0">
            <a:noFill/>
          </a:ln>
        </p:spPr>
      </p:pic>
      <p:pic>
        <p:nvPicPr>
          <p:cNvPr id="381"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82" name="Diagram 1" descr=""/>
          <p:cNvPicPr/>
          <p:nvPr/>
        </p:nvPicPr>
        <p:blipFill>
          <a:blip r:embed="rId3"/>
          <a:stretch/>
        </p:blipFill>
        <p:spPr>
          <a:xfrm>
            <a:off x="2054160" y="1481040"/>
            <a:ext cx="4761000" cy="4541760"/>
          </a:xfrm>
          <a:prstGeom prst="rect">
            <a:avLst/>
          </a:prstGeom>
          <a:ln w="0">
            <a:noFill/>
          </a:ln>
        </p:spPr>
      </p:pic>
      <p:sp>
        <p:nvSpPr>
          <p:cNvPr id="383" name="Textfeld 1"/>
          <p:cNvSpPr/>
          <p:nvPr/>
        </p:nvSpPr>
        <p:spPr>
          <a:xfrm>
            <a:off x="2124000" y="6053040"/>
            <a:ext cx="45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Fig.3: The deming/PDCA cycle</a:t>
            </a:r>
            <a:endParaRPr b="0" lang="en-US" sz="1200" spc="-1" strike="noStrike">
              <a:solidFill>
                <a:srgbClr val="ffffff"/>
              </a:solidFill>
              <a:latin typeface="Times New Roman"/>
            </a:endParaRPr>
          </a:p>
        </p:txBody>
      </p:sp>
      <p:pic>
        <p:nvPicPr>
          <p:cNvPr id="384" name="Picture 7"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7920" y="11160"/>
            <a:ext cx="9244080" cy="11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a:t>
            </a:r>
            <a:r>
              <a:rPr b="1" lang="el-GR" sz="2400" spc="-1" strike="noStrike">
                <a:solidFill>
                  <a:srgbClr val="ffffff"/>
                </a:solidFill>
                <a:latin typeface="Calibri"/>
              </a:rPr>
              <a:t>ΞΕΚΙΝΩΝΤΑΣ ΤΗΝ ΠΡΑΣΙΝΗ ΕΠΙΧΕΙΡΗΣΗ – ΔΙΑΧΕΙΡΙΣΗ ΠΟΙΟΤΗΤΑΣ ΒΑΣΕΙ </a:t>
            </a:r>
            <a:r>
              <a:rPr b="1" lang="en-GB" sz="2300" spc="-1" strike="noStrike">
                <a:solidFill>
                  <a:srgbClr val="ffffff"/>
                </a:solidFill>
                <a:latin typeface="Calibri"/>
              </a:rPr>
              <a:t>PDCA</a:t>
            </a:r>
            <a:endParaRPr b="0" lang="en-US" sz="2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386" name="TextBox 4"/>
          <p:cNvSpPr/>
          <p:nvPr/>
        </p:nvSpPr>
        <p:spPr>
          <a:xfrm>
            <a:off x="468360" y="912960"/>
            <a:ext cx="7708680" cy="5582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Σχεδίαση – </a:t>
            </a:r>
            <a:r>
              <a:rPr b="1" lang="de-DE" sz="1800" spc="-1" strike="noStrike" u="sng">
                <a:solidFill>
                  <a:srgbClr val="ffffff"/>
                </a:solidFill>
                <a:uFillTx/>
                <a:latin typeface="Calibri"/>
              </a:rPr>
              <a:t>Plan</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 σχεδιασμός ξεκινά με τον ορισμό των μετρήσιμων και γραπτών στόχων και μπορεί να εφαρμοστεί σε σχετικές πολιτικές (π.χ. πρέπει να ληφθούν υπόψη ειδικές απαιτήσεις για τη λήψη περιβαλλοντικής πιστοποίησης). Για κάθε βήμα, ορίζονται οι ευθύνες που απαιτούνται για την επίτευξη αυτών των στόχων (π.χ. ο πρωταρχικός στόχος είναι να μειωθεί η χρήση ενέργειας στο γραφείο κατά 5% τα επόμενα δύο χρόνια; Συστήνεται ένα χρονοδιάγραμμα συμπεριλαμβανομένων των προθεσμιών για τα καθήκοντα και τις ευθύνες).</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φαρμογή – </a:t>
            </a:r>
            <a:r>
              <a:rPr b="1" lang="en-GB" sz="1800" spc="-1" strike="noStrike" u="sng">
                <a:solidFill>
                  <a:srgbClr val="ffffff"/>
                </a:solidFill>
                <a:uFillTx/>
                <a:latin typeface="Calibri"/>
              </a:rPr>
              <a:t>Do</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υτή η φάση περιλαμβάνει την υλοποίηση του σχεδίου. Ένα επιλεγμένο πρόσωπο για τον σκοπό αυτό θα είναι υπεύθυνο για την κατάσταση των επιμέρους εργασιών και τη συλλογή δεδομένων. Όπως και πριν πρέπει να λαμβάνεται υπόψη το χρονοδιάγραμμα</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285840" indent="-2858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sustainability4success.com/plan-do-check-act.html</a:t>
            </a:r>
            <a:endParaRPr b="0" lang="en-US" sz="12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7" name="Θέση εικόνας 5" descr=""/>
          <p:cNvPicPr/>
          <p:nvPr/>
        </p:nvPicPr>
        <p:blipFill>
          <a:blip r:embed="rId1"/>
          <a:stretch/>
        </p:blipFill>
        <p:spPr>
          <a:xfrm>
            <a:off x="7812000" y="6308640"/>
            <a:ext cx="1079640" cy="317520"/>
          </a:xfrm>
          <a:prstGeom prst="rect">
            <a:avLst/>
          </a:prstGeom>
          <a:ln w="0">
            <a:noFill/>
          </a:ln>
        </p:spPr>
      </p:pic>
      <p:pic>
        <p:nvPicPr>
          <p:cNvPr id="388"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89"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1"/>
          <p:cNvSpPr/>
          <p:nvPr/>
        </p:nvSpPr>
        <p:spPr>
          <a:xfrm>
            <a:off x="7920" y="11160"/>
            <a:ext cx="938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a:t>
            </a:r>
            <a:r>
              <a:rPr b="1" lang="el-GR" sz="2400" spc="-1" strike="noStrike">
                <a:solidFill>
                  <a:srgbClr val="ffffff"/>
                </a:solidFill>
                <a:latin typeface="Calibri"/>
              </a:rPr>
              <a:t>ΞΕΚΙΝΩΝΤΑΣ ΤΗΝ ΠΡΑΣΙΝΗ ΕΠΙΧΕΙΡΗΣΗ – ΔΙΑΧΕΙΡΙΣΗ ΠΟΙΟΤΗΤΑΣ ΒΑΣΕΙ </a:t>
            </a:r>
            <a:r>
              <a:rPr b="1" lang="en-GB" sz="2300" spc="-1" strike="noStrike">
                <a:solidFill>
                  <a:srgbClr val="ffffff"/>
                </a:solidFill>
                <a:latin typeface="Calibri"/>
              </a:rPr>
              <a:t>PDCA</a:t>
            </a:r>
            <a:endParaRPr b="0" lang="en-US" sz="2300" spc="-1" strike="noStrike">
              <a:solidFill>
                <a:srgbClr val="ffffff"/>
              </a:solidFill>
              <a:latin typeface="Times New Roman"/>
            </a:endParaRPr>
          </a:p>
        </p:txBody>
      </p:sp>
      <p:sp>
        <p:nvSpPr>
          <p:cNvPr id="391" name="TextBox 4"/>
          <p:cNvSpPr/>
          <p:nvPr/>
        </p:nvSpPr>
        <p:spPr>
          <a:xfrm>
            <a:off x="539640" y="1052640"/>
            <a:ext cx="79916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2" name="Θέση εικόνας 5" descr=""/>
          <p:cNvPicPr/>
          <p:nvPr/>
        </p:nvPicPr>
        <p:blipFill>
          <a:blip r:embed="rId1"/>
          <a:stretch/>
        </p:blipFill>
        <p:spPr>
          <a:xfrm>
            <a:off x="7812000" y="6308640"/>
            <a:ext cx="1079640" cy="317520"/>
          </a:xfrm>
          <a:prstGeom prst="rect">
            <a:avLst/>
          </a:prstGeom>
          <a:ln w="0">
            <a:noFill/>
          </a:ln>
        </p:spPr>
      </p:pic>
      <p:pic>
        <p:nvPicPr>
          <p:cNvPr id="393"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4" name="Text Box 6"/>
          <p:cNvSpPr/>
          <p:nvPr/>
        </p:nvSpPr>
        <p:spPr>
          <a:xfrm>
            <a:off x="468360" y="954000"/>
            <a:ext cx="7775640" cy="6108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Έλεγος – </a:t>
            </a:r>
            <a:r>
              <a:rPr b="1" lang="en-US" sz="1800" spc="-1" strike="noStrike" u="sng">
                <a:solidFill>
                  <a:srgbClr val="ffffff"/>
                </a:solidFill>
                <a:uFillTx/>
                <a:latin typeface="Calibri"/>
              </a:rPr>
              <a:t>Check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ε αυτό το σημείο αξιολογείται η επίτευξη των στόχων εντός του καθορισμένου χρονοδιαγράμματος. Εάν η αξιολόγηση δείχνει ότι οι στόχοι επιτυγχάνονται, τίθενται επιπλέον στόχοι και τα πρότυπα μεγαλώνουν. Αν όχι, θα χρειαστεί να αναλυθεί η αποτυχία(ες) και να τροποποιηθούν οι στόχοι, λαμβάνοντας υπόψη ερώτησεις όπως: Γιατί δεν εφαρμόστηκαν στην πράξη όλα τα αποτελέσματα της ενεργειακής επιθεώρησης; Τι πρέπει να τεθεί σε εφαρμογή για να εξοικονομήσει εκείνο το 5% της ενέργειας;</a:t>
            </a: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Δράση – </a:t>
            </a:r>
            <a:r>
              <a:rPr b="1" lang="en-GB" sz="1800" spc="-1" strike="noStrike" u="sng">
                <a:solidFill>
                  <a:srgbClr val="ffffff"/>
                </a:solidFill>
                <a:uFillTx/>
                <a:latin typeface="Calibri"/>
              </a:rPr>
              <a:t>Ac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Έχει ως στόχο να βελτιώσει τα ανεπαρκή αποτελέσματα λόγω της αδύναμης αξιολόγησής τους. Πρέπει να εξεταστεί η αλλαγή των στρατηγικών για τη βελτίωση των επιδόσεων της εταιρείας (π.χ. ορισμός μια αίτησης για κυβερνητική επιχορήγηση για την υλοποίηση λαμπτήρων χαμηλής κατανάλωσης ενέργειας, λόγω των συμβουλών του ενεργειακού επιθεωρητή).</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sustainability4success.com/plan-do-check-act.html</a:t>
            </a:r>
            <a:endParaRPr b="0" lang="en-US" sz="1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5"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hteck 2"/>
          <p:cNvSpPr/>
          <p:nvPr/>
        </p:nvSpPr>
        <p:spPr>
          <a:xfrm>
            <a:off x="18720" y="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ΗΛΕΚΤΡΟΝΙΚΕΣ ΑΝΑΦΟΡΕΣ</a:t>
            </a:r>
            <a:endParaRPr b="0" lang="en-US" sz="2400" spc="-1" strike="noStrike">
              <a:solidFill>
                <a:srgbClr val="ffffff"/>
              </a:solidFill>
              <a:latin typeface="Times New Roman"/>
            </a:endParaRPr>
          </a:p>
        </p:txBody>
      </p:sp>
      <p:pic>
        <p:nvPicPr>
          <p:cNvPr id="397"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398" name="Θέση εικόνας 5" descr=""/>
          <p:cNvPicPr/>
          <p:nvPr/>
        </p:nvPicPr>
        <p:blipFill>
          <a:blip r:embed="rId2"/>
          <a:stretch/>
        </p:blipFill>
        <p:spPr>
          <a:xfrm>
            <a:off x="7812000" y="6308640"/>
            <a:ext cx="1079640" cy="317520"/>
          </a:xfrm>
          <a:prstGeom prst="rect">
            <a:avLst/>
          </a:prstGeom>
          <a:ln w="0">
            <a:noFill/>
          </a:ln>
        </p:spPr>
      </p:pic>
      <p:pic>
        <p:nvPicPr>
          <p:cNvPr id="399" name="Picture 5" descr=""/>
          <p:cNvPicPr/>
          <p:nvPr/>
        </p:nvPicPr>
        <p:blipFill>
          <a:blip r:embed="rId3"/>
          <a:stretch/>
        </p:blipFill>
        <p:spPr>
          <a:xfrm>
            <a:off x="4284720" y="6093000"/>
            <a:ext cx="723960" cy="598320"/>
          </a:xfrm>
          <a:prstGeom prst="rect">
            <a:avLst/>
          </a:prstGeom>
          <a:ln w="0">
            <a:noFill/>
          </a:ln>
        </p:spPr>
      </p:pic>
      <p:sp>
        <p:nvSpPr>
          <p:cNvPr id="400" name="Textfeld 1"/>
          <p:cNvSpPr/>
          <p:nvPr/>
        </p:nvSpPr>
        <p:spPr>
          <a:xfrm>
            <a:off x="324000" y="765000"/>
            <a:ext cx="8208720" cy="28321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5. Πράσιν</a:t>
            </a:r>
            <a:r>
              <a:rPr b="1" lang="el-GR" sz="1600" spc="-1" strike="noStrike">
                <a:solidFill>
                  <a:srgbClr val="ffffff"/>
                </a:solidFill>
                <a:latin typeface="Calibri"/>
              </a:rPr>
              <a:t>ο</a:t>
            </a:r>
            <a:r>
              <a:rPr b="1" lang="en-GB" sz="1600" spc="-1" strike="noStrike">
                <a:solidFill>
                  <a:srgbClr val="ffffff"/>
                </a:solidFill>
                <a:latin typeface="Calibri"/>
              </a:rPr>
              <a:t> σχέδιο μάρκετινγκ</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u="sng">
                <a:solidFill>
                  <a:srgbClr val="99ff33"/>
                </a:solidFill>
                <a:uFillTx/>
                <a:latin typeface="Calibri"/>
                <a:hlinkClick r:id="rId4"/>
              </a:rPr>
              <a:t>http://2012books.lardbucket.org/books/sustainable-business-cases/s10- sustainable-business-marketing.html</a:t>
            </a:r>
            <a:r>
              <a:rPr b="1" lang="de-AT" sz="1600" spc="-1" strike="noStrike">
                <a:solidFill>
                  <a:srgbClr val="ffffff"/>
                </a:solidFill>
                <a:latin typeface="Calibri"/>
              </a:rPr>
              <a:t> </a:t>
            </a:r>
            <a:r>
              <a:rPr b="1" lang="en-US" sz="1600" spc="-1" strike="noStrike">
                <a:solidFill>
                  <a:srgbClr val="ffffff"/>
                </a:solidFill>
                <a:latin typeface="Calibri"/>
              </a:rPr>
              <a:t>[</a:t>
            </a:r>
            <a:r>
              <a:rPr b="1" lang="de-AT" sz="1600" spc="-1" strike="noStrike">
                <a:solidFill>
                  <a:srgbClr val="ffffff"/>
                </a:solidFill>
                <a:latin typeface="Calibri"/>
              </a:rPr>
              <a:t>09.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6. </a:t>
            </a:r>
            <a:r>
              <a:rPr b="1" lang="el-GR" sz="1600" spc="-1" strike="noStrike">
                <a:solidFill>
                  <a:srgbClr val="ffffff"/>
                </a:solidFill>
                <a:latin typeface="Calibri"/>
              </a:rPr>
              <a:t>Συμμόρφωση με τους κανόνες και τις διατάξεις για να ξεκινήσει η πράσινη επιχείρησή σας</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sustainability4success.com/plan-do-check-act.html</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7. </a:t>
            </a:r>
            <a:r>
              <a:rPr b="1" lang="el-GR" sz="1600" spc="-1" strike="noStrike">
                <a:solidFill>
                  <a:srgbClr val="ffffff"/>
                </a:solidFill>
                <a:latin typeface="Calibri"/>
              </a:rPr>
              <a:t>Ξεκινώντας την πράσινη επιχείρηση – επιχειρηματικό πλάνο βάσει </a:t>
            </a:r>
            <a:r>
              <a:rPr b="1" lang="en-GB" sz="1600" spc="-1" strike="noStrike">
                <a:solidFill>
                  <a:srgbClr val="ffffff"/>
                </a:solidFill>
                <a:latin typeface="Calibri"/>
              </a:rPr>
              <a:t>PDCA</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sustainability4success.com/plan-do-check-act.html</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Θέση εικόνας 5" descr=""/>
          <p:cNvPicPr/>
          <p:nvPr/>
        </p:nvPicPr>
        <p:blipFill>
          <a:blip r:embed="rId2"/>
          <a:stretch/>
        </p:blipFill>
        <p:spPr>
          <a:xfrm>
            <a:off x="7812000" y="6308640"/>
            <a:ext cx="1079640" cy="317520"/>
          </a:xfrm>
          <a:prstGeom prst="rect">
            <a:avLst/>
          </a:prstGeom>
          <a:ln w="0">
            <a:noFill/>
          </a:ln>
        </p:spPr>
      </p:pic>
      <p:pic>
        <p:nvPicPr>
          <p:cNvPr id="40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3"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pic>
        <p:nvPicPr>
          <p:cNvPr id="404"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ΣΤΟΧΟΙ</a:t>
            </a:r>
            <a:endParaRPr b="0" lang="en-US" sz="2400" spc="-1" strike="noStrike">
              <a:solidFill>
                <a:srgbClr val="ffffff"/>
              </a:solidFill>
              <a:latin typeface="Times New Roman"/>
            </a:endParaRPr>
          </a:p>
        </p:txBody>
      </p:sp>
      <p:sp>
        <p:nvSpPr>
          <p:cNvPr id="332" name="TextBox 4"/>
          <p:cNvSpPr/>
          <p:nvPr/>
        </p:nvSpPr>
        <p:spPr>
          <a:xfrm>
            <a:off x="395280" y="620640"/>
            <a:ext cx="8353440" cy="39344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εισαχθούν τα βασικά του πράσινου μάρκετινγκ</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μπορεί να σχεδιαστεί πρόχειρα ένα επιχειρησιακό πλάνο για μία ιδέα πράσινης επιχείρησης</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γίνουν γνωστοί οι κανόνες και οι διατάξεις της εκκίνησης μία πράσινης επιχείρησης</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μπορούν να χρησιμοποιηθούν εργαλεία διαχείρισης ποιότητας για πράσινες επιχειρήσεις</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ΠΙΝΑΚΑΣ ΠΕΡΙΕΧΟΜΕΝΩΝ</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Πράσιν</a:t>
            </a:r>
            <a:r>
              <a:rPr b="1" lang="el-GR" sz="1800" spc="-1" strike="noStrike">
                <a:solidFill>
                  <a:srgbClr val="ffffff"/>
                </a:solidFill>
                <a:latin typeface="Calibri"/>
              </a:rPr>
              <a:t>ο</a:t>
            </a:r>
            <a:r>
              <a:rPr b="1" lang="en-GB" sz="1800" spc="-1" strike="noStrike">
                <a:solidFill>
                  <a:srgbClr val="ffffff"/>
                </a:solidFill>
                <a:latin typeface="Calibri"/>
              </a:rPr>
              <a:t> σχέδιο μάρκετινγκ</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υμμόρφωση με τους κανόνες και τις διατάξεις για να ξεκινήσει η πράσινη επιχείρησή σας</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Ξεκινώντας την πράσινη επιχείρηση – επιχειρηματικό πλάνο βάσει </a:t>
            </a:r>
            <a:r>
              <a:rPr b="1" lang="en-GB" sz="1800" spc="-1" strike="noStrike">
                <a:solidFill>
                  <a:srgbClr val="ffffff"/>
                </a:solidFill>
                <a:latin typeface="Calibri"/>
              </a:rPr>
              <a:t>PDCA</a:t>
            </a: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ναφορές</a:t>
            </a: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a:t>
            </a:r>
            <a:r>
              <a:rPr b="1" lang="el-GR" sz="2400" spc="-1" strike="noStrike">
                <a:solidFill>
                  <a:srgbClr val="ffffff"/>
                </a:solidFill>
                <a:latin typeface="Calibri"/>
              </a:rPr>
              <a:t>ΠΡΑΣΙΝΟ ΣΧΕΔΙΟ ΜΑΡΚΕΤΙΝΓΚ</a:t>
            </a:r>
            <a:endParaRPr b="0" lang="en-US" sz="2400" spc="-1" strike="noStrike">
              <a:solidFill>
                <a:srgbClr val="ffffff"/>
              </a:solidFill>
              <a:latin typeface="Times New Roman"/>
            </a:endParaRPr>
          </a:p>
        </p:txBody>
      </p:sp>
      <p:sp>
        <p:nvSpPr>
          <p:cNvPr id="342" name="TextBox 4"/>
          <p:cNvSpPr/>
          <p:nvPr/>
        </p:nvSpPr>
        <p:spPr>
          <a:xfrm>
            <a:off x="179280" y="836640"/>
            <a:ext cx="7704360" cy="56545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l-GR" sz="1800" spc="-1" strike="noStrike" u="sng">
                <a:solidFill>
                  <a:srgbClr val="ffffff"/>
                </a:solidFill>
                <a:uFillTx/>
                <a:latin typeface="Calibri"/>
              </a:rPr>
              <a:t>Σχέδιο μάρκετινγκ</a:t>
            </a: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Σύμφωνα με τη δημοσίευση «βιώσιμες περιπτώσεις επιχειρήσεων» (</a:t>
            </a:r>
            <a:r>
              <a:rPr b="1" lang="en-GB" sz="1800" spc="-1" strike="noStrike">
                <a:solidFill>
                  <a:srgbClr val="ffffff"/>
                </a:solidFill>
                <a:latin typeface="Calibri"/>
              </a:rPr>
              <a:t>sustainable business cases</a:t>
            </a:r>
            <a:r>
              <a:rPr b="1" lang="el-GR" sz="1800" spc="-1" strike="noStrike">
                <a:solidFill>
                  <a:srgbClr val="ffffff"/>
                </a:solidFill>
                <a:latin typeface="Calibri"/>
              </a:rPr>
              <a:t> - </a:t>
            </a:r>
            <a:r>
              <a:rPr b="1" lang="en-GB" sz="1800" spc="-1" strike="noStrike">
                <a:solidFill>
                  <a:srgbClr val="ffffff"/>
                </a:solidFill>
                <a:latin typeface="Calibri"/>
              </a:rPr>
              <a:t>2012)</a:t>
            </a:r>
            <a:r>
              <a:rPr b="1" lang="el-GR" sz="1800" spc="-1" strike="noStrike">
                <a:solidFill>
                  <a:srgbClr val="ffffff"/>
                </a:solidFill>
                <a:latin typeface="Calibri"/>
              </a:rPr>
              <a:t>,</a:t>
            </a:r>
            <a:r>
              <a:rPr b="1" lang="en-GB" sz="1800" spc="-1" strike="noStrike">
                <a:solidFill>
                  <a:srgbClr val="ffffff"/>
                </a:solidFill>
                <a:latin typeface="Calibri"/>
              </a:rPr>
              <a:t> </a:t>
            </a:r>
            <a:r>
              <a:rPr b="1" lang="el-GR" sz="1800" spc="-1" strike="noStrike">
                <a:solidFill>
                  <a:srgbClr val="ffffff"/>
                </a:solidFill>
                <a:latin typeface="Calibri"/>
              </a:rPr>
              <a:t>«ένα σχέδιο μάρκετινγκ προέρχεται από το όραμα της εταιρείας και ενσωματώνει τους συνολικούς στόχους και τους στόχους του μάρκετινγκ του οργανισμού (τι στόχους θέλουν να επιτύχουν) και τις στρατηγικές του (πώς πρόκειται να πετύχουν τους στόχους) σε ένα συνεκτικό σχέδιο, συνήθως σε ετήσια βάση. Το πράσινο σχέδιο μάρκετινγκ επικεντρώνεται στο ιδανικό μίγμα μάρκετινγκ επίτευξης της μέγιστης δυνατότητας κέρδους τηρώντας παράλληλα τις αρχές της αειφορίας.»</a:t>
            </a:r>
            <a:endParaRPr b="0" lang="en-US" sz="18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Για την επιτυχή χρήση των στρατηγικών μάρκετινγκ, τα 4 Ps του συμβατικού μάρκετινγκ μπορούν να ακολουθηθούν και να εφαρμοστούν εύκολα, σε διάφορους τομείς της εταιρείας, με σκοπό να δείξει τη δέσμευση και την αειφορία.</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284040" indent="-2840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en-GB" sz="1200" spc="-1" strike="noStrike">
                <a:solidFill>
                  <a:srgbClr val="ffffff"/>
                </a:solidFill>
                <a:latin typeface="Calibri"/>
              </a:rPr>
              <a:t>ibid.</a:t>
            </a:r>
            <a:endParaRPr b="0" lang="en-US" sz="1200" spc="-1" strike="noStrike">
              <a:solidFill>
                <a:srgbClr val="ffffff"/>
              </a:solidFill>
              <a:latin typeface="Times New Roman"/>
            </a:endParaRPr>
          </a:p>
          <a:p>
            <a:pPr marL="284040" indent="-284040">
              <a:lnSpc>
                <a:spcPct val="11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4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0" y="1584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a:t>
            </a:r>
            <a:r>
              <a:rPr b="1" lang="el-GR" sz="2400" spc="-1" strike="noStrike">
                <a:solidFill>
                  <a:srgbClr val="ffffff"/>
                </a:solidFill>
                <a:latin typeface="Calibri"/>
              </a:rPr>
              <a:t>ΠΡΑΣΙΝΟ ΣΧΕΔΙΟ ΜΑΡΚΕΤΙΝΓΚ</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Box 4"/>
          <p:cNvSpPr/>
          <p:nvPr/>
        </p:nvSpPr>
        <p:spPr>
          <a:xfrm>
            <a:off x="6624720" y="3429000"/>
            <a:ext cx="2232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ea typeface="Calibri"/>
              </a:rPr>
              <a:t>Σχήμα 2</a:t>
            </a:r>
            <a:r>
              <a:rPr b="0" lang="en-GB" sz="1200" spc="-1" strike="noStrike">
                <a:solidFill>
                  <a:srgbClr val="ffffff"/>
                </a:solidFill>
                <a:latin typeface="Calibri"/>
                <a:ea typeface="Calibri"/>
              </a:rPr>
              <a:t>: </a:t>
            </a:r>
            <a:r>
              <a:rPr b="0" lang="el-GR" sz="1200" spc="-1" strike="noStrike">
                <a:solidFill>
                  <a:srgbClr val="ffffff"/>
                </a:solidFill>
                <a:latin typeface="Calibri"/>
                <a:ea typeface="Calibri"/>
              </a:rPr>
              <a:t>Τα </a:t>
            </a:r>
            <a:r>
              <a:rPr b="0" lang="en-GB" sz="1200" spc="-1" strike="noStrike">
                <a:solidFill>
                  <a:srgbClr val="ffffff"/>
                </a:solidFill>
                <a:latin typeface="Calibri"/>
                <a:ea typeface="Calibri"/>
              </a:rPr>
              <a:t>4 Ps </a:t>
            </a:r>
            <a:r>
              <a:rPr b="0" lang="el-GR" sz="1200" spc="-1" strike="noStrike">
                <a:solidFill>
                  <a:srgbClr val="ffffff"/>
                </a:solidFill>
                <a:latin typeface="Calibri"/>
                <a:ea typeface="Calibri"/>
              </a:rPr>
              <a:t>του μάρκετινγκ</a:t>
            </a:r>
            <a:endParaRPr b="0" lang="en-US" sz="12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p:txBody>
      </p:sp>
      <p:pic>
        <p:nvPicPr>
          <p:cNvPr id="348" name="Θέση εικόνας 5" descr=""/>
          <p:cNvPicPr/>
          <p:nvPr/>
        </p:nvPicPr>
        <p:blipFill>
          <a:blip r:embed="rId1"/>
          <a:stretch/>
        </p:blipFill>
        <p:spPr>
          <a:xfrm>
            <a:off x="7812000" y="6308640"/>
            <a:ext cx="1079640" cy="317520"/>
          </a:xfrm>
          <a:prstGeom prst="rect">
            <a:avLst/>
          </a:prstGeom>
          <a:ln w="0">
            <a:noFill/>
          </a:ln>
        </p:spPr>
      </p:pic>
      <p:pic>
        <p:nvPicPr>
          <p:cNvPr id="34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0" name="Diagram 1" descr=""/>
          <p:cNvPicPr/>
          <p:nvPr/>
        </p:nvPicPr>
        <p:blipFill>
          <a:blip r:embed="rId3"/>
          <a:stretch/>
        </p:blipFill>
        <p:spPr>
          <a:xfrm>
            <a:off x="712800" y="1994040"/>
            <a:ext cx="7596000" cy="3840120"/>
          </a:xfrm>
          <a:prstGeom prst="rect">
            <a:avLst/>
          </a:prstGeom>
          <a:ln w="0">
            <a:noFill/>
          </a:ln>
        </p:spPr>
      </p:pic>
      <p:sp>
        <p:nvSpPr>
          <p:cNvPr id="351" name="Rectangle 2"/>
          <p:cNvSpPr/>
          <p:nvPr/>
        </p:nvSpPr>
        <p:spPr>
          <a:xfrm>
            <a:off x="352440" y="620640"/>
            <a:ext cx="8567640" cy="135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α</a:t>
            </a:r>
            <a:r>
              <a:rPr b="1" lang="en-GB" sz="1800" spc="-1" strike="noStrike" u="sng">
                <a:solidFill>
                  <a:srgbClr val="ffffff"/>
                </a:solidFill>
                <a:uFillTx/>
                <a:latin typeface="Calibri"/>
              </a:rPr>
              <a:t> 4 Ps </a:t>
            </a:r>
            <a:r>
              <a:rPr b="1" lang="el-GR" sz="1800" spc="-1" strike="noStrike" u="sng">
                <a:solidFill>
                  <a:srgbClr val="ffffff"/>
                </a:solidFill>
                <a:uFillTx/>
                <a:latin typeface="Calibri"/>
              </a:rPr>
              <a:t>του μάρκετινγκ</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α 4 </a:t>
            </a:r>
            <a:r>
              <a:rPr b="1" lang="en-GB" sz="1800" spc="-1" strike="noStrike">
                <a:solidFill>
                  <a:srgbClr val="ffffff"/>
                </a:solidFill>
                <a:latin typeface="Calibri"/>
              </a:rPr>
              <a:t>Ps </a:t>
            </a:r>
            <a:r>
              <a:rPr b="1" lang="el-GR" sz="1800" spc="-1" strike="noStrike">
                <a:solidFill>
                  <a:srgbClr val="ffffff"/>
                </a:solidFill>
                <a:latin typeface="Calibri"/>
              </a:rPr>
              <a:t>του μάρκετινγκ </a:t>
            </a:r>
            <a:r>
              <a:rPr b="1" lang="en-GB" sz="1800" spc="-1" strike="noStrike">
                <a:solidFill>
                  <a:srgbClr val="ffffff"/>
                </a:solidFill>
                <a:latin typeface="Calibri"/>
              </a:rPr>
              <a:t>(Product, Price, Place and Promotion) </a:t>
            </a:r>
            <a:r>
              <a:rPr b="1" lang="el-GR" sz="1800" spc="-1" strike="noStrike">
                <a:solidFill>
                  <a:srgbClr val="ffffff"/>
                </a:solidFill>
                <a:latin typeface="Calibri"/>
              </a:rPr>
              <a:t>είναι επίσης γνωστά ας το </a:t>
            </a:r>
            <a:r>
              <a:rPr b="1" lang="en-GB" sz="1800" spc="-1" strike="noStrike">
                <a:solidFill>
                  <a:srgbClr val="ffffff"/>
                </a:solidFill>
                <a:latin typeface="Calibri"/>
              </a:rPr>
              <a:t>‘</a:t>
            </a:r>
            <a:r>
              <a:rPr b="1" lang="el-GR" sz="1800" spc="-1" strike="noStrike">
                <a:solidFill>
                  <a:srgbClr val="ffffff"/>
                </a:solidFill>
                <a:latin typeface="Calibri"/>
              </a:rPr>
              <a:t>Μίγμα μάρκετινγκ</a:t>
            </a:r>
            <a:r>
              <a:rPr b="1" lang="en-GB" sz="1800" spc="-1" strike="noStrike">
                <a:solidFill>
                  <a:srgbClr val="ffffff"/>
                </a:solidFill>
                <a:latin typeface="Calibri"/>
              </a:rPr>
              <a:t>’. </a:t>
            </a:r>
            <a:r>
              <a:rPr b="1" lang="el-GR" sz="1800" spc="-1" strike="noStrike">
                <a:solidFill>
                  <a:srgbClr val="ffffff"/>
                </a:solidFill>
                <a:latin typeface="Calibri"/>
              </a:rPr>
              <a:t>Το μίγμα μάρκετινγκ είναι ένα σημαντικό εργαλείο στον προσδιορισμό του τι παρέχει ένα προϊόν στον πελάτη.</a:t>
            </a:r>
            <a:endParaRPr b="0" lang="en-US" sz="1800" spc="-1" strike="noStrike">
              <a:solidFill>
                <a:srgbClr val="ffffff"/>
              </a:solidFill>
              <a:latin typeface="Times New Roman"/>
            </a:endParaRPr>
          </a:p>
        </p:txBody>
      </p:sp>
      <p:pic>
        <p:nvPicPr>
          <p:cNvPr id="352" name="Picture 7"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a:t>
            </a:r>
            <a:r>
              <a:rPr b="1" lang="el-GR" sz="2400" spc="-1" strike="noStrike">
                <a:solidFill>
                  <a:srgbClr val="ffffff"/>
                </a:solidFill>
                <a:latin typeface="Calibri"/>
              </a:rPr>
              <a:t>ΠΡΑΣΙΝΟ ΣΧΕΔΙΟ ΜΑΡΚΕΤΙΝΓΚ</a:t>
            </a:r>
            <a:endParaRPr b="0" lang="en-US" sz="2400" spc="-1" strike="noStrike">
              <a:solidFill>
                <a:srgbClr val="ffffff"/>
              </a:solidFill>
              <a:latin typeface="Times New Roman"/>
            </a:endParaRPr>
          </a:p>
        </p:txBody>
      </p:sp>
      <p:pic>
        <p:nvPicPr>
          <p:cNvPr id="354" name="Θέση εικόνας 5" descr=""/>
          <p:cNvPicPr/>
          <p:nvPr/>
        </p:nvPicPr>
        <p:blipFill>
          <a:blip r:embed="rId1"/>
          <a:stretch/>
        </p:blipFill>
        <p:spPr>
          <a:xfrm>
            <a:off x="7812000" y="6308640"/>
            <a:ext cx="1079640" cy="317520"/>
          </a:xfrm>
          <a:prstGeom prst="rect">
            <a:avLst/>
          </a:prstGeom>
          <a:ln w="0">
            <a:noFill/>
          </a:ln>
        </p:spPr>
      </p:pic>
      <p:pic>
        <p:nvPicPr>
          <p:cNvPr id="355"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6" name="TextBox 4"/>
          <p:cNvSpPr/>
          <p:nvPr/>
        </p:nvSpPr>
        <p:spPr>
          <a:xfrm>
            <a:off x="468360" y="765000"/>
            <a:ext cx="7704000" cy="61290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Προϊόν</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ο προϊόν μπορεί είτε να είναι απτό έχοντας ανεξάρτητη φυσική υπόσταση (από βελόνα μέχρι μέρη μηχανής), είτε άϋλη υπηρεσία (όπως στον τουρισμό)</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Μία από τις κρίσιμες αποφάσεις των διευθυντών μάρκετινγκ είναι η δρομολόγηση του σωστού προϊόντος με κατάλληλο αριθμό παραλλαγών.</a:t>
            </a:r>
            <a:br>
              <a:rPr sz="1800"/>
            </a:b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ιμή</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τιμή ενός προϊόντος καθορίζει την προσφορά που οι πελάτες είναι πρόθυμοι να δώσουν για να αγοράσουν το προϊόν αυτό. Η τιμή δεν μπορεί ούτε να είναι τόσο χαμηλή που ο πωλητής να μην έχει κέρδος, ούτε όμως τόσο υψηλή, ώστε οι καταναλωτές να μην μπορούν να αγοράσουν το προϊόν. Η τιμή ενός προϊόντος ή μιας υπηρεσίας εξαρτάται από τη ζήτηση, η οποία καθορίζεται από την ελαστικότητα της ζήτησης. Ένα προϊόν θεωρείται ελαστικό, αν η αύξηση των τιμών του μειώνει τη ζήτηση σημαντικά (π.χ. ο καφές, οι άνθρωποι θα στραφούν σε τσάι), ενώ το προϊόν/υπηρεσία είναι ανελαστικό, αν η ζήτηση του δεν επηρεάζεται ακόμα και μετά την αύξηση της τιμής (π.χ. βενζίνη).</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            </a:t>
            </a: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35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a:t>
            </a:r>
            <a:r>
              <a:rPr b="1" lang="el-GR" sz="2400" spc="-1" strike="noStrike">
                <a:solidFill>
                  <a:srgbClr val="ffffff"/>
                </a:solidFill>
                <a:latin typeface="Calibri"/>
              </a:rPr>
              <a:t>ΠΡΑΣΙΝΟ ΣΧΕΔΙΟ ΜΑΡΚΕΤΙΝΓΚ</a:t>
            </a:r>
            <a:endParaRPr b="0" lang="en-US" sz="2400" spc="-1" strike="noStrike">
              <a:solidFill>
                <a:srgbClr val="ffffff"/>
              </a:solidFill>
              <a:latin typeface="Times New Roman"/>
            </a:endParaRPr>
          </a:p>
        </p:txBody>
      </p:sp>
      <p:pic>
        <p:nvPicPr>
          <p:cNvPr id="359" name="Θέση εικόνας 5" descr=""/>
          <p:cNvPicPr/>
          <p:nvPr/>
        </p:nvPicPr>
        <p:blipFill>
          <a:blip r:embed="rId1"/>
          <a:stretch/>
        </p:blipFill>
        <p:spPr>
          <a:xfrm>
            <a:off x="7812000" y="6308640"/>
            <a:ext cx="1079640" cy="317520"/>
          </a:xfrm>
          <a:prstGeom prst="rect">
            <a:avLst/>
          </a:prstGeom>
          <a:ln w="0">
            <a:noFill/>
          </a:ln>
        </p:spPr>
      </p:pic>
      <p:pic>
        <p:nvPicPr>
          <p:cNvPr id="36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61" name="TextBox 4"/>
          <p:cNvSpPr/>
          <p:nvPr/>
        </p:nvSpPr>
        <p:spPr>
          <a:xfrm>
            <a:off x="468360" y="915840"/>
            <a:ext cx="7704000" cy="3883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όπος</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αγορά στην οποία πωλείται το προϊόν που είναι γνωστή ως ο τόπος. Οι αγορές θα πρέπει να είναι βολικές, ώστε να έχουν πρόσβαση οι καταναλωτές. Το δίκτυο διανομής ενός προϊόντος καθορίζει τη διαθεσιμότητά του στα καταστήματα.</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Προώθηση</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μέθοδος επικοινωνίας με την οποία ο έμπορος παρέχει πληροφορίες σχετικά με το προϊόν, είναι γνωστή ως προώθηση. Περιλαμβάνει διαφημίσεις, προσωπικές πωλήσεις, διαφήμιση από στόμα σε στόμα κ.λπ.</a:t>
            </a:r>
            <a:endParaRPr b="0" lang="en-US" sz="1800" spc="-1" strike="noStrike">
              <a:solidFill>
                <a:srgbClr val="ffffff"/>
              </a:solidFill>
              <a:latin typeface="Times New Roman"/>
            </a:endParaRPr>
          </a:p>
          <a:p>
            <a:pPr marL="284040" indent="-2840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62"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a:t>
            </a:r>
            <a:r>
              <a:rPr b="1" lang="el-GR" sz="2400" spc="-1" strike="noStrike">
                <a:solidFill>
                  <a:srgbClr val="ffffff"/>
                </a:solidFill>
                <a:latin typeface="Calibri"/>
              </a:rPr>
              <a:t>ΠΡΑΣΙΝΟ ΣΧΕΔΙΟ ΜΑΡΚΕΤΙΝΓΚ</a:t>
            </a:r>
            <a:endParaRPr b="0" lang="en-US" sz="2400" spc="-1" strike="noStrike">
              <a:solidFill>
                <a:srgbClr val="ffffff"/>
              </a:solidFill>
              <a:latin typeface="Times New Roman"/>
            </a:endParaRPr>
          </a:p>
        </p:txBody>
      </p:sp>
      <p:sp>
        <p:nvSpPr>
          <p:cNvPr id="364" name="TextBox 4"/>
          <p:cNvSpPr/>
          <p:nvPr/>
        </p:nvSpPr>
        <p:spPr>
          <a:xfrm>
            <a:off x="249120" y="641520"/>
            <a:ext cx="7991640" cy="6501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Για την επίτευξη αυτών των στόχων, ένα καλό επιχειρηματικό πλάνο θα πρέπει να περιλαμβάνει τις ακόλουθες πτυχές</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l-GR" sz="1800" spc="-1" strike="noStrike">
                <a:solidFill>
                  <a:srgbClr val="ffffff"/>
                </a:solidFill>
                <a:latin typeface="Calibri"/>
              </a:rPr>
              <a:t>Εταιρικοί στόχοι</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ντιπροσωπεύουν τους γενικούς στόχους της εταιρείας και εναρμονίζονται με τη μακροπρόθεσμη στρατηγική και το όραμά της</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l-GR" sz="1800" spc="-1" strike="noStrike">
                <a:solidFill>
                  <a:srgbClr val="ffffff"/>
                </a:solidFill>
                <a:latin typeface="Calibri"/>
              </a:rPr>
              <a:t>Στόχοι</a:t>
            </a:r>
            <a:r>
              <a:rPr b="1" lang="en-GB" sz="1800" spc="-1" strike="noStrike">
                <a:solidFill>
                  <a:srgbClr val="ffffff"/>
                </a:solidFill>
                <a:latin typeface="Calibri"/>
              </a:rPr>
              <a:t> </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ι στόχοι της αγοράς μπορούν να τεθούν μέσω των εταιρικών στόχων και να οριστούν κατάλληλα, π.χ. να αυξηθεί το μερίδιο αγοράς κατά 5%</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l-GR" sz="1800" spc="-1" strike="noStrike">
                <a:solidFill>
                  <a:srgbClr val="ffffff"/>
                </a:solidFill>
                <a:latin typeface="Calibri"/>
              </a:rPr>
              <a:t>Στρατηγικές</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φού προσδιοριστούν οι στόχοι, πρέπει να αναπτυχθούν οι στρατηγικές για την επίτευξή τους (π.χ. μετατροπή όλων των συστατικών του προϊόντος σε εκείνα που μπορούν να βρεθούν τοπικά για να βοηθηθεί η επίτευξη του στόχου της ελαχιστοποίησης του αποτυπώματος άνθρακα της εταιρείας).</a:t>
            </a:r>
            <a:endParaRPr b="0" lang="en-US" sz="18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65" name="Θέση εικόνας 5" descr=""/>
          <p:cNvPicPr/>
          <p:nvPr/>
        </p:nvPicPr>
        <p:blipFill>
          <a:blip r:embed="rId1"/>
          <a:stretch/>
        </p:blipFill>
        <p:spPr>
          <a:xfrm>
            <a:off x="7812000" y="6308640"/>
            <a:ext cx="1079640" cy="317520"/>
          </a:xfrm>
          <a:prstGeom prst="rect">
            <a:avLst/>
          </a:prstGeom>
          <a:ln w="0">
            <a:noFill/>
          </a:ln>
        </p:spPr>
      </p:pic>
      <p:pic>
        <p:nvPicPr>
          <p:cNvPr id="36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a:t>
            </a:r>
            <a:r>
              <a:rPr b="1" lang="el-GR" sz="2400" spc="-1" strike="noStrike">
                <a:solidFill>
                  <a:srgbClr val="ffffff"/>
                </a:solidFill>
                <a:latin typeface="Calibri"/>
              </a:rPr>
              <a:t>ΠΡΑΣΙΝΟ ΣΧΕΔΙΟ ΜΑΡΚΕΤΙΝΓΚ</a:t>
            </a:r>
            <a:endParaRPr b="0" lang="en-US" sz="2400" spc="-1" strike="noStrike">
              <a:solidFill>
                <a:srgbClr val="ffffff"/>
              </a:solidFill>
              <a:latin typeface="Times New Roman"/>
            </a:endParaRPr>
          </a:p>
        </p:txBody>
      </p:sp>
      <p:sp>
        <p:nvSpPr>
          <p:cNvPr id="369" name="TextBox 4"/>
          <p:cNvSpPr/>
          <p:nvPr/>
        </p:nvSpPr>
        <p:spPr>
          <a:xfrm>
            <a:off x="219240" y="525600"/>
            <a:ext cx="7991280" cy="5449680"/>
          </a:xfrm>
          <a:prstGeom prst="rect">
            <a:avLst/>
          </a:prstGeom>
          <a:noFill/>
          <a:ln w="0">
            <a:noFill/>
          </a:ln>
        </p:spPr>
        <p:style>
          <a:lnRef idx="0"/>
          <a:fillRef idx="0"/>
          <a:effectRef idx="0"/>
          <a:fontRef idx="minor"/>
        </p:style>
        <p:txBody>
          <a:bodyPr lIns="90000" rIns="90000" tIns="46800" bIns="46800" anchor="t">
            <a:spAutoFit/>
          </a:bodyPr>
          <a:p>
            <a:pPr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l-GR" sz="1800" spc="-1" strike="noStrike">
                <a:solidFill>
                  <a:srgbClr val="ffffff"/>
                </a:solidFill>
                <a:latin typeface="Calibri"/>
              </a:rPr>
              <a:t>Τακτικές</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ι τακτικές είναι οι εγκαθιδρυμένοι τρόποι επίτευξης των στρατηγικών, συμπεριλαμβανομένων των 4 Ps (π.χ. προσδιορισμός τοπικών προμηθευτών).</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l-GR" sz="1800" spc="-1" strike="noStrike">
                <a:solidFill>
                  <a:srgbClr val="ffffff"/>
                </a:solidFill>
                <a:latin typeface="Calibri"/>
              </a:rPr>
              <a:t>Αγορά</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ροϋποθέτει τον προσδιορισμό της στοχευμένης αγοράς και την ανάλυση της τρέχουσας φάσης του κύκλου ζωής των προϊόντων: ανάπτυξη, εισαγωγή, ωριμότητα, κ.λπ.. Για τα πράσινα προϊόντα ιδίως, μπορεί να υπάρξει κάποια ευκαιρία για να προστεθεί μια νέα διάσταση σε μια ώριμη κατηγορία με το όφελος ενός νέου προϊόντος.</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l-GR" sz="1800" spc="-1" strike="noStrike">
                <a:solidFill>
                  <a:srgbClr val="ffffff"/>
                </a:solidFill>
                <a:latin typeface="Calibri"/>
              </a:rPr>
              <a:t>Κοινό-στόχος καταναλωτών</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αυτοποίηση της ομάδας-στόχου και καθορισμός των τμημάτων. Ο στόχος είναι να προσδιοριστεί ο βέλτιστος στόχος για την επίτευξη των στόχων του μάρκετινγκ</a:t>
            </a:r>
            <a:endParaRPr b="0" lang="en-US" sz="18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70" name="Θέση εικόνας 5" descr=""/>
          <p:cNvPicPr/>
          <p:nvPr/>
        </p:nvPicPr>
        <p:blipFill>
          <a:blip r:embed="rId1"/>
          <a:stretch/>
        </p:blipFill>
        <p:spPr>
          <a:xfrm>
            <a:off x="7812000" y="6308640"/>
            <a:ext cx="1079640" cy="317520"/>
          </a:xfrm>
          <a:prstGeom prst="rect">
            <a:avLst/>
          </a:prstGeom>
          <a:ln w="0">
            <a:noFill/>
          </a:ln>
        </p:spPr>
      </p:pic>
      <p:pic>
        <p:nvPicPr>
          <p:cNvPr id="371"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2"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panagiotakopoulos</cp:lastModifiedBy>
  <dcterms:modified xsi:type="dcterms:W3CDTF">2016-07-28T06:32:17Z</dcterms:modified>
  <cp:revision>190</cp:revision>
  <dc:subject/>
  <dc:title>@MINDSET: Managing Social Relations in Schools</dc:title>
</cp:coreProperties>
</file>